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B006-EFC0-4E59-86B6-B3579B54D8F1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0044-3D07-4443-9732-7C43AC4DB0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2728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080" y="4260960"/>
            <a:ext cx="6610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ZIDZK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 Zakonu o kaznenom postupku („Narodne novine“, broj 152/08) u članku 6. dodaje se novi stavak 1. koji glas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(1) U postupku uređenom ovim Zakonom, zabranjena je diskriminacija sukladno pripadnosti rasi, etničkoj pripadnosti, boji kože, spolu, jeziku, vjeri, političkom ili drugom uvjerenju, nacionalnom ili socijalnom podrijetlu, imovnom stanju, članstvu u sindikatu, obrazovanju, društvenom položaju, bračnom ili obiteljskom statusu, dobi, zdravstvenom stanju, invaliditetu, genetskom naslijeđu, rodnom identitetu, izražavanju ili spolnoj orijentaciji.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 stavku 1., koji postaje stavak 2., briše se zarez i riječ: „obmana“ 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Iza stavka 1. koji postaje 2. dodaje se stavak 3. koji glas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(3) Iskaz pribavljen protivno stavcima 1. i 2. ovoga članka, ne može se upotrijebiti kao dokaz u postupku.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 članku 300. stavku 1. iza riječi: „se“ dodaje se zarez te riječi: „osim u slučajevima posebno propisanim ovim Zakonom,“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 točki 4. iza riječi: „je“ dodaju se riječi: „kao svjedok“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 točki 6. riječi „članka 44. stavka 2. točke 3.“ zamjenjuju se riječima: „članka 45. stavka 1. točke 3.“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Točka 7. mijenja se i glasi: „7) u slučaju iz članka 6. stavka 3. ovog Zakona“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 stavku 2. u prvoj rečenici riječi: „do 6.“ zamjenjuju se riječima: „ i 5.“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Stavak 3. briše 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6F7E-D5BC-40D3-A161-3B59DA6445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2728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080" y="4260960"/>
            <a:ext cx="6610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ZIDZK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 Zakonu o kaznenom postupku („Narodne novine“, broj 152/08) u članku 6. dodaje se novi stavak 1. koji glas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(1) U postupku uređenom ovim Zakonom, zabranjena je diskriminacija sukladno pripadnosti rasi, etničkoj pripadnosti, boji kože, spolu, jeziku, vjeri, političkom ili drugom uvjerenju, nacionalnom ili socijalnom podrijetlu, imovnom stanju, članstvu u sindikatu, obrazovanju, društvenom položaju, bračnom ili obiteljskom statusu, dobi, zdravstvenom stanju, invaliditetu, genetskom naslijeđu, rodnom identitetu, izražavanju ili spolnoj orijentaciji.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 stavku 1., koji postaje stavak 2., briše se zarez i riječ: „obmana“ 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Iza stavka 1. koji postaje 2. dodaje se stavak 3. koji glas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(3) Iskaz pribavljen protivno stavcima 1. i 2. ovoga članka, ne može se upotrijebiti kao dokaz u postupku.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 članku 300. stavku 1. iza riječi: „se“ dodaje se zarez te riječi: „osim u slučajevima posebno propisanim ovim Zakonom,“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 točki 4. iza riječi: „je“ dodaju se riječi: „kao svjedok“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 točki 6. riječi „članka 44. stavka 2. točke 3.“ zamjenjuju se riječima: „članka 45. stavka 1. točke 3.“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Točka 7. mijenja se i glasi: „7) u slučaju iz članka 6. stavka 3. ovog Zakona“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U stavku 2. u prvoj rečenici riječi: „do 6.“ zamjenjuju se riječima: „ i 5.“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Stavak 3. briše 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6FCE-559F-408D-B1D1-1D34B7F795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1182-E029-490E-A8D9-B042F7ED75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Arial"/>
              </a:rPr>
              <a:t>Čl. 418. st. 2. ZKP:  d.o. podignut će zzz protiv sudske odluke donesene u postupku na način koji predstavlja kršenje temeljnih ljudskih prava i sloboda zajamčenih Ustavom, zakonom ili međunarodnim pravo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501-FCBB-439E-915D-C6E29C2A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CFD-91AF-40D3-A1F7-AF3A9F59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1C8-D306-44A1-AD24-BF9C994D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36D-5D56-47C8-9B91-0B1DE468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0DC4-F3B4-4AC2-BCC1-90DCD938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1BDF-92AC-4DC8-90BD-9F7B2B47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77EC-01E7-4882-9AB1-E4CBA914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5692-667A-4964-B2C9-D1267CA8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2E74-BB93-42B8-BAB7-E5702297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99F0-B18B-4D0F-A150-4791AFDB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4EDA-BD9C-4BF6-9AD3-AF342C84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CD2-A4E5-4431-BA68-77F58F99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DF23-0B25-4771-ABAE-95E4585F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6DEA-C8DD-4DA9-B022-A358114E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3D4E-14E1-43AB-A374-A1D9B83E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42A6-EB48-4C9A-B0DF-FD0F0480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5378-A294-41B1-A5F6-901136F3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333-159A-47C1-AD7E-EA7018BD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1B0-382E-4C7A-89F3-3A0AA424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A5C-5FC8-4AFC-8457-CF6E2CCE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19C-CC5C-42C3-89ED-82751339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4B8-5EEA-401B-982B-D8B604EE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44C-4F0D-423D-B333-E0392705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ABC-2C77-450F-A84F-C9E61A8C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8747-33C4-4661-B5DE-F68A7F9A7767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118C-B193-4C20-A5FB-13C43F9C2692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1B8A-0D5E-4D65-8BDA-89DC911A005F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11C5-1905-4ACB-8B15-659CA0E15F7B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8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7330-0FEA-47D3-8938-BF834A76C310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611280" y="907920"/>
            <a:ext cx="806436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ff00"/>
                </a:solidFill>
                <a:latin typeface="Arial"/>
              </a:rPr>
              <a:t>NEZAKONITI DOKAZI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u kaznenom postupku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Rezervirano mjesto datuma 1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1642-8AC9-4634-A764-635A340C3E42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00"/>
                </a:solidFill>
                <a:latin typeface="Arial"/>
              </a:rPr>
              <a:t>Nezakoniti dokazi izričito propisani u ZKP-u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444600">
              <a:lnSpc>
                <a:spcPct val="115000"/>
              </a:lnSpc>
              <a:spcBef>
                <a:spcPts val="1287"/>
              </a:spcBef>
              <a:buClr>
                <a:srgbClr val="f8a500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Dokazi pribavljeni protivno zabrani propisano čl. 6. st. 1. i 2.  ZKP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27120" indent="-444600">
              <a:lnSpc>
                <a:spcPct val="115000"/>
              </a:lnSpc>
              <a:spcBef>
                <a:spcPts val="1287"/>
              </a:spcBef>
              <a:buClr>
                <a:srgbClr val="f8a500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Zapisnik o ispitivanju osumnjičenika pred policijom ako nije poučen o njegovim pravima ili postoje povrede u svezi s braniteljem ili procesom bilježenja iskaza (čl. 208 a. st. 8. ZKP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27120" indent="-444600">
              <a:lnSpc>
                <a:spcPct val="115000"/>
              </a:lnSpc>
              <a:spcBef>
                <a:spcPts val="1287"/>
              </a:spcBef>
              <a:buClr>
                <a:srgbClr val="f8a500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Zapisnici o nezakonito obavljenim pretragama (čl. 250. ZKP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27120" indent="-444600">
              <a:lnSpc>
                <a:spcPct val="115000"/>
              </a:lnSpc>
              <a:spcBef>
                <a:spcPts val="1287"/>
              </a:spcBef>
              <a:buClr>
                <a:srgbClr val="f8a500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Isprave i snimke koje ne podliježu privremenom oduzimanju (čl. 262. st. 7. ZKP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zervirano mjesto podnožja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Rezervirano mjesto broja slajda 2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D2C8-7D05-4C5F-A3AE-E299EC28DBEF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Rezervirano mjesto datuma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A5A1-CE69-48FB-B41F-784976357919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00"/>
                </a:solidFill>
                <a:latin typeface="Arial"/>
              </a:rPr>
              <a:t>Nezakoniti dokazi izričito propisani u ZKP-u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13800" indent="-438840">
              <a:lnSpc>
                <a:spcPct val="105000"/>
              </a:lnSpc>
              <a:spcBef>
                <a:spcPts val="1287"/>
              </a:spcBef>
              <a:buClr>
                <a:srgbClr val="f8a500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Zapisnik suočenja u istrazi koje nije audio-video snimljeno                            (čl. 278. st. 5. i čl. 289. st. 5. ZKP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13800" indent="-438840">
              <a:lnSpc>
                <a:spcPct val="105000"/>
              </a:lnSpc>
              <a:spcBef>
                <a:spcPts val="1287"/>
              </a:spcBef>
              <a:buClr>
                <a:srgbClr val="f8a500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Zapisnici o iskazima okrivljenika ispitanog na zabranjeni način (čl. 6. st. 3. i čl. 281. ZKP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13800" indent="-438840">
              <a:lnSpc>
                <a:spcPct val="105000"/>
              </a:lnSpc>
              <a:spcBef>
                <a:spcPts val="1287"/>
              </a:spcBef>
              <a:buClr>
                <a:srgbClr val="f8a500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Zapisnici o iskazima svjedoka ispitanih na zabranjeni način (čl. 300. ZKP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13800" indent="-438840">
              <a:lnSpc>
                <a:spcPct val="105000"/>
              </a:lnSpc>
              <a:spcBef>
                <a:spcPts val="2013"/>
              </a:spcBef>
              <a:buClr>
                <a:srgbClr val="f8a500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Zapisnici o ispitivanju kao vještaka osobe koja nije mogla biti vještak (čl. 311. st. 1. ZKP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13800" indent="-438840">
              <a:lnSpc>
                <a:spcPct val="105000"/>
              </a:lnSpc>
              <a:spcBef>
                <a:spcPts val="2013"/>
              </a:spcBef>
              <a:buClr>
                <a:srgbClr val="f8a500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Dokazi pribavljeni posebnim dokaznim radnjama provedenim na zabranjeni način (čl. 335. st. 7. ZKP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613800" indent="0">
              <a:lnSpc>
                <a:spcPct val="105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zervirano mjesto podnožja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Rezervirano mjesto broja slajda 2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02FD-53A9-4084-AC11-B0CFD3CFF370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zervirano mjesto datuma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048B-3CBF-46B6-B52E-AC0518891111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00"/>
                </a:solidFill>
                <a:latin typeface="Arial"/>
              </a:rPr>
              <a:t>Nezakoniti dokazi izričito propisani u ZKP-u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730520"/>
            <a:ext cx="835344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9720" indent="-457200">
              <a:lnSpc>
                <a:spcPct val="115000"/>
              </a:lnSpc>
              <a:spcBef>
                <a:spcPts val="1837"/>
              </a:spcBef>
              <a:buClr>
                <a:srgbClr val="f8a500"/>
              </a:buClr>
              <a:buSzPct val="65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ffff"/>
                </a:solidFill>
                <a:latin typeface="Tahoma"/>
              </a:rPr>
              <a:t>Dokazi pribavljeni privremenim oduzimanjem poštanskih pošiljaka provedenim na zabranjeni način (čl. 339. st. 8. ZKP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lnSpc>
                <a:spcPct val="115000"/>
              </a:lnSpc>
              <a:spcBef>
                <a:spcPts val="1837"/>
              </a:spcBef>
              <a:buClr>
                <a:srgbClr val="f8a500"/>
              </a:buClr>
              <a:buSzPct val="65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ffff"/>
                </a:solidFill>
                <a:latin typeface="Tahoma"/>
              </a:rPr>
              <a:t>Dokazi pribavljeni povredom odredaba koje se odnose na dokaznu radnju provjere uspostavljanja telekomunikacijskog kontakta (čl. 339.a st. 9. ZKP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lnSpc>
                <a:spcPct val="115000"/>
              </a:lnSpc>
              <a:spcBef>
                <a:spcPts val="1837"/>
              </a:spcBef>
              <a:buClr>
                <a:srgbClr val="f8a500"/>
              </a:buClr>
              <a:buSzPct val="65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ffff"/>
                </a:solidFill>
                <a:latin typeface="Tahoma"/>
              </a:rPr>
              <a:t>Prijedlog sporazuma stranaka o izricanju kazne od kojeg su stranke odustale (čl. 362. st. 2. ZKP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lnSpc>
                <a:spcPct val="115000"/>
              </a:lnSpc>
              <a:spcBef>
                <a:spcPts val="1925"/>
              </a:spcBef>
              <a:buClr>
                <a:srgbClr val="f8a500"/>
              </a:buClr>
              <a:buSzPct val="65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Dokazi o činjenicama koje se odnose na ranije spolno ponašanje žrtve i njene seksualne sklonosti (čl. 422. st. 1. ZKP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zervirano mjesto podnožja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zervirano mjesto broja slajda 2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742B-2FDF-4FFB-B835-082C69799DFB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zervirano mjesto datuma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3904-8174-44A5-9EDD-DEA43104F8FE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Dokazi pribavljeni protivno zabrani propisano čl. 6. st. 1. i 2.  ZKP</a:t>
            </a:r>
            <a:br>
              <a:rPr sz="40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Zabranjeno je pribavljanje dokaza bilo kojom vrstom diskrimin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Zabranjeno je da se prema okrivljeniku, svjedoku ili drugoj osobi primije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medicinske intervencije il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a im se daju takva sredstva kojima bi se utjecalo na njihovu volju pri davanju iskaz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iti se smije upotrijebiti sila, prijetnja ili druga slična sredst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A97C-35E3-43AB-B30B-E526D1CC40DA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zervirano mjesto datuma 5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8C2A-118A-48AC-BEC8-30D4B4B07892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Zapisnici o nezakonito obavljenim pretragam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1) pretraga je suprotno odredbama ZKP-a , obavljena bez pisanog naloga,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2) pretraga je bez naloga poduzeta suprotno odredbama čl. 246. st. 1. do 3. ZKP (iznimnost pretrage po nalogu državnog odvjetnika ili pretrage provedene po policiji),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3) državni odvjetnik nije u roku iz čl. 245. st.</a:t>
            </a:r>
            <a:r>
              <a:rPr b="1" lang="hr-HR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hr-HR" sz="27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 ZKP predao sucu istrage nalog i zapisnik o poduzetoj pretrazi,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4) odbijen je zahtjev za ovjeru pisanog naloga državnog odvjetnika o pretrazi ili zapisnika o provedenoj pretrazi članak 245. stavak</a:t>
            </a:r>
            <a:r>
              <a:rPr b="1" lang="hr-HR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4. ZKP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46EC-BD89-437E-915C-47B790AA7A8D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zervirano mjesto datuma 5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159C-22C4-45E5-9720-AA233C9B139E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Zapisnici o nezakonito obavljenim pretragam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500" spc="-1" strike="noStrike">
                <a:solidFill>
                  <a:srgbClr val="ffffff"/>
                </a:solidFill>
                <a:latin typeface="Tahoma"/>
              </a:rPr>
              <a:t>5) u zapisnik nisu unesene okolnosti zbog kojih je pretragu osobe obavila osoba drugog spola (čl. 251. st. 2. ZKP),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500" spc="-1" strike="noStrike">
                <a:solidFill>
                  <a:srgbClr val="ffffff"/>
                </a:solidFill>
                <a:latin typeface="Tahoma"/>
              </a:rPr>
              <a:t>6) pretraga je provedena protivno odredbama čl. 251. st. 3. i 4. ZKP (zadiranje u tjelesne šupljine ili skidanje nadomjestaka),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500" spc="-1" strike="noStrike">
                <a:solidFill>
                  <a:srgbClr val="ffffff"/>
                </a:solidFill>
                <a:latin typeface="Tahoma"/>
              </a:rPr>
              <a:t>7) pretraga je provedena bez osobe koja mora prisustvovati pretrazi (čl. 254. st. 2. ZKP – svjedoci pretrage),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500" spc="-1" strike="noStrike">
                <a:solidFill>
                  <a:srgbClr val="ffffff"/>
                </a:solidFill>
                <a:latin typeface="Tahoma"/>
              </a:rPr>
              <a:t>8) pretraga je provedena suprotno uvjetima za zakonitost pretrage propisanim u posebnom zakonu (čl. 256. ZKP – pretraga odvjetničkog ureda, javnobilježničkog ureda, prostora sveučilišta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B4C5-08D8-46D9-86F1-F0F864B0332A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zervirano mjesto datuma 5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5E93-3E2A-4577-A511-3A7645AC1697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00"/>
                </a:solidFill>
                <a:latin typeface="Arial"/>
              </a:rPr>
              <a:t>Isprave i snimke koje ne podliježu privremenom oduzimanju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1) spisi i druge isprave državnih tijela čije bi objavljivanje povrijedilo obvezu tajnosti dok nadležno tijelo ne odluči drukči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2) pisana priopćenja okrivljenika branitelju, osim ako okrivljenik ne zahtijeva drukči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B85E-5137-47EB-B37B-A5FC02EBFEEE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zervirano mjesto datuma 5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525D-0FE1-4D62-A049-9884AE85E697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00"/>
                </a:solidFill>
                <a:latin typeface="Arial"/>
              </a:rPr>
              <a:t>Isprave i snimke koje ne podliježu privremenom oduzimanju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3) snimke i privatni dnevnik pronađeni kod osoba iz čl. 285. st. 1. toč. 1. do 3. ZKP, koje su te osobe snimile ili napisale, a sadrže snimke ili zapise o činjenicama o kojima su te osobe oslobođene dužnosti svjedočenja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4) zapisi, izvodi iz registara i slične isprave koje se nalaze kod osoba iz čl. 285. st. 1. toč. 4. ZKP, sastavljeni o činjenicama koje su u obavljanju svoga zanimanja te osobe saznale od okrivljenika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5) zapisi o činjenicama koje su sastavili novinari i urednici u sredstvima javnog priopćavanja o izvorima obavijesti i podataka za koje su saznali u obavljanju svoga zanimanja i koji su uporabljeni prilikom uređivanja sredstava javnog priopćavanja, a koji se nalaze u njihovom posjedu ili u uredništvu u kojem su zaposleni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0329-82D3-4229-A501-C6135CF0303B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zervirano mjesto datuma 5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9D1D-6D00-401F-A644-9BD837665437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00"/>
                </a:solidFill>
                <a:latin typeface="Arial"/>
              </a:rPr>
              <a:t>Zapisnici o iskazima svjedoka ispitanih na zabranjeni način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1) Ako je kao svjedok ispitana osoba koja se ne može ispitati kao svjedok (čl. 284. ZKP – osobe koje ne mogu biti ispitani kao svjedoci),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2) Ako je kao svjedok ispitana osoba koja ne mora svjedočiti (čl. 285. ZKP), a nije na to upozorena ili se nije izričito odrekla toga prava,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3) Ako upozorenje iz čl. 285. st. 3. ZKP i odricanje nije ubilježeno u zapisnik,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4) Ako je kao svjedok ispitano dijete koje ne može shvatiti značenje prava da ne mora svjedočiti (čl. 285. st. 4. ZKP),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AD13-042F-4C81-9E73-CF4E3E277C2B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Rezervirano mjesto datuma 5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F1A7-292A-451E-A00E-BDAADD16A059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00"/>
                </a:solidFill>
                <a:latin typeface="Arial"/>
              </a:rPr>
              <a:t>Zapisnici o iskazima svjedoka ispitanih na zabranjeni način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5) Ako upozorenja iz čl. 288. st. 3. ZKP (opće upozorenje svjedoku) ovog Zakona nisu ubilježena u zapisnik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6) Ako je povrijeđeno pravo na uskratu odgovora iz čl. 44. st. 4. toč. 4. i čl. 44. st. 5. toč. 3. ZKP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7) U slučaju iz čl. 6. st. 3. ZK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AED3-F33F-4D60-8A1D-845C8CBA6DA5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Rezervirano mjesto datuma 5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C80A-EB9B-4C8E-B4D0-57501FE18592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zervirano mjesto podnožja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Rezervirano mjesto broja slajda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9E36-4EE5-44F4-97DD-91F97796FF5A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ffff00"/>
                </a:solidFill>
                <a:latin typeface="Arial"/>
              </a:rPr>
              <a:t>Ustav Republike Hrvatske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lanak 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okazi pribavljeni na nezakonit način ne mogu se uporabiti u sudskom postupk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zervirano mjesto datuma 1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F0A3-755F-4337-B503-6749B870560F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00"/>
                </a:solidFill>
                <a:latin typeface="Arial"/>
              </a:rPr>
              <a:t>Zapisnici o ispitivanju kao vještaka osobe koja nije mogla biti vještak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Ako je za vještaka uzeta osob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ffffff"/>
                </a:solidFill>
                <a:latin typeface="Tahoma"/>
              </a:rPr>
              <a:t>koja ne može biti ispitana kao svjedok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ffffff"/>
                </a:solidFill>
                <a:latin typeface="Tahoma"/>
              </a:rPr>
              <a:t>osoba koja je oslobođena dužnosti svjedočenja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ffffff"/>
                </a:solidFill>
                <a:latin typeface="Tahoma"/>
              </a:rPr>
              <a:t>prema kojoj je kazneno djelo počinjeno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F0E7-D93B-4FEE-90A9-72FDC860A0D2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Rezervirano mjesto datuma 5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EBC7-B90B-43A4-90E1-7324B0CD7B3E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Temelji li se sudske odluke na nezakonitom dokaz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Presuda se ne smije temeljiti na nezakonitim dokazi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Sama okolnost da je dokaz izveden, a kasnije nije izdvojen, dostatna je za utvrđenje da se presuda temelji na nezakonitom dokazu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B612-8011-4DD3-A505-359B61DE9A09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Rezervirano mjesto datuma 5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F8FF-8B29-450A-83F8-513B08043A78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zervirano mjesto podnožja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Rezervirano mjesto broja slajda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AEF4-CBE2-421F-BE7C-5C44402AA1C7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639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ffff00"/>
                </a:solidFill>
                <a:latin typeface="Tahoma"/>
              </a:rPr>
              <a:t>Zahvaljujem na pozornosti</a:t>
            </a:r>
            <a:r>
              <a:rPr b="0" lang="hr-HR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6" name="Picture 3" descr="bat"/>
          <p:cNvPicPr/>
          <p:nvPr/>
        </p:nvPicPr>
        <p:blipFill>
          <a:blip r:embed="rId1"/>
          <a:stretch/>
        </p:blipFill>
        <p:spPr>
          <a:xfrm>
            <a:off x="684360" y="4437000"/>
            <a:ext cx="1361880" cy="2043000"/>
          </a:xfrm>
          <a:prstGeom prst="rect">
            <a:avLst/>
          </a:prstGeom>
          <a:ln w="0">
            <a:noFill/>
          </a:ln>
        </p:spPr>
      </p:pic>
      <p:sp>
        <p:nvSpPr>
          <p:cNvPr id="267" name="Rezervirano mjesto datuma 1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879C-265F-40A5-AC51-DC27939F849D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zervirano mjesto podnožja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Rezervirano mjesto broja slajda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9EBF-9CDF-488B-ABE3-C2F9572E2798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ffff00"/>
                </a:solidFill>
                <a:latin typeface="Arial"/>
              </a:rPr>
              <a:t>Europski</a:t>
            </a:r>
            <a:r>
              <a:rPr b="1" lang="hr-HR" sz="4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hr-HR" sz="5400" spc="-1" strike="noStrike">
                <a:solidFill>
                  <a:srgbClr val="ffff00"/>
                </a:solidFill>
                <a:latin typeface="Arial"/>
              </a:rPr>
              <a:t>sud </a:t>
            </a:r>
            <a:br>
              <a:rPr sz="5400"/>
            </a:br>
            <a:r>
              <a:rPr b="0" lang="hr-HR" sz="5400" spc="-1" strike="noStrike">
                <a:solidFill>
                  <a:srgbClr val="ffff00"/>
                </a:solidFill>
                <a:latin typeface="Arial"/>
              </a:rPr>
              <a:t>za ljudska prav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8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uđenje na temelju zakonitih dokaza nije konvencijsko pravo – čl. 6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tandard prava na pravično suđenje u odnosu na nezakonite dokaz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omaće kazneno procesno pravo mora okrivljeniku, tijekom suđenja, uvijek zajamčiti </a:t>
            </a: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učinkovito incidentalno rješavanje pitanja zakonitosti dokaz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(provjera vjerodostojnosti i istinitost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zervirano mjesto datuma 1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B7FB-486E-4E7E-B1D9-E9EB4DAD9B59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zervirano mjesto podnožja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Rezervirano mjesto broja slajda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47DD-4FC9-43C7-9FE5-90A03AA68377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NEVALJALI (NEZAKONITI) DOKAZ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jam nevaljalosti dokaza rezultat je procesne sankcije ukidanja prvostupanjske odluke od strane  drugostupanjskog suda i utvrđenja njene nevaljalosti ako bi se ista temeljila na nezakonitom dokaz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zervirano mjesto datuma 1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8A33-572E-41D9-B1CC-4D74BC3C83D5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Članak 10 ZKP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(1) Sudske se odluke ne mogu temeljiti na dokazima pribavljenim na nezakonit način (nezakoniti dokazi)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ffcc66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(2) Nezakoniti su dokazi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1) koji su pribavljeni kršenjem Ustavom, zakonom ili međunarodnim pravom propisane zabrane mučenja, nečovječnog ili ponižavajućeg postupanja,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2) koji su pribavljeni povredom Ustavom, zakonom ili međunarodnim pravom zajamčenih prava obrane, prava na ugled i čast, te prava na nepovredivost osobnog i obiteljskog života, osim u slučaju iz stavka 3. ovog članka,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3) koji su pribavljeni povredom odredaba kaznenog postupka i koji su izričito predviđeni ovim Zakonom,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4) za koje se saznalo iz nezakonitih dokaza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(3) Ne smatraju se nezakonitima dokazi pribavljeni povredom prava i sloboda iz stavka 2. točke 2. ovog članka u postupku za teške oblike kaznenih djela iz nadležnosti županijskog suda, kod kojih interes kaznenog progona i kažnjavanja počinitelja preteže nad povredom prava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(4) Sudska odluka ne može se temeljiti isključivo na dokazu iz stavka 3. ovog članka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C250-AEF2-4CC7-AFD0-33351AB7F4E3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Rezervirano mjesto datuma 5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F948-6D73-418E-971C-B993BBA3B463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zervirano mjesto podnožja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Rezervirano mjesto broja slajda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0FC7-9726-48A4-9C8F-EE2C73128D57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Što su nezakoniti dokazi??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Nezakoniti su dokazi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1) koji su </a:t>
            </a:r>
            <a:r>
              <a:rPr b="0" lang="hr-HR" sz="1900" spc="-1" strike="noStrike" u="sng">
                <a:solidFill>
                  <a:srgbClr val="ffffff"/>
                </a:solidFill>
                <a:uFillTx/>
                <a:latin typeface="Tahoma"/>
              </a:rPr>
              <a:t>pribavljeni kršenjem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 Ustavom, zakonom ili međunarodnim pravom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 u="sng">
                <a:solidFill>
                  <a:srgbClr val="ffffff"/>
                </a:solidFill>
                <a:uFillTx/>
                <a:latin typeface="Tahoma"/>
              </a:rPr>
              <a:t>propisane zabrane mučenja,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 u="sng">
                <a:solidFill>
                  <a:srgbClr val="ffffff"/>
                </a:solidFill>
                <a:uFillTx/>
                <a:latin typeface="Tahoma"/>
              </a:rPr>
              <a:t>okrutnog ili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 u="sng">
                <a:solidFill>
                  <a:srgbClr val="ffffff"/>
                </a:solidFill>
                <a:uFillTx/>
                <a:latin typeface="Tahoma"/>
              </a:rPr>
              <a:t>nečovječnog postupanja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2) koji su </a:t>
            </a:r>
            <a:r>
              <a:rPr b="0" lang="hr-HR" sz="1900" spc="-1" strike="noStrike" u="sng">
                <a:solidFill>
                  <a:srgbClr val="ffffff"/>
                </a:solidFill>
                <a:uFillTx/>
                <a:latin typeface="Tahoma"/>
              </a:rPr>
              <a:t>pribavljeni povredom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 Ustavom, zakonom ili međunarodnim pravom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 u="sng">
                <a:solidFill>
                  <a:srgbClr val="ffffff"/>
                </a:solidFill>
                <a:uFillTx/>
                <a:latin typeface="Tahoma"/>
              </a:rPr>
              <a:t>zajamčenih prava obrane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 u="sng">
                <a:solidFill>
                  <a:srgbClr val="ffffff"/>
                </a:solidFill>
                <a:uFillTx/>
                <a:latin typeface="Tahoma"/>
              </a:rPr>
              <a:t>prava na dostojanstvo, ugled i čast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, te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 u="sng">
                <a:solidFill>
                  <a:srgbClr val="ffffff"/>
                </a:solidFill>
                <a:uFillTx/>
                <a:latin typeface="Tahoma"/>
              </a:rPr>
              <a:t>prava na nepovredivost osobnog i obiteljskog života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3) koji su </a:t>
            </a:r>
            <a:r>
              <a:rPr b="0" lang="hr-HR" sz="1900" spc="-1" strike="noStrike" u="sng">
                <a:solidFill>
                  <a:srgbClr val="ffffff"/>
                </a:solidFill>
                <a:uFillTx/>
                <a:latin typeface="Tahoma"/>
              </a:rPr>
              <a:t>pribavljeni povredom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odredaba kaznenog postupka i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koji su izričito predviđeni ovim Zakonom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4) za koje se saznalo iz nezakonitih dokaza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zervirano mjesto datuma 1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5844-C459-44ED-997D-E55C7655BF80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zervirano mjesto podnožja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Rezervirano mjesto broja slajda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207D-369D-43C2-8C8D-6A85A5779A2F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00"/>
                </a:solidFill>
                <a:latin typeface="Arial"/>
              </a:rPr>
              <a:t>Ocjene suda u pitanju ne/zakonitih dokaz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Ne smatraju se nezakonitim dokazi pribavljeni povredom prava i sloboda iz st. 2. toč. 2. čl. 10 ZKP-a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r-HR" sz="1400" spc="-1" strike="noStrike">
                <a:solidFill>
                  <a:srgbClr val="ffffff"/>
                </a:solidFill>
                <a:latin typeface="Tahoma"/>
              </a:rPr>
              <a:t>(dokazi koji su pribavljeni povredom Ustavom, zakonom ili međunarodnim pravom zajamčenih prava obrane, prava na dostojanstvo, ugled i čast, te prava na nepovredivost osobnog i obiteljskog života)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1) radnjom za koju je prema kaznenom zakonu 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isključena protupravnost,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hr-HR" sz="1400" spc="-1" strike="noStrike">
                <a:solidFill>
                  <a:srgbClr val="ffffff"/>
                </a:solidFill>
                <a:latin typeface="Tahoma"/>
              </a:rPr>
              <a:t>(krajnja nužda, nužna obrana, zakonita uporaba </a:t>
            </a:r>
            <a:r>
              <a:rPr b="0" i="1" lang="hr-HR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hr-HR" sz="1400" spc="-1" strike="noStrike">
                <a:solidFill>
                  <a:srgbClr val="ffffff"/>
                </a:solidFill>
                <a:latin typeface="Tahoma"/>
              </a:rPr>
              <a:t>sredstava sile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2) u postupku za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- teške oblike kaznenih djela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- za koja se provodi redoviti postupak,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- kod kojih je povreda prava, s obzirom na 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  jakost i narav, bitno manja u odnosu na težinu 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300" spc="-1" strike="noStrike">
                <a:solidFill>
                  <a:srgbClr val="ffffff"/>
                </a:solidFill>
                <a:latin typeface="Tahoma"/>
              </a:rPr>
              <a:t>  kaznenog djela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zervirano mjesto datuma 1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A054-67DA-4A13-B838-C619D1647A90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zervirano mjesto podnožja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Rezervirano mjesto broja slajda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B769-DAA9-4BC3-936D-9B994A317338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Ograničenje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Sudska odluka ne može se temeljiti </a:t>
            </a:r>
            <a:r>
              <a:rPr b="0" lang="hr-HR" sz="3600" spc="-1" strike="noStrike" u="sng">
                <a:solidFill>
                  <a:srgbClr val="ffffff"/>
                </a:solidFill>
                <a:uFillTx/>
                <a:latin typeface="Tahoma"/>
              </a:rPr>
              <a:t>isključivo</a:t>
            </a: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 na dokazu čija bi zakonitost bila utvrđena prema načelu razmjernosti </a:t>
            </a:r>
            <a:r>
              <a:rPr b="0" i="1" lang="hr-HR" sz="3600" spc="-1" strike="noStrike">
                <a:solidFill>
                  <a:srgbClr val="ffffff"/>
                </a:solidFill>
                <a:latin typeface="Tahoma"/>
              </a:rPr>
              <a:t>(ex iudici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zervirano mjesto datuma 1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6E17-C25D-4E9D-B6A1-62CFBA8926BD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Postupak odlučivanja o nezakonitim dokazim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51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lnSpc>
                <a:spcPct val="90000"/>
              </a:lnSpc>
              <a:spcBef>
                <a:spcPts val="2701"/>
              </a:spcBef>
              <a:buClr>
                <a:srgbClr val="f8a5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ud odlučuje o izdvajanju tijekom postupka po službenoj dužnosti i po prijedlogu stranaka (predsjednik vijeća u pripremi rasprave i vijeće tijekom raspra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1000" indent="-425160">
              <a:lnSpc>
                <a:spcPct val="90000"/>
              </a:lnSpc>
              <a:spcBef>
                <a:spcPts val="2701"/>
              </a:spcBef>
              <a:buClr>
                <a:srgbClr val="f8a5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tranke mogu u svim stadijima postupka podnijeti prijedlog za izdvajanje nezakonitih doka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lnSpc>
                <a:spcPct val="90000"/>
              </a:lnSpc>
              <a:spcBef>
                <a:spcPts val="2701"/>
              </a:spcBef>
              <a:buClr>
                <a:srgbClr val="f8a5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aspravni sud kada odluči o pitanju zakonitosti dokaza može, ali i ne mora dati posebno pravo na žalbu (čl. 431. st. 3. ZK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lnSpc>
                <a:spcPct val="90000"/>
              </a:lnSpc>
              <a:spcBef>
                <a:spcPts val="2701"/>
              </a:spcBef>
              <a:buClr>
                <a:srgbClr val="f8a5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Žalbeni sud na pitanje temelji li se presuda na nezakonitom dokazu pazi po službenoj duž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zervirano mjesto podnožja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Rezervirano mjesto broja slajda 2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8B5C-7AC4-4A07-8D2B-935467F9A293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Rezervirano mjesto datuma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5224-199D-4FA7-B17E-68FBE0C263B1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2:44:34Z</dcterms:created>
  <dc:creator>Damir Kos</dc:creator>
  <dc:description/>
  <dc:language>en-US</dc:language>
  <cp:lastModifiedBy>Kos, Damir</cp:lastModifiedBy>
  <cp:lastPrinted>2018-04-27T08:38:48Z</cp:lastPrinted>
  <dcterms:modified xsi:type="dcterms:W3CDTF">2018-05-21T09:53:43Z</dcterms:modified>
  <cp:revision>139</cp:revision>
  <dc:subject/>
  <dc:title>RETROAKTIVNO DJELOVANJE ZAKONA</dc:title>
</cp:coreProperties>
</file>