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7988-DF84-41AF-925D-72F8369C7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13617-889E-4713-BD08-072C4FC0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7CAEE-BD8C-4B23-B06D-E2997BCAF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73E2A-CB60-4018-A84E-19A9305B4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6C610-9623-4CE8-BDD1-DDE4549D0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5B2A-6974-4670-8978-83278A733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CD667-EAC2-4206-B3FE-BBBF215D3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5A209-27C6-4620-9059-F75F5D2BE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46F4E-B8CC-4897-BC97-009010026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A3DCC-0FDD-4C7A-A259-F59D9BA2A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1E139-DD6C-4CE9-B3C4-B437D8471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B78C-78F8-471F-BAA2-F6F7E11D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5048-C1BD-4CC5-A865-0B09CA3A7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4179C-6F35-4D8C-B778-3A55DAE63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D8F48-9A6C-4806-9108-2AE4EBDDD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76D07-436C-4A66-B300-F5F69276B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0FDE5-E6CC-438E-8399-D716069BD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CE17B-36B2-48B2-AB84-552C8875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2D26-BA6D-4CCE-8C47-CE07FE3D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6333-4AFD-43A3-906B-CFB2254D0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8F4AC-4D3E-41C1-882E-5A56CCB1A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8CF6-BDA9-4396-BCFF-BBB588D7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B838-1841-4A49-ACA4-C61110789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1356-EDE0-46E4-85EC-5BD9D1421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B8AA-CE7C-47FF-9C38-AEABDAC6069D}" type="datetime">
              <a:rPr b="0" lang="sr-Latn-C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C138-C2A8-4763-8935-F09430BABBF5}"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4728-9D90-4C39-B2E3-887CE410B352}" type="datetime">
              <a:rPr b="0" lang="sr-Latn-CS" sz="1200" spc="-1" strike="noStrike">
                <a:solidFill>
                  <a:srgbClr val="898989"/>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EBB-AFE3-49B4-BD79-09F09DE5226B}" type="slidenum">
              <a:rPr b="0" lang="hr-H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000" spc="-1" strike="noStrike">
                <a:solidFill>
                  <a:srgbClr val="000000"/>
                </a:solidFill>
                <a:latin typeface="Arial"/>
              </a:rPr>
              <a:t>BITNE POVREDE ODREDABA PARNIČNOG POSTUPKA</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 </a:t>
            </a:r>
            <a:r>
              <a:rPr b="0" lang="hr-HR" sz="4000" spc="-1" strike="noStrike">
                <a:solidFill>
                  <a:srgbClr val="000000"/>
                </a:solidFill>
                <a:latin typeface="Arial"/>
              </a:rPr>
              <a:t>APSOLUTNO BITNA POVREDA IZ ČL. 354. ST 2. TOČ. 1.</a:t>
            </a:r>
            <a:endParaRPr b="0" lang="en-US" sz="4000" spc="-1" strike="noStrike">
              <a:solidFill>
                <a:srgbClr val="000000"/>
              </a:solidFill>
              <a:latin typeface="Arial"/>
            </a:endParaRPr>
          </a:p>
        </p:txBody>
      </p:sp>
      <p:sp>
        <p:nvSpPr>
          <p:cNvPr id="99" name=""/>
          <p:cNvSpPr txBox="1"/>
          <p:nvPr/>
        </p:nvSpPr>
        <p:spPr>
          <a:xfrm>
            <a:off x="457200" y="190512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Ako je u donošenju presude sudjelovao sudac:</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koji se po zakonu mora izuzeti (čl. 71. st. 1. toč. 1. do 6.)</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odnosno koji je rješenjem bio izuze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Ako je u donošenju presude sudjelovala osoba koja nema svojstvo suc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a ovu bitnu povredu ne pazi se po službenoj dužnost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Može se izjaviti redovita revizija ali i predložiti ponavljanje postupk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ITNA POVREDA POSTOJ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o je sudac suda drugostupanjskog suda saslušan pred prvostupanjskim sudom u tom predme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APSOLUTNO BITNA POVREDA IZ ČL. 354. ST. 2. TOČ. 2. </a:t>
            </a:r>
            <a:endParaRPr b="0" lang="en-US" sz="4000" spc="-1" strike="noStrike">
              <a:solidFill>
                <a:srgbClr val="000000"/>
              </a:solidFill>
              <a:latin typeface="Arial"/>
            </a:endParaRPr>
          </a:p>
        </p:txBody>
      </p:sp>
      <p:sp>
        <p:nvSpPr>
          <p:cNvPr id="102"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stoj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ko je odlučeno o zahtjevu u sporu koji ne ide u sudsku nadležnost (čl. 16. ZP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Na ovu povredu sud drugog stupnja pazi po službenoj dužnos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Zbog ove povrede sud drugog stupnja ukida pobijanu odluku i odbacuje tužb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ozvoljeno je izjaviti redovnu reviziju ali ne i ponavljanje postupk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Prak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Ova povreda postoji kad je sud odlučio o tužbenom zahtjevu kojim se protivno odredbi čl. 187. ZPP tražilo utvrđenje činjen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ko je suđeno unatoč činjenici da je prigovoreno  da postoji zakoniti ugovor o arbitraž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APSOLUTNO BITNA POVREDA IZ ČL. 354. ST. 2. TOČ. 3.</a:t>
            </a:r>
            <a:endParaRPr b="0" lang="en-US" sz="4000" spc="-1" strike="noStrike">
              <a:solidFill>
                <a:srgbClr val="000000"/>
              </a:solidFill>
              <a:latin typeface="Arial"/>
            </a:endParaRPr>
          </a:p>
        </p:txBody>
      </p:sp>
      <p:sp>
        <p:nvSpPr>
          <p:cNvPr id="104" name=""/>
          <p:cNvSpPr txBox="1"/>
          <p:nvPr/>
        </p:nvSpPr>
        <p:spPr>
          <a:xfrm>
            <a:off x="457200" y="190512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Ova bitna povreda postoji:</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ko je sud u povodu prigovora stranaka pogrešno odlučio da je stvarno ili mjesno nadleža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U povodu prigovora tuženika o STVARNOJ NENADLEŽNOSTI sud se može oglasiti stvarno nenadležnim samo ako je tuženik taj prigovor podnio najkasnije do upuštanja u raspravljanje o glavnoj stvari. (čl. 17. st. 2.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Nakon upuštanja tuženika u raspravljanje o glavnoj stvari, sud jedne vrste može se po službenoj dužnosti ili u povodu prigovora tuženika oglasiti stvarno nenadležnim za predmete iz suda druge vrste samo kada je to zakonom izrijekom određeno. (čl. 17. st.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d se može, u povodu prigovora tuženika, proglasiti mjesno nenadležnim, ako je prigovor podnesen najkasnije do upuštanja tuženika u raspravljanje o glavnoj stvari. (čl. 20.st.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povredu u povodu žalbe sud drugog stupnja NE PAZI PO SLUŽBENOJ DUŽ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aksa:</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a:t>
            </a:r>
            <a:r>
              <a:rPr b="0" lang="hr-HR" sz="3000" spc="-1" strike="noStrike">
                <a:solidFill>
                  <a:srgbClr val="000000"/>
                </a:solidFill>
                <a:latin typeface="Arial"/>
              </a:rPr>
              <a:t>Protiv konačnog upravnog akta zakonom je propisana sudska zaštita u upravnom sporu pred Upravnim sudom Republike Hrvatske. Na tako propisanu vrstu postupka i stvarnu nadležnost nema utjecaja okolnost da je drugostupanjsko tijelo dalo stranci pogrešnu uputu da protiv njegova rješenja može pokrenuti radni spor pred nadležnim općinskim sudom“. (VSRH, Rev 2205/98 od 12. 6. 2002. – IO 2/02-186.</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APSOLUTNO BITNA POVREDA IZ ČL. 354. ST. 2. TOČ. 4.</a:t>
            </a:r>
            <a:endParaRPr b="0" lang="en-US" sz="4000" spc="-1" strike="noStrike">
              <a:solidFill>
                <a:srgbClr val="000000"/>
              </a:solidFill>
              <a:latin typeface="Arial"/>
            </a:endParaRPr>
          </a:p>
        </p:txBody>
      </p:sp>
      <p:sp>
        <p:nvSpPr>
          <p:cNvPr id="109" name=""/>
          <p:cNvSpPr txBox="1"/>
          <p:nvPr/>
        </p:nvSpPr>
        <p:spPr>
          <a:xfrm>
            <a:off x="457200" y="20574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Ova povreda postoj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ko je protivno odredbama ovog Zakona sud utemeljio svoju odluku na nedopuštenim raspolaganjima stranaka (članak 3. stavak 3.)</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t>
            </a:r>
            <a:r>
              <a:rPr b="0" lang="vi-VN" sz="2200" spc="-1" strike="noStrike">
                <a:solidFill>
                  <a:srgbClr val="000000"/>
                </a:solidFill>
                <a:latin typeface="Arial"/>
              </a:rPr>
              <a:t>Sud neće uvažiti raspolaganja stranaka koja su u suprotnosti s prisilnim propisima i pravilima javnog moral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u posebno treba imati na umu pobijanje dispozitivnih presuda (vidi: </a:t>
            </a:r>
            <a:r>
              <a:rPr b="0" lang="hr-HR" sz="2200" spc="-1" strike="noStrike">
                <a:solidFill>
                  <a:srgbClr val="000000"/>
                </a:solidFill>
                <a:latin typeface="Arial"/>
              </a:rPr>
              <a:t>čl. </a:t>
            </a:r>
            <a:r>
              <a:rPr b="0" lang="vi-VN" sz="2200" spc="-1" strike="noStrike">
                <a:solidFill>
                  <a:srgbClr val="000000"/>
                </a:solidFill>
                <a:latin typeface="Arial"/>
              </a:rPr>
              <a:t>354. st. 2. toč. 5).</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Međutim, ovu povredu sud može učiniti ako je odluku utemeljio na nedopuštenom priznanju činjenica ili je po službenoj dužnosti </a:t>
            </a:r>
            <a:r>
              <a:rPr b="0" lang="hr-HR" sz="2200" spc="-1" strike="noStrike">
                <a:solidFill>
                  <a:srgbClr val="000000"/>
                </a:solidFill>
                <a:latin typeface="Arial"/>
              </a:rPr>
              <a:t>propustio </a:t>
            </a:r>
            <a:r>
              <a:rPr b="0" lang="vi-VN" sz="2200" spc="-1" strike="noStrike">
                <a:solidFill>
                  <a:srgbClr val="000000"/>
                </a:solidFill>
                <a:latin typeface="Arial"/>
              </a:rPr>
              <a:t>utvrditi određene činjenice ili provesti određene dokaze kako bi utvrdio radi li se o raspolaganju koje je protivno čl. 3. st 3.  ZP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Na ovu povredu u povodu žalbe sud drugog stupnja pazi po službenoj dužnost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Zbog ove povrede dopušteno je izjaviti redovnu reviziju.</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Praks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Sud neće uvažiti raspolaganja stranaka i donijeti presudu na temelju priznanja kad se priznanje odnosi na prijenos prava korištenja zemljišta suprotno zakonskim odredbam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Zahtjevom za utvrđivanje očinstva kada je dijete rođeno izvan braka stranke ne mogu slobodno raspolagati.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5.</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ostoji ako je sud protivno odredbama Zakona donio:</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I.</a:t>
            </a:r>
            <a:r>
              <a:rPr b="0" lang="hr-HR" sz="3000" spc="-1" strike="noStrike">
                <a:solidFill>
                  <a:srgbClr val="000000"/>
                </a:solidFill>
                <a:latin typeface="Arial"/>
              </a:rPr>
              <a:t>	</a:t>
            </a:r>
            <a:r>
              <a:rPr b="0" lang="hr-HR" sz="3000" spc="-1" strike="noStrike">
                <a:solidFill>
                  <a:srgbClr val="000000"/>
                </a:solidFill>
                <a:latin typeface="Arial"/>
              </a:rPr>
              <a:t>PRESUDU NA TEMELJU PRIZNANJA</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II.</a:t>
            </a:r>
            <a:r>
              <a:rPr b="0" lang="hr-HR" sz="3000" spc="-1" strike="noStrike">
                <a:solidFill>
                  <a:srgbClr val="000000"/>
                </a:solidFill>
                <a:latin typeface="Arial"/>
              </a:rPr>
              <a:t>	</a:t>
            </a:r>
            <a:r>
              <a:rPr b="0" lang="hr-HR" sz="3000" spc="-1" strike="noStrike">
                <a:solidFill>
                  <a:srgbClr val="000000"/>
                </a:solidFill>
                <a:latin typeface="Arial"/>
              </a:rPr>
              <a:t>RESUDU NA TEMELJU ODRICANJA</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III.</a:t>
            </a:r>
            <a:r>
              <a:rPr b="0" lang="hr-HR" sz="3000" spc="-1" strike="noStrike">
                <a:solidFill>
                  <a:srgbClr val="000000"/>
                </a:solidFill>
                <a:latin typeface="Arial"/>
              </a:rPr>
              <a:t>	</a:t>
            </a:r>
            <a:r>
              <a:rPr b="0" lang="hr-HR" sz="3000" spc="-1" strike="noStrike">
                <a:solidFill>
                  <a:srgbClr val="000000"/>
                </a:solidFill>
                <a:latin typeface="Arial"/>
              </a:rPr>
              <a:t>PRESUDU ZBOG OGLUH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IV.</a:t>
            </a:r>
            <a:r>
              <a:rPr b="0" lang="hr-HR" sz="3000" spc="-1" strike="noStrike">
                <a:solidFill>
                  <a:srgbClr val="000000"/>
                </a:solidFill>
                <a:latin typeface="Arial"/>
              </a:rPr>
              <a:t>	</a:t>
            </a:r>
            <a:r>
              <a:rPr b="0" lang="hr-HR" sz="3000" spc="-1" strike="noStrike">
                <a:solidFill>
                  <a:srgbClr val="000000"/>
                </a:solidFill>
                <a:latin typeface="Arial"/>
              </a:rPr>
              <a:t>PRESUDU ZBOG IZOSTANKA</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V.</a:t>
            </a:r>
            <a:r>
              <a:rPr b="0" lang="hr-HR" sz="3000" spc="-1" strike="noStrike">
                <a:solidFill>
                  <a:srgbClr val="000000"/>
                </a:solidFill>
                <a:latin typeface="Arial"/>
              </a:rPr>
              <a:t>	</a:t>
            </a:r>
            <a:r>
              <a:rPr b="0" lang="hr-HR" sz="3000" spc="-1" strike="noStrike">
                <a:solidFill>
                  <a:srgbClr val="000000"/>
                </a:solidFill>
                <a:latin typeface="Arial"/>
              </a:rPr>
              <a:t>PRESUDU BEZ ODRŽAVANJA RASPRAV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VI.</a:t>
            </a:r>
            <a:r>
              <a:rPr b="0" lang="hr-HR" sz="3000" spc="-1" strike="noStrike">
                <a:solidFill>
                  <a:srgbClr val="000000"/>
                </a:solidFill>
                <a:latin typeface="Arial"/>
              </a:rPr>
              <a:t>	</a:t>
            </a:r>
            <a:r>
              <a:rPr b="0" lang="hr-HR" sz="3000" spc="-1" strike="noStrike">
                <a:solidFill>
                  <a:srgbClr val="000000"/>
                </a:solidFill>
                <a:latin typeface="Arial"/>
              </a:rPr>
              <a:t>PRESUDU ZBOG OGLU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pćenito</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odredaba parničnog postupka nastaju kada sud u tijeku postupka ne primjeni ili pak pogrešno primjeni neku postupovnu odredbu. Međutim, presuda se može pobijati samo zbog bitne povrede odredaba parničnog postupka (čl. 35</a:t>
            </a:r>
            <a:r>
              <a:rPr b="0" lang="hr-HR" sz="2200" spc="-1" strike="noStrike">
                <a:solidFill>
                  <a:srgbClr val="000000"/>
                </a:solidFill>
                <a:latin typeface="Arial"/>
              </a:rPr>
              <a:t>4</a:t>
            </a:r>
            <a:r>
              <a:rPr b="0" lang="vi-VN" sz="2200" spc="-1" strike="noStrike">
                <a:solidFill>
                  <a:srgbClr val="000000"/>
                </a:solidFill>
                <a:latin typeface="Arial"/>
              </a:rPr>
              <a:t>. st 1. toč. 1. ZPP).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eorija (Zuglia, Triva, Dika) razlikuju relativno bitne povrede odredaba parničnog postupka, one koje su u konkretnom smislu dovele ili mogle dovesti do nepravilne meritorne odluke (utemeljene na pogrešnom i/ili nepotpuno utvrđenom činjeničnom stanju),odnosno do nezakonite odluke (odluke donesene na pogrešnoj primjeni materijalnog prava) i tzv. apsolutno bitne, zakonom taksativno navedene uz čije se postojanje veže predmnjeva da su dovele do nepravilne ili/i nezakonite presude.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Ostale povrede su nebitne jer ne mogu biti razlog za podnošenje žalb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SUDA NA TEMELJU PRIZNAN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povredu sud drugog stupnja povodom žalbe ne pazi po službenoj dužnos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ože se izjaviti redovna revizija, ali se ne može podnijeti prijedlog za ponavljanje postup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SUDA NA TEMELJU ODRICAN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Vrijedi  isto kao i za presudu na temelju priznanj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SUDA ZBOG OGLU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vedena u sustav Novelom iz 200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povredu sud drugog stupnja povodom žalbe ne pazi po službenoj duž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bratiti pažnju na konkluzivnost tuž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ože se izjaviti redovna revizija, ali se ne može podnijeti prijedlog za ponavljanje postup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ESUDA ZBOG IZOSTANKA</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Sud drugog stupnja u povodu žalbe ne pazi po službenoj dužnosti.</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ESUDA BEZ ODRŽAVANJA RASPRAV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a ovu povredu sud drugog stupnja u povodu žalbe ne pazi po službenoj dužnosti.</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Zbog ove povrede ne može se podnijeti redovna revizija, niti prijedlog za ponavljanje postupka.</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219320"/>
            <a:ext cx="8229600" cy="4906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aks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Zbog ove povrede ne može se podnijeti redovna revizija, niti prijedlog za ponavljanje postupka. Presuda zbog izostanka može se donijeti samo na pripremnom ročištu ili prvom ročištu za glavnu raspravu ako pripremno ročište nije održano. Isticanje prigovora mjesne nadležnosti suda po svom sadržaju  je osporavanje tužbenog zahtjeva"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   </a:t>
            </a:r>
            <a:r>
              <a:rPr b="0" lang="hr-HR" sz="3000" spc="-1" strike="noStrike">
                <a:solidFill>
                  <a:srgbClr val="000000"/>
                </a:solidFill>
                <a:latin typeface="Arial"/>
              </a:rPr>
              <a:t>(Pž-1361/91 od 14.5. 91)</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371240"/>
            <a:ext cx="8229600" cy="4754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Tuženik nije bio uredno pozvan ako je od dana kada je primio poziv za ročište na kojem je donesena presuda zbog izostanka prošlo manje od osam dana" (VS Rev-263/93 od 10. 11. 1993.)</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e može se donijeti presuda zbog izostanka ako je tuženik telefonom opravdao svoj nedolazak na pripremno ročište. Time je on, naime, pokazao volju da raspravlja o predmetu spora, što znači da je zapravo osporio tužbeni zahtjev" (VS, Rev-3330/94 od 19. 11. 1997.)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6.</a:t>
            </a:r>
            <a:endParaRPr b="0" lang="en-US"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Bitna povreda postoji:</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Ako je kojoj stranci nezakonitim postupanjem, a osobito propuštanjem dostave, nije dana mogućnost da postupa pred sudom.</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čelo saslušanja stranaka je temeljno načelo parničnog procesnog prava.</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Ovo više nije apsolutno bitna povreda na koju sud u povodu žalbe pazi po službenoj dužnosti, naime smatra se da je stranka kada propusti navesti u žalbi tu povredu je istu konvalidirala.</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Praksa:</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Sud je onemogućio stranku da raspravlja pred sudom ako ju je pozvao da se u pisanom obliku u određenom roku izjasni o nalazu i mišljenju vještaka, a zatim je, ne čekajući da protekne rok za očitovanje , donio presudu. (VPS, Sl 2157/77 od 9.5. 78.)"</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Zbog ove povrede se može podnijeti redovna revizija te prijedlog za ponavljanje postupka.</a:t>
            </a:r>
            <a:endParaRPr b="0" lang="en-US" sz="3000" spc="-1" strike="noStrike">
              <a:solidFill>
                <a:srgbClr val="000000"/>
              </a:solidFill>
              <a:latin typeface="Arial"/>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8.</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BITNA POVREDA IZ TOČ. 8.</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Postoji;</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vi-VN" sz="2500" spc="-1" strike="noStrike">
                <a:solidFill>
                  <a:srgbClr val="000000"/>
                </a:solidFill>
                <a:latin typeface="Arial"/>
              </a:rPr>
              <a:t>ako je u postupku kao tužitelj ili tuženik sudjelovala osoba koja ne može biti stranka u postupku,</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vi-VN" sz="2500" spc="-1" strike="noStrike">
                <a:solidFill>
                  <a:srgbClr val="000000"/>
                </a:solidFill>
                <a:latin typeface="Arial"/>
              </a:rPr>
              <a:t>ili ako stranku koja je pravna osoba nije zastupala ovlaštena osoba,</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vi-VN" sz="2500" spc="-1" strike="noStrike">
                <a:solidFill>
                  <a:srgbClr val="000000"/>
                </a:solidFill>
                <a:latin typeface="Arial"/>
              </a:rPr>
              <a:t>ili ako parnično nesposobnu stranku nije zastupao zakonski zastupnik,</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vi-VN" sz="2500" spc="-1" strike="noStrike">
                <a:solidFill>
                  <a:srgbClr val="000000"/>
                </a:solidFill>
                <a:latin typeface="Arial"/>
              </a:rPr>
              <a:t>ili ako zakonski zastupnik, odnosno punomoćnik stranke nije imao potrebno ovlaštenje za vođenje parnice ili za pojedine radnje u postupku, ako vođenje parnice, odnosno obavljanje pojedinih radnji u postupku nije naknadno odobren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va se povrede mogu podijeliti 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stranačkoj sposob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parničnoj sposobnosti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edostaci u zastupanj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STRANAČKOJ SPOSOB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apsolutno bitnu povredu sud pazi po službenoj dužnosti u povodu žalbe strana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bog ove povrede dopušteno je izjaviti redovnu reviziju i ponavljanje postup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29528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Bitne povrede dovode do ništavosti presude u smislu pobojnosti.</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a:t>
            </a:r>
            <a:r>
              <a:rPr b="0" lang="hr-HR" sz="3000" spc="-1" strike="noStrike">
                <a:solidFill>
                  <a:srgbClr val="000000"/>
                </a:solidFill>
                <a:latin typeface="Arial"/>
              </a:rPr>
              <a:t>Zakon o parničnom postupku nema odredaba o nepostojećoj odluci i ne poznaje taj institut ni u slučaju da je odluku donijela osoba koja nije sudac. Takva odluka može se pobijati  zbog apsolutno bitne povrede odredaba parničnog postupka „ (VSRH, Rev- 1086/2007-3 od 18. 3. 2008.- IO 2/08-226)</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k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Glazbena skupina nije fizička ni pravna osoba te nema stranačku sposobnost, pa ako je ona sudjelovala u postupku u svojstvu stranke, učinjena je bitna povreda odredaba parničnog postupka" (VTSRH Pž 1872/00 od 24. 5. 2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ad stranka koja je pravna osoba prestane postojati u tijeku glavne rasprave, presuda se može donijeti samo u odnosu na njegovog pravnog slijednika" (VS, Rev-1079/00  od 29. 11. 200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vna osoba može biti stranka u postupku, iako joj nedostaje aktivna ili pasivna legitimacija" (Vs Rev-1650/00 od 26. 10. 200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duzeće može biti stranka u postupku dok se njegov prestanak ne upiše u sudski registar" (VS Rev- 70/85 od 17. 10. 198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prava carina, Ministarstvo, Sud, Radna zajednica tijela uprave, ne mogu biti stranke u postup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PARNIČNOJ SPOSOB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povredu žalbeni sud pazi u povodu žalbe po službenoj dužnosti, ali presudu može pobijati samo stranka koju se ta povreda tiče (čl. 354. st. 3. Z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pušteno je podnijeti redovnu reviziju kao i prijedlog za ponavljanje postup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k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tranka može biti parnično nesposobna (npr. zbog zdravstvenih poremećaja) iako joj nije oduzeta poslovna sposobno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VS Rev-519/83 od 30. 8. 19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066680"/>
            <a:ext cx="8229600" cy="50594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EDOSTACI U ZASTUPANJU</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a ovu povredu sud drugog stupnja u povodu žalbe pazi po službenoj dužnosti, ako je žalbu podnio onaj koga se to tiče.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Dopušteno je izjaviti redovnu reviziju i podnijeti prijedlog za ponavljanje postupk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unomoćnik koji nije odvjetnik ne može bez izričitog ovlaštenja priznati tužbeni zahtjev." (VTSRH Pž 1435/94 od 5. 7. 1994.)</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9.</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Navedena povreda postoji:</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vi-VN" sz="3200" spc="-1" strike="noStrike">
                <a:solidFill>
                  <a:srgbClr val="000000"/>
                </a:solidFill>
                <a:latin typeface="Arial"/>
              </a:rPr>
              <a:t>Ako je odlučeno o zahtjevu o kojem već teče parnic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vi-VN" sz="3200" spc="-1" strike="noStrike">
                <a:solidFill>
                  <a:srgbClr val="000000"/>
                </a:solidFill>
                <a:latin typeface="Arial"/>
              </a:rPr>
              <a:t>ili o kojem je već prije pravomoćno presuđeno,</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vi-VN" sz="3200" spc="-1" strike="noStrike">
                <a:solidFill>
                  <a:srgbClr val="000000"/>
                </a:solidFill>
                <a:latin typeface="Arial"/>
              </a:rPr>
              <a:t>ili o kojem je već zaključena sudska nagodb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vi-VN" sz="3200" spc="-1" strike="noStrike">
                <a:solidFill>
                  <a:srgbClr val="000000"/>
                </a:solidFill>
                <a:latin typeface="Arial"/>
              </a:rPr>
              <a:t>ili nagodba koja po posebnim propisima ima svojstvo sudske nagodb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Među nagodbe koje po posebnim propisima imaju svojstvo sudske nagodbe valja spomenuti sporazume stranaka o dobrovoljnom sudskom ili javnobilježničkom založnopravnom odnosno fiducijarnom osiguranj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066680"/>
            <a:ext cx="8229600" cy="5059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 ovu povredu drugostupanjski sud pazi po službenoj dužnos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Može se izjaviti redovna revizija i predložiti ponavljanje postupk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ks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a bi se moglo govoriti o istovjetnosti dvaju zahtjeva, potrebno je postojanje njihova subjektivnog (iste stranke) i objektivnog (isti predmet spora) identiteta." (VS Rev 2572/00 od 14. 2. 20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NAČENJE</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stupovno značenje odnosi se na pravne lijekove u kojima se na njih može pozivat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 kojim rokov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ako sud na njih pazi (ex offo ili na prigovor stranak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e kakve je odluke dužan donijeti ako utvrdi da su počinj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10.</a:t>
            </a:r>
            <a:endParaRPr b="0" lang="en-US"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Ova povreda postoj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Ako je protivno zakonu bila isključena javnost na glavnoj rasprav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Po Ustavu i Europskoj konvenciji za ljudska prava i temeljne slobode, pravo na javnu raspravu je jedno od temeljnih ljudskih prav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 ovu povredu sud drugog stupnja ne pazi po službenoj dužnosti.</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Može se izjaviti redovna revizija ali se ne može predložiti ponavljanje postupk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11.</a:t>
            </a:r>
            <a:endParaRPr b="0" lang="en-US" sz="4400" spc="-1" strike="noStrike">
              <a:solidFill>
                <a:srgbClr val="000000"/>
              </a:solidFill>
              <a:latin typeface="Arial"/>
            </a:endParaRPr>
          </a:p>
        </p:txBody>
      </p:sp>
      <p:sp>
        <p:nvSpPr>
          <p:cNvPr id="139" name=""/>
          <p:cNvSpPr txBox="1"/>
          <p:nvPr/>
        </p:nvSpPr>
        <p:spPr>
          <a:xfrm>
            <a:off x="457200" y="1295280"/>
            <a:ext cx="822960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Ova bitna povreda postoji:</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ko presuda ima nedostataka zbog kojih se ne može ispitati,</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 osobito</a:t>
            </a:r>
            <a:r>
              <a:rPr b="0" lang="hr-HR" sz="2400" spc="-1" strike="noStrike">
                <a:solidFill>
                  <a:srgbClr val="000000"/>
                </a:solidFill>
                <a:latin typeface="Arial"/>
              </a:rPr>
              <a:t>:</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ko je izreka presude nerazumlj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ko proturječi sama sebi ili razlozima presude,</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li ako presuda nema uopće razlog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li u njoj nisu navedeni razlozi o odlučnim činjenicam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li su ti razlozi nejasni ili proturječni,</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li ako o odlučim činjenicama postoji proturječnost između onoga što se u razlozima presude navodi o sadržaju isprava ili zapisnika o iskazima danim u postupku i samih tih isprava ili zapisnik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371240"/>
            <a:ext cx="8229600" cy="4754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Ovu povredu treba dovesti u svezu s odredbom čl. 338. ZPP koja propisuje što treba sadržavati presuda.</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a ovu povredu sud drugog stupnja pazi po službenoj dužnosti. Zbog nje se može izjaviti redovna revizija, ali ne i prijedlog za ponavljanje postupka.</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Ako se ona odnosi na dio presude, glede nekog od zahtjeva ili prema nekom od više suparničara može se ukinuti samo u tom dijelu.</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aksa:</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esuda nema razloga o odlučnim činjenicama i onda kada sud nije obrazložio koje činjenice važne za odluku smatra istinitima i na čemu zasniva tu svoju odluku ili kad su u obrazloženju navedeni samo izvedeni dokazi i drugi procesni materijal, a izostali su zaključak i ocjena tih dokaza, kada ne postoje razlozi o tome kojim je dokazima sud poklonio vjeru, a kojima nije te iz kojih je razloga tako postupio." (VS, II Rev-76/81 od 26. 5. 1982.)</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ije razumljiva odluka u kojoj sud nije naveo koje je materijalnopravne propise primijenio, a to se ne može razumjeti niti iz teksta obrazloženja. Time sud čini bitnu povredu iz čl. 354. st. 2. toč. 13. (sada 11.) ZPP" (OS Zagreb Gž – 4316/87 od 30. 6. 198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Izreka presude mora biti određena tako da bi sudska odluka mogla steći svojstvo izvršne isprave. Tuženik iz izreke presude mora znati što treba činiti, propustiti ili trpjeti." (VTSRH Pž- 2476/96 od 29. 1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12.</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Bitna povreda postoji:</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o je presudom prekoračen tužbeni zahtjev.</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d drugog stupnja povodom žalbe ne pazi na ovu bitnu povredu.</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Dopuštena je redovna revizija ali se ne može podnijeti prijedlog za ponavljanje postupka.</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ak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d prekoračuje tužbeni zahtjev kad svoju odluku utemelji na činjeničnoj osnovi drukčijoj od one na koju se pozvao tužitelj." (VS Rev-2790/91 od 11. 3. 199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Kad tužitelj zahtijeva određeni novčani iznos izražen u stranoj valuti iako ima pravo potraživati samo iznos izražen u hrvatskim kunama, sud može (ako ocijeni tužiteljev zahtjev osnovanim) obvezati tuženika na isplatu novčanog iznosa izraženog u kunama. Time sud nije prekoračio tužbeni zahtjev."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vi-VN" sz="3200" spc="-1" strike="noStrike">
                <a:solidFill>
                  <a:srgbClr val="000000"/>
                </a:solidFill>
                <a:latin typeface="Arial"/>
              </a:rPr>
              <a:t>(VTSRH Pž 592/03 od 31. 8.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13.</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va bitna povreda posto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o je odlučeno u povodu nepravodobno podnesene tužbe, a zbog toga je tužbu trebalo odbaciti (članak 282. st.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APSOLUTNO BITNE POVREDE</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psolutno bitne povrede su one povrede odredaba parničnog postupka koje su u zakonu taksativno navedene (čl. 354. st. 2. ZPP) i uz čije postojanje se veže predmnjeva da su dovele da presuda bude nepravilna i/ili nezakonita, neovisno o tome jesu li konkretno dovele do te posljed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OČ. 14.</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Ova bitna povreda postoj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ako prije podnošenja tužbe nije proveden zakonom predviđen postupak mirnog ili drukčijeg ostvarivanja prava, a zbog toga je tužbu trebalo odbaci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ELATIVNO BITNE POVREDE</a:t>
            </a: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postoj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ako  sud tijekom postupka nije primijenio ili je pogrešno primijenio neku odredbu Zakona a to je BILO ili MOGLO biti od utjecaja na donošenje zakonite i pravilne presu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Bitno je da je ona u KONKRETNOM SLUČAJU  dovela ili mogla dovesti do donošenja nezakonite i nepravilne presu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Na relativno bitne povrede u povodu žalbe sud drugog stupnja ne pazi po službenoj dužnosti, niti se zbog nje može tražiti ponavljanje postupka.</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LASIFIKACIJA</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procesnim pretpostavkam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postupanju</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e pravila o odlučivanju</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VREDE PRAVILA O PROCESNIM PRETPOSTAVKAMA</a:t>
            </a:r>
            <a:endParaRPr b="0" lang="en-US" sz="4000" spc="-1" strike="noStrike">
              <a:solidFill>
                <a:srgbClr val="000000"/>
              </a:solidFill>
              <a:latin typeface="Arial"/>
            </a:endParaRPr>
          </a:p>
        </p:txBody>
      </p:sp>
      <p:sp>
        <p:nvSpPr>
          <p:cNvPr id="93" name=""/>
          <p:cNvSpPr txBox="1"/>
          <p:nvPr/>
        </p:nvSpPr>
        <p:spPr>
          <a:xfrm>
            <a:off x="533520" y="190512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koje se tiču suda</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a pravila o izuzeću, sastavu suda, sudskoj nadležnosti, o stvarnoj i mjesnoj nadležnosti)</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koje se tiču stranaka</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o stranačkoj i parničnoj sposobnosti</a:t>
            </a:r>
            <a:r>
              <a:rPr b="0" lang="hr-HR" sz="2200" spc="-1" strike="noStrike">
                <a:solidFill>
                  <a:srgbClr val="000000"/>
                </a:solidFill>
                <a:latin typeface="Arial"/>
              </a:rPr>
              <a:t>,</a:t>
            </a:r>
            <a:r>
              <a:rPr b="0" lang="vi-VN" sz="2200" spc="-1" strike="noStrike">
                <a:solidFill>
                  <a:srgbClr val="000000"/>
                </a:solidFill>
                <a:latin typeface="Arial"/>
              </a:rPr>
              <a:t> te o zastupanju)</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koja se tiču zabrane dvostrukog suđenja</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koja se tiču pravovremenosti podnošenja tužbe</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Povrede pravila koje se odnose na obvezu provođenja zakonom predviđenog postupka mirnog ili drukčijeg ostvarenja prava</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OVREDA PRAVILA O POSTUPANJU</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a pravila o kontradiktornom raspravljanju pred sudom</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a pravila o javnosti glavne rasprav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vreda pravila o upotrebi jezik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VREDA PRAVILA O ODLUČIVANJU</a:t>
            </a:r>
            <a:endParaRPr b="0" lang="en-US" sz="40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kad je presuda utemeljena na nedopuštenim raspolaganjima stranaka</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otivno odredbama ZPP koji se tiču donošenja presude na temelju priznanja, na temelju odricanja, zbog ogluhe, zbog izostanka i bez održavanja rasprave</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prekoračenje tužbenog zahtjeva</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donošenje presude s nedostacima zbog kojih se ne može ispitati</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ta Lazarin</dc:creator>
  <dc:description/>
  <dc:language>en-US</dc:language>
  <cp:lastModifiedBy>wsadmin</cp:lastModifiedBy>
  <dcterms:modified xsi:type="dcterms:W3CDTF">2018-05-18T10:25:07Z</dcterms:modified>
  <cp:revision>6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