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B5D9-F342-4B1C-92AF-866A10BCFD2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B8B5-E575-43C3-BE38-096C902E85F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D969-8E43-434E-B1AB-F66A7372BC0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2775-5C66-4033-B169-61814BF8975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0659-B493-44E5-80EE-5576FA36B2C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B76B-ECF3-4022-90A1-EAF0498A225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9DC8-A7AF-4576-B148-9289A53C635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4411-F33B-48EB-A271-4F5882261C3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4311-955C-452D-A765-0E1F6F90BAA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E1B1-36C2-442D-8046-37849E16A96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6646-2E52-47DE-9706-73DB0B85686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9AD2-CF38-41A2-8DF3-4843E19D714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7B0B-47D7-4A89-BEBF-F93DC26A148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7520-A2ED-4E4D-892D-89B48F8F94E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24E0-26E6-4D06-9C7F-2C4F4C36AEE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4463-C2A4-425A-B9C7-F6F15032ED9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0E5E-E38D-477F-B2C4-D1107F1B5FC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B47A-B673-4508-92F5-9E4B43DD729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D1B8-2A65-4800-A022-DC210C0C014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0A4F-EE51-425C-853C-ADF61808096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32E7-A3F0-4C78-A63D-A8A761BBB2C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D67A-52FE-4637-99AD-B622871B17F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A6E-6445-4B7B-811F-3E8D02A6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222-9FA3-4888-B627-6898D4E1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186-D804-4720-94BF-94AF1536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5A5-43CE-443A-B5A5-D7D6736D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7E4B-7F20-4954-AD61-873EE443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B016-6A6B-4F31-B69A-B244DCCF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8E83-12A6-4BC1-A5ED-C740364E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221F-F5EA-434B-BE99-12F46661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89CC-EA51-41F3-AE48-908AD010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9660-0A3A-40B3-9094-92365A0B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867E-FD00-4DF0-9010-830D0F0E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82B-D376-4A1B-BECA-3C6BF124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40DF-A31A-402A-AABA-F272A53B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9FB6-D0B8-4F74-8644-4D4AB4DA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2968-C431-4506-8D1C-6C7B23F3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D421-E8A9-4A48-B272-9CAEC1E7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80C8-7CF2-4D76-805D-95F8F336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B75-5996-4A3B-BF0B-79CF96B1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838-2F29-41C9-B1D1-69BC49CA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496-85CB-4186-B91B-FCFC57DB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1BC-E227-46C2-B994-54B9E92D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C7A-470B-4261-B774-3C1F76E5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0EA-7343-4865-822C-634885CD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D25-A844-486E-A052-B2A88BF0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D800-884B-45CC-8529-25474B35CE1C}" type="datetime">
              <a:rPr b="0" lang="sr-Latn-CS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21F1-100E-4331-9B63-210180211BF1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0A18-5259-415A-995D-538A28D29878}" type="datetime">
              <a:rPr b="0" lang="sr-Latn-CS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81EE-5CB7-4464-BCB2-DC9E7841945A}" type="slidenum">
              <a:rPr b="0" lang="hr-H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07280" cy="568800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Arial"/>
                <a:ea typeface="Arial"/>
              </a:rPr>
              <a:t>Najčešće greške kod pisanja prvostupanjskih presuda u građanskim predmetima</a:t>
            </a:r>
            <a:br>
              <a:rPr sz="4800"/>
            </a:br>
            <a:br>
              <a:rPr sz="4800"/>
            </a:b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Zagreb, 21. svibnja 20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188640"/>
            <a:ext cx="670716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Uvod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856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Najčešće pogrešk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„…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Josipu  Banoviću   odvjetniku         iz Zagreba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umjes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„…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Josipu Banoviću odvjetniku            u Zagrebu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188640"/>
            <a:ext cx="670716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Uvod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856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Najčešće pogrešk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„…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01. 07. 2013. g. 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umjes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„…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1. srpnja 2013.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188640"/>
            <a:ext cx="670716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Izreka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Arial"/>
                <a:ea typeface="Arial"/>
              </a:rPr>
              <a:t>Izreka je najvažniji dio presu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Sadržaj izreke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Čl. 338 st. 3. ZPP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188640"/>
            <a:ext cx="670716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Izreka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Arial"/>
                <a:ea typeface="Arial"/>
              </a:rPr>
              <a:t>p r e s u d i o   j 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Arial"/>
                <a:ea typeface="Arial"/>
              </a:rPr>
              <a:t>r i j e š i o   j 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000000"/>
                </a:solidFill>
                <a:latin typeface="Arial"/>
                <a:ea typeface="Arial"/>
              </a:rPr>
              <a:t>(čl. 62. st. 8. Sudskog poslovnika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188640"/>
            <a:ext cx="655488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Izreka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856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Najčešće pogrešk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- prekoračenje tužbenog zaht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- izreka presude nerazumljiva, nepodobna za ovr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- pisanje novčanih svota samo brojev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- izostanak roka za dobrovoljno ispunjenje činid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- izostanak odluke o kamatnoj sto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- prijetnja ovrh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188640"/>
            <a:ext cx="670716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Obrazloženje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856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Sadržaj obrazlože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Čl. 338 st. 4. ZPP-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Čl. 62. st. 8. Sudskog poslovn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- komu je obrazloženje namijenjen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188640"/>
            <a:ext cx="678348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Obrazloženje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79280" y="2349360"/>
            <a:ext cx="8856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Čl. 62. st. 8  Sudskog poslovn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Obrazlože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480" y="188640"/>
            <a:ext cx="663120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Obrazloženje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79280" y="1699920"/>
            <a:ext cx="885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Arial"/>
                <a:ea typeface="Arial"/>
              </a:rPr>
              <a:t>Obrazloženje u stvarnom smislu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Arial"/>
                <a:ea typeface="Arial"/>
              </a:rPr>
              <a:t>- koje je sud činjenice utvrdio i zaš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Arial"/>
                <a:ea typeface="Arial"/>
              </a:rPr>
              <a:t>- koje činjenice nije utvrđivao i zaš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Arial"/>
                <a:ea typeface="Arial"/>
              </a:rPr>
              <a:t>- kojim tvrdnjama je povjerovao i zaš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Arial"/>
                <a:ea typeface="Arial"/>
              </a:rPr>
              <a:t>- kojim tvrdnjama nije povjerovao i zaš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5120" y="188640"/>
            <a:ext cx="647856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Obrazloženje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9280" y="1699920"/>
            <a:ext cx="885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Arial"/>
                <a:ea typeface="Arial"/>
              </a:rPr>
              <a:t>Obrazloženje u pravnom smislu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Arial"/>
                <a:ea typeface="Arial"/>
              </a:rPr>
              <a:t>koja je pravna pravila sud primijenio na konkretni slučaj i zaš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000000"/>
                </a:solidFill>
                <a:latin typeface="Arial"/>
                <a:ea typeface="Arial"/>
              </a:rPr>
              <a:t>koja slična pravna pravila nije primijenio i zaš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188640"/>
            <a:ext cx="663120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Obrazloženje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856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Kama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tijek kam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kamatna stopa (na kunska i devizna sredstv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Troškovi postupk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zahtjev za naknadu trošk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uspjeh u spo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8660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Presuda - poj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 Unicode MS"/>
                <a:ea typeface="Arial"/>
              </a:rPr>
              <a:t>Čl. 325 st. 1. ZPP-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 Unicode MS"/>
                <a:ea typeface="Arial"/>
              </a:rPr>
              <a:t>„</a:t>
            </a:r>
            <a:r>
              <a:rPr b="0" lang="hr-HR" sz="3600" spc="-1" strike="noStrike">
                <a:solidFill>
                  <a:srgbClr val="000000"/>
                </a:solidFill>
                <a:latin typeface="Arial Unicode MS"/>
                <a:ea typeface="Arial"/>
              </a:rPr>
              <a:t>Presudom sud odlučuje o zahtjevu koji se tiče glavne stvari i sporednih traženja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 Unicode MS"/>
                <a:ea typeface="Arial"/>
              </a:rPr>
              <a:t>Čl. 325 st. 2. i 3. ZPP-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Arial Unicode MS"/>
                <a:ea typeface="Arial"/>
              </a:rPr>
              <a:t>više zahtje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Arial Unicode MS"/>
                <a:ea typeface="Arial"/>
              </a:rPr>
              <a:t>više par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188640"/>
            <a:ext cx="663120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Obrazloženje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856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300" spc="-1" strike="noStrike">
                <a:solidFill>
                  <a:srgbClr val="000000"/>
                </a:solidFill>
                <a:latin typeface="Arial"/>
                <a:ea typeface="Arial"/>
              </a:rPr>
              <a:t>Najčešće pogrešk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prepisivanje čl. 8 ZPP-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nepovezivanje određenih dokaza s utvrđenim činjenicama i nepovezivanje utvrđenih činjenica s pravnim pravilima koja se primjenju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izostanak sažetka utvrđenih odlučnih činjen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nenavođenje pravnog propisa i izvora u kojem je objavl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188640"/>
            <a:ext cx="7072200" cy="165564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Sadržaj presude nakon obrazlož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79280" y="3141360"/>
            <a:ext cx="8856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Čl. 66.  Sudskog poslovn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Uputa o pravnom lije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adržaj presude nakon obrazlož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91404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D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- punomoćniku tužitelja uz rješenje o sudskoj pristojbi na presudu u iznosu od 1.000,00 k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punomoćniku tuženik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R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Presuda nepravomoć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Vidjeti upisnik „Pn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Kal. 30 d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U Zagrebu, 16. srpnja 2014. god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(potpis suc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188640"/>
            <a:ext cx="670716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Presuda - podj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8000" y="1773360"/>
            <a:ext cx="8928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- djelomična čl. 329 ZPP-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- međupresuda čl. 330 ZPP-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- na temelju priznanja čl. 331 ZPP-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- na temelju odricanja čl. 331a ZPP-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- zbog ogluhe čl. 331b ZPP-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- zbog  izostanka čl. 332 ZPP-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- bez održavanja glavne rasprave čl. 332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- stupnjevana presuda čl. 186b ZPP-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188640"/>
            <a:ext cx="678348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Presuda – sadržaj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  <a:ea typeface="Arial"/>
              </a:rPr>
              <a:t>- odnos ZPP-a i Sudskog poslovnik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  <a:ea typeface="Arial"/>
              </a:rPr>
              <a:t>- uvod pres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  <a:ea typeface="Arial"/>
              </a:rPr>
              <a:t>- izreka pres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  <a:ea typeface="Arial"/>
              </a:rPr>
              <a:t>- obrazložen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  <a:ea typeface="Arial"/>
              </a:rPr>
              <a:t>- uputa o pravnom lijek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188640"/>
            <a:ext cx="655488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Uvod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sadržaj uvoda presude – čl.338 st. 2 ZPP-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ZPP i Sudski poslovn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- najčešće pogreš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188640"/>
            <a:ext cx="670716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Uvod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856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GRB REPUBLIKE HRVATS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REPUBLIKA HRVAT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PĆINSKI GRAĐANSKI SUD U ZAGREB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Ulica grada Vukovara 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slovni broj: 1-P-123/13-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   I M E   R E P U B L I K E   H R V A T S K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 R E S U 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188640"/>
            <a:ext cx="678348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Uvod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856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GRB REPUBLIKE HRVATS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REPUBLIKA HRVAT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PĆINSKI GRAĐANSKI SUD U ZAGREB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Ulica grada Vukovara 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oslovni broj: 1-P-123/13-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   I M E   R E P U B L I K E   H R V A T S K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 R E S U 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 J E Š E N J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188640"/>
            <a:ext cx="670716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Uvod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85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Poslovni broj: 1-P-123/13-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9640" y="2924280"/>
          <a:ext cx="7920000" cy="3809880"/>
        </p:xfrm>
        <a:graphic>
          <a:graphicData uri="http://schemas.openxmlformats.org/drawingml/2006/table">
            <a:tbl>
              <a:tblPr/>
              <a:tblGrid>
                <a:gridCol w="1368360"/>
                <a:gridCol w="6551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ni broj suc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jem je predmet dodijeljen u r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tica naziva upisnika u kojem je upisan spis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ni broj upisa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dina u kojoj je spis unesen u upisn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bro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188640"/>
            <a:ext cx="6707160" cy="934920"/>
          </a:xfrm>
          <a:prstGeom prst="rect">
            <a:avLst/>
          </a:prstGeom>
          <a:noFill/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Uvod pres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856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Najčešće pogreške: sklanjanje muških imena i prezimena u padežima np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„…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po sucu Marku Martić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umjes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„… 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po sucu Marku  Martić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ita Lazarin</dc:creator>
  <dc:description/>
  <dc:language>en-US</dc:language>
  <cp:lastModifiedBy>wsadmin</cp:lastModifiedBy>
  <dcterms:modified xsi:type="dcterms:W3CDTF">2018-05-15T09:53:19Z</dcterms:modified>
  <cp:revision>6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