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46E73-F11C-4466-A19D-EA01A1994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C8C04-3CAC-49AF-B1D5-E85561F28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EA430-6ACC-41DB-9042-313F5DC6B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11B22-0DB7-4655-858E-5C63ABBDC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EA3C4-D43C-434D-B09A-A1B49C4D9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1E86A-E454-4DD0-AA3C-340EC4F30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C3796-7800-4AD4-A66B-73D717C38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5CC12-E22A-4164-B4C4-DD94EA64B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D91A9-4E3B-41D9-A3DC-CD4A4DB3F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0A3F9-F888-492C-AF4E-5EB4527F4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4932F-0819-44E3-B370-2CD77E59C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4589E-C306-4782-AD4E-D0C5911EE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BAA8F-42D5-431A-90F5-387A86839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F324C-CFFA-4E56-AA14-827AA1935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58CE8-E36C-4CBA-BBDE-BBA1D2F91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A71A7-A3C5-4D46-8DFA-00ACB7BED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09643-48E7-4BB5-810E-0D12AE20C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5FEC4-4998-4ED5-86F1-1DB485BC5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60E67-F92B-46A9-A3A2-63C29962F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E15BF-AABC-4D5A-8EE8-5E1691911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08D96-043F-4ADC-AED5-889920D03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5D81E-79AE-4957-BC43-07A5A9243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E8009-AACE-42A1-92EB-3D657716A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73AE3-A624-4489-BE75-C472C81A5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A23D-F36F-4D70-93B4-9A5862B84896}" type="datetime">
              <a:rPr b="0" lang="sr-Latn-CS"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6ED2-2476-455E-852E-C316EE78FAF0}"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5141-D99D-473F-89EC-511DE7B2CFFE}" type="datetime">
              <a:rPr b="0" lang="sr-Latn-CS" sz="1200" spc="-1" strike="noStrike">
                <a:solidFill>
                  <a:srgbClr val="898989"/>
                </a:solidFill>
                <a:latin typeface="Arial"/>
              </a:rPr>
              <a:t>29.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1E50-7A3F-4458-A563-C6890E2335FC}" type="slidenum">
              <a:rPr b="0" lang="hr-H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984F-A3B4-48DC-97D2-1BDB0EAF42A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ISANA PRESUDA</a:t>
            </a:r>
            <a:r>
              <a:rPr b="1" lang="hr-HR" sz="4800" spc="-1" strike="noStrike">
                <a:solidFill>
                  <a:srgbClr val="000000"/>
                </a:solidFill>
                <a:latin typeface="Arial"/>
              </a:rPr>
              <a:t> </a:t>
            </a:r>
            <a:br>
              <a:rPr sz="4800"/>
            </a:br>
            <a:br>
              <a:rPr sz="4800"/>
            </a:br>
            <a:endParaRPr b="0" lang="en-US" sz="4800" spc="-1" strike="noStrike">
              <a:solidFill>
                <a:srgbClr val="000000"/>
              </a:solidFill>
              <a:latin typeface="Arial"/>
            </a:endParaRPr>
          </a:p>
        </p:txBody>
      </p:sp>
      <p:sp>
        <p:nvSpPr>
          <p:cNvPr id="84" name="PlaceHolder 2"/>
          <p:cNvSpPr>
            <a:spLocks noGrp="1"/>
          </p:cNvSpPr>
          <p:nvPr>
            <p:ph type="subTitle"/>
          </p:nvPr>
        </p:nvSpPr>
        <p:spPr>
          <a:xfrm>
            <a:off x="1332000" y="3141720"/>
            <a:ext cx="6696000" cy="3860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Izrada i obrazloženje pisane presude u građanskom postup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5A91-0E08-498D-A608-E015CA61597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Sudski poslovnik</a:t>
            </a:r>
            <a:br>
              <a:rPr sz="4000"/>
            </a:br>
            <a:r>
              <a:rPr b="1" lang="hr-HR" sz="2800" spc="-1" strike="noStrike">
                <a:solidFill>
                  <a:srgbClr val="000000"/>
                </a:solidFill>
                <a:latin typeface="Arial"/>
              </a:rPr>
              <a:t>“Narodne novine” br.37/14</a:t>
            </a:r>
            <a:r>
              <a:rPr b="0" lang="hr-HR" sz="4000" spc="-1" strike="noStrike">
                <a:solidFill>
                  <a:srgbClr val="000000"/>
                </a:solidFill>
                <a:latin typeface="Arial"/>
              </a:rPr>
              <a:t> </a:t>
            </a:r>
            <a:endParaRPr b="0" lang="en-US" sz="4000" spc="-1" strike="noStrike">
              <a:solidFill>
                <a:srgbClr val="000000"/>
              </a:solidFill>
              <a:latin typeface="Arial"/>
            </a:endParaRPr>
          </a:p>
        </p:txBody>
      </p:sp>
      <p:sp>
        <p:nvSpPr>
          <p:cNvPr id="111" name="PlaceHolder 2"/>
          <p:cNvSpPr>
            <a:spLocks noGrp="1"/>
          </p:cNvSpPr>
          <p:nvPr>
            <p:ph/>
          </p:nvPr>
        </p:nvSpPr>
        <p:spPr>
          <a:xfrm>
            <a:off x="395280" y="1599840"/>
            <a:ext cx="8291520" cy="4924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5) U ostalim sudskim odlukama u gornjem lijevom kutu stavit će se grb Republike Hrvatske u izvornim bojama, a ispod njega naziv »Republika Hrvatska«, te naziv i sjedište suda i sjedište stalne služb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 sredini iznad uvoda stavit će 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R E P U B L I K A H R V A T S K A«, a ispod toga stavit će se naziv odluk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 J E Š E NJ 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6) U gornjem desnom kutu u svim odlukama stavit će se poslovni broj spisa i podbroj pod kojim je donesena odluka. Ako se odluka sastoji od više listova, poslovni broj i podbroj pod kojim je donesena stavlja se na svaki list u gornjem desnom ku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D459-B7A6-4F79-A926-8AFFB0EF3A3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Sudski poslovnik</a:t>
            </a:r>
            <a:br>
              <a:rPr sz="4000"/>
            </a:br>
            <a:r>
              <a:rPr b="1" lang="hr-HR" sz="2800" spc="-1" strike="noStrike">
                <a:solidFill>
                  <a:srgbClr val="000000"/>
                </a:solidFill>
                <a:latin typeface="Arial"/>
              </a:rPr>
              <a:t>“Narodne novine” br.37/14</a:t>
            </a:r>
            <a:r>
              <a:rPr b="0" lang="hr-HR"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395280" y="1599840"/>
            <a:ext cx="8291520" cy="4924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7) U uvodu odluke, koju je donijelo vijeće, navode se imena svih članova vijeća, počevši od predsjednika vijeć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8) Ispod uvoda, a iznad teksta izreke, označit će se u posebnom redu, malim rastavljenim slovima bez podebljavanja, kakvu je odluku sud donio (»presudio je«, »riješio je« i sl.). Ispod izreke, a prije početka obrazloženja, stavlja se naslov »Obrazloženje« velikim početnim slovom, bez rastavljanja i podebljavanj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9) Ispod teksta obrazloženja, na sredini stranice stavlja se mjesto i datum objavljivanja odluke odnosno donošenja, a na desnoj polovici stranice potpis predsjednika vijeća ili suca pojedinca (ime i prezime), dok se na lijevoj polovici stranice stavlja potpis zapisničara, ako je to propisano pravilima odgovarajućeg postupk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10) Sudski pečat stavlja se lijevo od potpisa predsjednika vijeća ili suca pojedin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4076-819D-48B3-9586-2AA29005227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Black"/>
              </a:rPr>
              <a:t>Uvod presude</a:t>
            </a:r>
            <a:endParaRPr b="0" lang="en-US" sz="4400" spc="-1" strike="noStrike">
              <a:solidFill>
                <a:srgbClr val="000000"/>
              </a:solidFill>
              <a:latin typeface="Arial"/>
            </a:endParaRPr>
          </a:p>
        </p:txBody>
      </p:sp>
      <p:sp>
        <p:nvSpPr>
          <p:cNvPr id="117" name="PlaceHolder 2"/>
          <p:cNvSpPr>
            <a:spLocks noGrp="1"/>
          </p:cNvSpPr>
          <p:nvPr>
            <p:ph/>
          </p:nvPr>
        </p:nvSpPr>
        <p:spPr>
          <a:xfrm>
            <a:off x="-360" y="1915920"/>
            <a:ext cx="8913960" cy="4608360"/>
          </a:xfrm>
          <a:prstGeom prst="rect">
            <a:avLst/>
          </a:prstGeom>
          <a:noFill/>
          <a:ln w="0">
            <a:noFill/>
          </a:ln>
        </p:spPr>
        <p:txBody>
          <a:bodyPr anchor="t">
            <a:normAutofit/>
          </a:bodyPr>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                                                                                       </a:t>
            </a:r>
            <a:r>
              <a:rPr b="1" lang="hr-HR" sz="1600" spc="-1" strike="noStrike">
                <a:solidFill>
                  <a:srgbClr val="000000"/>
                </a:solidFill>
                <a:latin typeface="Arial Black"/>
              </a:rPr>
              <a:t>Posl.br. P-155/2014</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	</a:t>
            </a:r>
            <a:r>
              <a:rPr b="1" lang="hr-HR" sz="2000" spc="-1" strike="noStrike">
                <a:solidFill>
                  <a:srgbClr val="000000"/>
                </a:solidFill>
                <a:latin typeface="Arial"/>
              </a:rPr>
              <a:t>	</a:t>
            </a:r>
            <a:r>
              <a:rPr b="1" lang="hr-HR" sz="2000" spc="-1" strike="noStrike">
                <a:solidFill>
                  <a:srgbClr val="000000"/>
                </a:solidFill>
                <a:latin typeface="Arial"/>
              </a:rPr>
              <a:t>        </a:t>
            </a:r>
            <a:r>
              <a:rPr b="0" lang="hr-HR" sz="2000" spc="-1" strike="noStrike">
                <a:solidFill>
                  <a:srgbClr val="000000"/>
                </a:solidFill>
                <a:latin typeface="Arial Black"/>
              </a:rPr>
              <a:t>U  I M E  R E P U B L I K E  H R V A T S K 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Black"/>
              </a:rPr>
              <a:t>	</a:t>
            </a:r>
            <a:r>
              <a:rPr b="0" lang="hr-HR" sz="2000" spc="-1" strike="noStrike">
                <a:solidFill>
                  <a:srgbClr val="000000"/>
                </a:solidFill>
                <a:latin typeface="Arial Black"/>
              </a:rPr>
              <a:t>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Black"/>
              </a:rPr>
              <a:t>                                       </a:t>
            </a:r>
            <a:r>
              <a:rPr b="1" lang="hr-HR" sz="1800" spc="-1" strike="noStrike">
                <a:solidFill>
                  <a:srgbClr val="000000"/>
                </a:solidFill>
                <a:latin typeface="Arial Black"/>
              </a:rPr>
              <a:t>P R E S U D A</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Općinski građanski sud u Zagrebu, po sucu pojedincu Anti Antiću, u pravnoj stvari tužitelja Hrvoja Horvata (OIB) iz Zagreba, Borongaj 12, zastupanog po punomoćnici Vesni Vesnić, odvjetnici u Zagrebu, protiv tuženice Kate Katić (OIB) iz Splita, Obala 13, zastupane po punomoćniku Radi Radiću, odvjetniku u Splitu, radi naknade štete, nakon održane i zaključene glavne rasprave dana 13. listopada 2013. godine, u nazočnosti punomoćnika stranaka, dana 28. listopada 2013. god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522E-5780-4CBD-93CC-38A39ECF905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19" name="PlaceHolder 1"/>
          <p:cNvSpPr>
            <a:spLocks noGrp="1"/>
          </p:cNvSpPr>
          <p:nvPr>
            <p:ph/>
          </p:nvPr>
        </p:nvSpPr>
        <p:spPr>
          <a:xfrm>
            <a:off x="457200" y="685800"/>
            <a:ext cx="8686800" cy="489600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Black"/>
              </a:rPr>
              <a:t>Uvod presude sadrži: </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1" lang="hr-HR" sz="2400" spc="-1" strike="noStrike">
                <a:solidFill>
                  <a:srgbClr val="000000"/>
                </a:solidFill>
                <a:latin typeface="Arial"/>
              </a:rPr>
              <a:t>- naznaku da se presuda izriče u ime RH, </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naziv suda, </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ime i prezime suca pojedinca, </a:t>
            </a:r>
            <a:r>
              <a:rPr b="1" lang="hr-HR" sz="1600" spc="-1" strike="noStrike">
                <a:solidFill>
                  <a:srgbClr val="000000"/>
                </a:solidFill>
                <a:latin typeface="Arial"/>
              </a:rPr>
              <a:t>odnosno predsjednika vijeća, suca izvjestitelja i članova vijeća</a:t>
            </a:r>
            <a:r>
              <a:rPr b="1" lang="hr-HR" sz="2400" spc="-1" strike="noStrike">
                <a:solidFill>
                  <a:srgbClr val="000000"/>
                </a:solidFill>
                <a:latin typeface="Arial"/>
              </a:rPr>
              <a:t>, </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ime i prezime ili naziv, OIB te prebivalište ili boravište, odnosno sjedište stranaka, </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njihovih zastupnika i punomoćnika, </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kratku oznaku predmeta spora, </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dan zaključenja glavne rasprave, </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naznaku stranaka, njihovih zastupnika i punomoćnika </a:t>
            </a:r>
            <a:r>
              <a:rPr b="1" lang="hr-HR" sz="2400" spc="-1" strike="noStrike" u="sng">
                <a:solidFill>
                  <a:srgbClr val="000000"/>
                </a:solidFill>
                <a:uFillTx/>
                <a:latin typeface="Arial"/>
              </a:rPr>
              <a:t>koji su toj raspravi prisustvovali</a:t>
            </a:r>
            <a:r>
              <a:rPr b="1" lang="hr-HR" sz="2400" spc="-1" strike="noStrike">
                <a:solidFill>
                  <a:srgbClr val="000000"/>
                </a:solidFill>
                <a:latin typeface="Arial"/>
              </a:rPr>
              <a:t> te </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u="sng">
                <a:solidFill>
                  <a:srgbClr val="000000"/>
                </a:solidFill>
                <a:uFillTx/>
                <a:latin typeface="Arial"/>
              </a:rPr>
              <a:t>dan kad je presuda donesena-To je dan objave presude!</a:t>
            </a: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0B77-6901-45EA-8920-76699929A04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Black"/>
              </a:rPr>
              <a:t>IZREKA PRESUDE</a:t>
            </a:r>
            <a:endParaRPr b="0" lang="en-US" sz="4400" spc="-1" strike="noStrike">
              <a:solidFill>
                <a:srgbClr val="000000"/>
              </a:solidFill>
              <a:latin typeface="Arial"/>
            </a:endParaRPr>
          </a:p>
        </p:txBody>
      </p:sp>
      <p:sp>
        <p:nvSpPr>
          <p:cNvPr id="122" name="PlaceHolder 2"/>
          <p:cNvSpPr>
            <a:spLocks noGrp="1"/>
          </p:cNvSpPr>
          <p:nvPr>
            <p:ph/>
          </p:nvPr>
        </p:nvSpPr>
        <p:spPr>
          <a:xfrm>
            <a:off x="0" y="1341360"/>
            <a:ext cx="9144000" cy="5068800"/>
          </a:xfrm>
          <a:prstGeom prst="rect">
            <a:avLst/>
          </a:prstGeom>
          <a:noFill/>
          <a:ln w="0">
            <a:noFill/>
          </a:ln>
        </p:spPr>
        <p:txBody>
          <a:bodyPr anchor="t">
            <a:normAutofit fontScale="99000"/>
          </a:bodyPr>
          <a:p>
            <a:pPr lvl="3" marL="1584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1" lang="hr-HR" sz="2400" spc="-1" strike="noStrike">
                <a:solidFill>
                  <a:srgbClr val="000000"/>
                </a:solidFill>
                <a:latin typeface="Arial"/>
              </a:rPr>
              <a:t>p r e s u d i o    j e</a:t>
            </a:r>
            <a:endParaRPr b="0" lang="en-US" sz="2400" spc="-1" strike="noStrike">
              <a:solidFill>
                <a:srgbClr val="000000"/>
              </a:solidFill>
              <a:latin typeface="Arial"/>
            </a:endParaRPr>
          </a:p>
          <a:p>
            <a:pPr lvl="3" marL="1584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1" lang="hr-HR" sz="2400" spc="-1" strike="noStrike">
                <a:solidFill>
                  <a:srgbClr val="000000"/>
                </a:solidFill>
                <a:latin typeface="Arial"/>
              </a:rPr>
              <a:t>1. Nalaže se tuženici na ime naknade štete isplatiti tužitelju 20.500,00 kn (dvadesettisuća petstokuna) sa zakonskim zateznim kamatama tekućim od 14. 12. 2007. do  31. 12. 2007. godine po stopi od 15% godišnje*, te od 1. siječnja 2008. do isplate po stopi koja se određuje za svako polugodište, uvećanjem eskontne stope HNB koja je vrijedila zadnjeg dana polugodišta koje je prethodilo tekućem polugodištu za pet postotnih poena, u roku od 15 dana.</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2. Odbija se tužbeni zahtjev u preostalom dijelu u iznosu od 3.000,00 kn (tritisuće kuna).</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3. Nalaže se tuženici naknaditi tužitelju troškove postupka od 3.750,00 kn (tritisućesedamstopedeset kuna), u roku od 15 da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121F-3E97-4D73-9592-52EB91BCFF9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24" name="PlaceHolder 1"/>
          <p:cNvSpPr>
            <a:spLocks noGrp="1"/>
          </p:cNvSpPr>
          <p:nvPr>
            <p:ph/>
          </p:nvPr>
        </p:nvSpPr>
        <p:spPr>
          <a:xfrm>
            <a:off x="304920" y="762120"/>
            <a:ext cx="8362800" cy="5581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Black"/>
              </a:rPr>
              <a:t>Dosuđujući dio izrek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a:t>
            </a:r>
            <a:r>
              <a:rPr b="0" lang="hr-HR" sz="2800" spc="-1" strike="noStrike">
                <a:solidFill>
                  <a:srgbClr val="000000"/>
                </a:solidFill>
                <a:latin typeface="Arial"/>
              </a:rPr>
              <a:t>1. </a:t>
            </a:r>
            <a:r>
              <a:rPr b="1" lang="hr-HR" sz="2800" spc="-1" strike="noStrike">
                <a:solidFill>
                  <a:srgbClr val="000000"/>
                </a:solidFill>
                <a:latin typeface="Arial"/>
              </a:rPr>
              <a:t>Nalaže se</a:t>
            </a:r>
            <a:r>
              <a:rPr b="0" lang="hr-HR" sz="2800" spc="-1" strike="noStrike">
                <a:solidFill>
                  <a:srgbClr val="000000"/>
                </a:solidFill>
                <a:latin typeface="Arial"/>
              </a:rPr>
              <a:t> tuženici na ime naknade štete isplatiti tužitelju 20.500,00 kn (dvadeset tisućapetsto kuna) sa zakonskim zateznim kamatama tekućim od 14. 12. 2007. do  31. 12. 2007. godine po stopi od 15% godišnje*, te od 1. siječnja 2008. do isplate po stopi koja se određuje za svako polugodište, uvećanjem eskontne stope HNB koja je vrijedila zadnjeg dana polugodišta koje je prethodilo tekućem polugodištu za pet postotnih poe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u roku od 15 d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1AD8-7746-4DE7-B839-F82C3EC1D31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26" name="PlaceHolder 1"/>
          <p:cNvSpPr>
            <a:spLocks noGrp="1"/>
          </p:cNvSpPr>
          <p:nvPr>
            <p:ph/>
          </p:nvPr>
        </p:nvSpPr>
        <p:spPr>
          <a:xfrm>
            <a:off x="539280" y="980640"/>
            <a:ext cx="8363160" cy="5581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Odbijajući dio izre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a:t>
            </a:r>
            <a:r>
              <a:rPr b="0" lang="hr-HR" sz="3200" spc="-1" strike="noStrike">
                <a:solidFill>
                  <a:srgbClr val="000000"/>
                </a:solidFill>
                <a:latin typeface="Arial"/>
              </a:rPr>
              <a:t>2. Odbija se tužbeni zahtjev u preostalom dijelu u iznosu od 3.000,00 kn (tritisuće ku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A08F-7199-46EA-8B53-83E33D7668D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28" name="PlaceHolder 1"/>
          <p:cNvSpPr>
            <a:spLocks noGrp="1"/>
          </p:cNvSpPr>
          <p:nvPr>
            <p:ph/>
          </p:nvPr>
        </p:nvSpPr>
        <p:spPr>
          <a:xfrm>
            <a:off x="539280" y="980640"/>
            <a:ext cx="8363160" cy="5581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Black"/>
              </a:rPr>
              <a:t>Odluka o parničnim troškovim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Black"/>
              </a:rPr>
              <a:t>(po svojoj pravnoj prirodi – rješenj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a:t>
            </a:r>
            <a:r>
              <a:rPr b="0" lang="hr-HR" sz="3200" spc="-1" strike="noStrike">
                <a:solidFill>
                  <a:srgbClr val="000000"/>
                </a:solidFill>
                <a:latin typeface="Arial"/>
              </a:rPr>
              <a:t>3. Nalaže se tuženici naknaditi tužitelju troškove postupka od 3.750,00 kn (tritisućesedamstopedeset kuna), u roku od 15 d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96AE-03F3-46AC-B2B8-9AE3E9A4D96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30" name="PlaceHolder 1"/>
          <p:cNvSpPr>
            <a:spLocks noGrp="1"/>
          </p:cNvSpPr>
          <p:nvPr>
            <p:ph/>
          </p:nvPr>
        </p:nvSpPr>
        <p:spPr>
          <a:xfrm>
            <a:off x="304920" y="762120"/>
            <a:ext cx="8362800" cy="5510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Black"/>
              </a:rPr>
              <a:t>Izreka</a:t>
            </a:r>
            <a:r>
              <a:rPr b="0" lang="hr-HR" sz="3200" spc="-1" strike="noStrike">
                <a:solidFill>
                  <a:srgbClr val="000000"/>
                </a:solidFill>
                <a:latin typeface="Arial Black"/>
              </a:rPr>
              <a:t> presude sadrž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odluku suda o</a:t>
            </a:r>
            <a:endParaRPr b="0" lang="en-US" sz="3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r>
              <a:rPr b="1" lang="hr-HR" sz="3600" spc="-1" strike="noStrike" u="sng">
                <a:solidFill>
                  <a:srgbClr val="000000"/>
                </a:solidFill>
                <a:uFillTx/>
                <a:latin typeface="Arial"/>
              </a:rPr>
              <a:t>prihvaćanju</a:t>
            </a:r>
            <a:r>
              <a:rPr b="0" lang="hr-HR" sz="3200" spc="-1" strike="noStrike" u="sng">
                <a:solidFill>
                  <a:srgbClr val="000000"/>
                </a:solidFill>
                <a:uFillTx/>
                <a:latin typeface="Arial"/>
              </a:rPr>
              <a:t> ili </a:t>
            </a:r>
            <a:r>
              <a:rPr b="1" lang="hr-HR" sz="3600" spc="-1" strike="noStrike" u="sng">
                <a:solidFill>
                  <a:srgbClr val="000000"/>
                </a:solidFill>
                <a:uFillTx/>
                <a:latin typeface="Arial"/>
              </a:rPr>
              <a:t>odbijanju</a:t>
            </a:r>
            <a:r>
              <a:rPr b="1" lang="hr-HR" sz="3600" spc="-1" strike="noStrike">
                <a:solidFill>
                  <a:srgbClr val="000000"/>
                </a:solidFill>
                <a:latin typeface="Arial"/>
              </a:rPr>
              <a:t> </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jedinih zahtjeva</a:t>
            </a:r>
            <a:r>
              <a:rPr b="0" lang="hr-HR" sz="2800" spc="-1" strike="noStrike">
                <a:solidFill>
                  <a:srgbClr val="000000"/>
                </a:solidFill>
                <a:latin typeface="Arial"/>
              </a:rPr>
              <a:t> koji se tič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u="sng">
                <a:solidFill>
                  <a:srgbClr val="000000"/>
                </a:solidFill>
                <a:uFillTx/>
                <a:latin typeface="Arial"/>
              </a:rPr>
              <a:t>glavne stvari,</a:t>
            </a:r>
            <a:r>
              <a:rPr b="0" lang="hr-HR" sz="3200" spc="-1" strike="noStrike">
                <a:solidFill>
                  <a:srgbClr val="000000"/>
                </a:solidFill>
                <a:latin typeface="Arial"/>
              </a:rPr>
              <a:t> i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1" lang="hr-HR" sz="3200" spc="-1" strike="noStrike" u="sng">
                <a:solidFill>
                  <a:srgbClr val="000000"/>
                </a:solidFill>
                <a:uFillTx/>
                <a:latin typeface="Arial"/>
              </a:rPr>
              <a:t>sporednih traženja </a:t>
            </a:r>
            <a:r>
              <a:rPr b="1" lang="hr-HR" sz="2400" spc="-1" strike="noStrike" u="sng">
                <a:solidFill>
                  <a:srgbClr val="000000"/>
                </a:solidFill>
                <a:uFillTx/>
                <a:latin typeface="Arial"/>
              </a:rPr>
              <a:t>(kamate i parnični troškovi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 </a:t>
            </a:r>
            <a:r>
              <a:rPr b="1" lang="hr-HR" sz="2800" spc="-1" strike="noStrike">
                <a:solidFill>
                  <a:srgbClr val="000000"/>
                </a:solidFill>
                <a:latin typeface="Arial"/>
              </a:rPr>
              <a:t>odluku o postojanju ili nepostojanju potraživanja istaknutog radi prebijanja</a:t>
            </a:r>
            <a:r>
              <a:rPr b="0" lang="hr-HR" sz="2800" spc="-1" strike="noStrike">
                <a:solidFill>
                  <a:srgbClr val="000000"/>
                </a:solidFill>
                <a:latin typeface="Arial"/>
              </a:rPr>
              <a:t> (članak 333).</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C0D7-D25D-44A1-AE0E-364662F7071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1.a) Izlaganje zahtjeva stranaka - tužitelj</a:t>
            </a:r>
            <a:endParaRPr b="0" lang="en-US" sz="4000" spc="-1" strike="noStrike">
              <a:solidFill>
                <a:srgbClr val="000000"/>
              </a:solidFill>
              <a:latin typeface="Arial"/>
            </a:endParaRPr>
          </a:p>
        </p:txBody>
      </p:sp>
      <p:sp>
        <p:nvSpPr>
          <p:cNvPr id="133" name="PlaceHolder 2"/>
          <p:cNvSpPr>
            <a:spLocks noGrp="1"/>
          </p:cNvSpPr>
          <p:nvPr>
            <p:ph/>
          </p:nvPr>
        </p:nvSpPr>
        <p:spPr>
          <a:xfrm>
            <a:off x="179280" y="1386000"/>
            <a:ext cx="8686800" cy="54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	</a:t>
            </a:r>
            <a:r>
              <a:rPr b="0" lang="hr-HR" sz="2400" spc="-1" strike="noStrike">
                <a:solidFill>
                  <a:srgbClr val="000000"/>
                </a:solidFill>
                <a:latin typeface="Arial"/>
              </a:rPr>
              <a:t>Tužitelj u tužbi, podnesenoj 14.12.2007. godine, navodi da ga je 28. rujna 2007. godine, prilikom šetnje u parku prirode Učka, napao i ozlijedio pas u vlasništvu tužiteljice. Tom prilikom, dok je šetao s prijateljicom, odjednom je iz šume iskočio pas, njemački ovčar, koji ga je odmah više puta ugrizao za lijevu nogu (potkoljenicu) i potom za jednu pa drugu ruku. Tužitelj je pokušao otjerati psa jednim komadom grane, međutim, pas se nije dao otjerati sve dok nije došla tuženica, koja ga je vezala za povodac. Tužitelj je rekao tuženici što se dogodilo, no ona je odgovorila da njezin pas nikad nikog nije ugrizao i da se čudi zašto je došlo do nap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1B62-E9BD-43A8-8134-DD78A086694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Black"/>
              </a:rPr>
              <a:t>Slobodna ocjena dokaza</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Black"/>
              </a:rPr>
              <a:t>Članak 8. ZPP</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je će činjenice uzeti kao dokazane, odlučuje sud prema svom uvjerenju na temelju savjesne i brižljive ocjene svakog dokaza zasebno i svih dokaza zajedno, a i na temelju rezultata cjelokupnog postupka.</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Black"/>
              </a:rPr>
              <a:t>Članak 220. ZPP</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kazivanje obuhvaća sve činjenice koje su važne za donošenje odluk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ud odlučuje o tome koje će od predloženih dokaza izvesti radi utvrđivanja odlučnih činjen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FA4D-A4FF-416D-A06F-498006E6C76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1.b) Izlaganje zahtjeva stranaka - tužitelj</a:t>
            </a:r>
            <a:endParaRPr b="0" lang="en-US" sz="4000" spc="-1" strike="noStrike">
              <a:solidFill>
                <a:srgbClr val="000000"/>
              </a:solidFill>
              <a:latin typeface="Arial"/>
            </a:endParaRPr>
          </a:p>
        </p:txBody>
      </p:sp>
      <p:sp>
        <p:nvSpPr>
          <p:cNvPr id="136"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užitelj u konačno postavljenom tužbenom zahtjevu traži da mu tuženica na ime naknade štete isplati ukupan iznos od 23.500,00 kn, i to za neimovinsku štetu zbog povrede prava osobnosti na tjelesno i duševno zdravlje iznos od 21.000,00 kn (fizičke bolove, strah i naruženost) te na ime imovinske štete uslijed uništenja odjeće (hlače, vjetrovka, košulja, čarape) u iznosu od 2.500,00 kn (za što je priložio predračun) sve to sa zakonskim zateznim kamatama tekućim od dana podnošenja tužbe 14.12.2007. godine  do isplat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27E6-5ED9-4261-9E79-4C4529907B6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Black"/>
              </a:rPr>
              <a:t>Obrazloženje</a:t>
            </a:r>
            <a:endParaRPr b="0" lang="en-US" sz="4400" spc="-1" strike="noStrike">
              <a:solidFill>
                <a:srgbClr val="000000"/>
              </a:solidFill>
              <a:latin typeface="Arial"/>
            </a:endParaRPr>
          </a:p>
        </p:txBody>
      </p:sp>
      <p:sp>
        <p:nvSpPr>
          <p:cNvPr id="139" name="PlaceHolder 2"/>
          <p:cNvSpPr>
            <a:spLocks noGrp="1"/>
          </p:cNvSpPr>
          <p:nvPr>
            <p:ph/>
          </p:nvPr>
        </p:nvSpPr>
        <p:spPr>
          <a:xfrm>
            <a:off x="179280" y="1386000"/>
            <a:ext cx="8686800" cy="54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	</a:t>
            </a:r>
            <a:r>
              <a:rPr b="0" lang="hr-HR" sz="2000" spc="-1" strike="noStrike">
                <a:solidFill>
                  <a:srgbClr val="000000"/>
                </a:solidFill>
                <a:latin typeface="Arial"/>
              </a:rPr>
              <a:t>Tužitelj u tužbi, podnesenoj 14.12.2007. godine, navodi da ga je dana 28. rujna 2007. godine, prilikom šetnje u parku prirode Učka, napao i ozlijedio pas u vlasništvu tužiteljice. Tom prilikom, dok je šetao s prijateljicom, odjednom je iz šume iskočio pas, njemački ovčar, koji ga je odmah više puta ugrizao za lijevu nogu (potkoljenicu) i potom za jednu pa drugu ruku. Tužitelj je pokušao otjerati psa jednim komadom grane, međutim, pas se nije dao otjerati sve dok nije došla tuženica, koja ga je vezala za povodac. Tužitelj je rekao tuženici što se dogodilo, no ona je odgovorila da njezin pas nikad nikog nije ugrizao i da se čudi zašto je došlo do napada. Tužitelj u konačno postavljenom tužbenom zahtjevu traži da mu tuženica na ime naknade štete isplati ukupan iznos od 23.500,00 kn, i to za neimovinsku štetu zbog povrede prava osobnosti na tjelesno i duševno zdravlje iznos od 21.000,00 kn, te na ime imovinske štete uslijed uništenja odjeće (hlače, vjetrovka, košulja, čarape) u iznosu od 2.500,00 kn, sve to sa zakonskim zateznim kamatama tekućim od dana štetnog događaja 10.11.2007. godine  do ispl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34EE-EEF2-4524-8C2F-95E8B7B3671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41" name="PlaceHolder 1"/>
          <p:cNvSpPr>
            <a:spLocks noGrp="1"/>
          </p:cNvSpPr>
          <p:nvPr>
            <p:ph/>
          </p:nvPr>
        </p:nvSpPr>
        <p:spPr>
          <a:xfrm>
            <a:off x="304920" y="533160"/>
            <a:ext cx="8663040" cy="575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r>
              <a:rPr b="1" lang="hr-HR" sz="3200" spc="-1" strike="noStrike">
                <a:solidFill>
                  <a:srgbClr val="000000"/>
                </a:solidFill>
                <a:latin typeface="Arial"/>
              </a:rPr>
              <a:t>2. </a:t>
            </a:r>
            <a:r>
              <a:rPr b="1" lang="hr-HR" sz="2800" spc="-1" strike="noStrike">
                <a:solidFill>
                  <a:srgbClr val="000000"/>
                </a:solidFill>
                <a:latin typeface="Arial"/>
              </a:rPr>
              <a:t>Izlaganje zahtjeva stranaka – tuženik </a:t>
            </a:r>
            <a:r>
              <a:rPr b="1" lang="hr-HR" sz="2800" spc="-1" strike="noStrike">
                <a:solidFill>
                  <a:srgbClr val="000000"/>
                </a:solidFill>
                <a:latin typeface="Arial"/>
              </a:rPr>
              <a:t>	</a:t>
            </a:r>
            <a:r>
              <a:rPr b="1" lang="hr-HR" sz="2800" spc="-1" strike="noStrike">
                <a:solidFill>
                  <a:srgbClr val="000000"/>
                </a:solidFill>
                <a:latin typeface="Arial"/>
              </a:rPr>
              <a:t>Odgovor na tužbu tužene strank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	</a:t>
            </a:r>
            <a:r>
              <a:rPr b="0" lang="hr-HR" sz="2800" spc="-1" strike="noStrike">
                <a:solidFill>
                  <a:srgbClr val="000000"/>
                </a:solidFill>
                <a:latin typeface="Arial"/>
              </a:rPr>
              <a:t>Tuženica se protivila tužbi i tužben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zahtjevu predlažući da se tužbeni zahtjev u cijelosti odbije. Nije osporila da je vlasnica psa, ali je navela da njezin pas nikad nikog nije ugrizao i da ga je tužitelj vjerojatno pokušao udariti granom pa da se pas, koji je star tek 11 mjeseci, prepao i zbog toga napao tužitelja. Smatra da je tužitelj sam kriv za svoju štetu, za koju ističe da je, uz ostalo, zatražena u previsokom iznos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E996-C9EA-4997-893A-CBD89A64279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3. Koji su dokazi izvedeni</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postupku su izvedeni dokazi uvidom u medicinsku dokumentaciju o liječenju tužitelja, liječničku potvrdu o ozljedama tužitelja (list 3 i 4 spisa), uvjerenje veterinarske stanice o cijepljenu psa i pismeno o vlasništvu psa (list 5 i 6 spisa), predračun tvrtke “Moda” d.o.o. (list 7 spisa), provedeno je vještačenje po stalnom sudskom vještaku kirurške struke dr. Dori Dorić (list 8 do 12 spisa), saslušana je svjedokinja Ivona Ivić (list 15 spisa) te su saslušane stranke (list 19 spi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19B3-DFAE-43D3-A37D-2AF87D698BA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4. Što je predmet spora</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redmet spora je zahtjev tužitelja za naknadu štete do koje došlo u štetnom događaju od 28. rujna 2007., kada ga je napao njemački ovč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D727-C1DB-4539-8386-376C50F34A9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5. Što je nesporno </a:t>
            </a:r>
            <a:br>
              <a:rPr sz="4000"/>
            </a:br>
            <a:r>
              <a:rPr b="1" lang="hr-HR" sz="4000" spc="-1" strike="noStrike">
                <a:solidFill>
                  <a:srgbClr val="000000"/>
                </a:solidFill>
                <a:latin typeface="Arial"/>
              </a:rPr>
              <a:t>u ovoj pravnoj stvari</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Među strankama nije sporno da je tužitelj stradao uslijed napada psa u vlasništvu tuženice, a nije sporno niti  to da je tužitelj tom prilikom pretrpio višestruke ozljede u vidu ugriza lijeve noge i obje ruke, odnosno da je trpio fizičke bolove i strah, kao i da mu je na ozlijeđenom dijelu tijela zaostala vidljiva naruženost</a:t>
            </a:r>
            <a:r>
              <a:rPr b="0" lang="hr-H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1FA1-F102-4D91-9737-5725C4F2940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6. Što je sporno</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Sporna je pravna osnova tužbenog zahtjeva, odnosno pitanje da li je tuženica u cijelosti odgovorna za štetni događaj ili je tužitelj svojim ponašanjem doprinio nastanku predmetne štete, a sporna je i visina utužene naknade št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C15D-2DF7-4AB8-9B03-9B643CF34DB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7.1. Što je utvrđeno na temelju izvedenih dokaza</a:t>
            </a:r>
            <a:endParaRPr b="0" lang="en-US" sz="4000" spc="-1" strike="noStrike">
              <a:solidFill>
                <a:srgbClr val="000000"/>
              </a:solidFill>
              <a:latin typeface="Arial"/>
            </a:endParaRPr>
          </a:p>
        </p:txBody>
      </p:sp>
      <p:sp>
        <p:nvSpPr>
          <p:cNvPr id="156" name="PlaceHolder 2"/>
          <p:cNvSpPr>
            <a:spLocks noGrp="1"/>
          </p:cNvSpPr>
          <p:nvPr>
            <p:ph/>
          </p:nvPr>
        </p:nvSpPr>
        <p:spPr>
          <a:xfrm>
            <a:off x="380880" y="1644480"/>
            <a:ext cx="8507520" cy="52135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Iz medicinske dokumentacije i liječničke potvrde utvrđeno je da je tužitelj primljen na hitnu pomoć 28. rujna 2007. u ranim popodnevnim satima, kada je u hitnoći kirurški obrađen, kao i da se potom liječio ambulantno još tri mjeseca od dana ozljeđivanja</a:t>
            </a:r>
            <a:r>
              <a:rPr b="0" lang="hr-H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8EE5-5E29-43B0-A238-92B94982E2D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7.2. Što je utvrđeno na temelju izvedenih dokaza</a:t>
            </a:r>
            <a:endParaRPr b="0" lang="en-US" sz="4000" spc="-1" strike="noStrike">
              <a:solidFill>
                <a:srgbClr val="000000"/>
              </a:solidFill>
              <a:latin typeface="Arial"/>
            </a:endParaRPr>
          </a:p>
        </p:txBody>
      </p:sp>
      <p:sp>
        <p:nvSpPr>
          <p:cNvPr id="159" name="PlaceHolder 2"/>
          <p:cNvSpPr>
            <a:spLocks noGrp="1"/>
          </p:cNvSpPr>
          <p:nvPr>
            <p:ph/>
          </p:nvPr>
        </p:nvSpPr>
        <p:spPr>
          <a:xfrm>
            <a:off x="228600" y="1599840"/>
            <a:ext cx="8748720" cy="54450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Iz iskaza svjedokinje Ivone Ivić utvrđeno je da su ona i njezin zaručnik (tužitelj) toga dana šetali u parku prirode Učka, uređenom planinarskom stazom, kada ih je odjednom napao veliki pas, njemački ovčar, bez da ge je itko ičim izazvao. Tužitelj se odmah postavio između psa i zaručnice, ali ga je pas velikom brzinom ugrizao za lijevu nogu i potom za ruke, na što da je tužitelj pokupio neku granu i bezuspješno pokušao otjerati psa. Potom su čuli tuženicu kako viče i doziva psa. Kada je tužena stigla da je odmah vezala psa i  počela vikati na tužitelja, misleći da ga je on tukao. Odmah da su je pitali zašto je pustila psa kada je tako opasan. Tužitelj da je bio sav u krvi i  sasvim razderane odjeće pa da su iz obližnjeg ugostiteljskog lokala pozvali hitnu pomoć</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A768-A3F2-4841-9A59-6204AC0052C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7.3. Što je utvrđeno na temelju izvedenih dokaza</a:t>
            </a:r>
            <a:endParaRPr b="0" lang="en-US" sz="4000" spc="-1" strike="noStrike">
              <a:solidFill>
                <a:srgbClr val="000000"/>
              </a:solidFill>
              <a:latin typeface="Arial"/>
            </a:endParaRPr>
          </a:p>
        </p:txBody>
      </p:sp>
      <p:sp>
        <p:nvSpPr>
          <p:cNvPr id="162" name="PlaceHolder 2"/>
          <p:cNvSpPr>
            <a:spLocks noGrp="1"/>
          </p:cNvSpPr>
          <p:nvPr>
            <p:ph/>
          </p:nvPr>
        </p:nvSpPr>
        <p:spPr>
          <a:xfrm>
            <a:off x="228600" y="19810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Iz nalaza i mišljenja stalnog sudskog vještaka utvrđeno je da je tužitelj lako tjelesno ozlijeđen i to u vidu većih, nepravilnih razderotina lijeve potkoljenice i manjih razderotina tkiva obje podlaktice. Iz naravi te izgleda ozljeda vještak je mišljenja da nema dvojbe kako su ozljede nastale od ugriza većeg psa koji ima tzv. “škarasto” zubalo, upravo kao što to ima njemački ovčar. Tužitelj je zbog obilnog krvarenja morao odmah zatražiti liječničku pomoć. Trpio je fizičke bolove tri mjeseca, jake 8 dana, srednje 25 dana dok su ostalo bili laki bolovi. Pretrpio je jaki strah koji je trajao jedan cijeli dan, dok je potom tjedan dana imao srednje jaki strah, a potom je mjesec dana bio zabrinut za ishod liječenja. Kod tužitelja je zaostala naruženost u vidu vidljivih plavo bijelih ožiljaka na lijevoj nozi, jednog dužine 25-35 cm i drugog 28 cm, te na obje ruke, nekoliko ožiljaka na svakoj ruci, u dužini od 10-15 ili 15-20 cm. Ožiljci će biti uočljivi trećim osobama posebice u ljetnim vremenim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9EE6-83F0-4E8F-970A-65A5A8C9888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isana presuda</a:t>
            </a:r>
            <a:endParaRPr b="0" lang="en-US" sz="4400" spc="-1" strike="noStrike">
              <a:solidFill>
                <a:srgbClr val="000000"/>
              </a:solidFill>
              <a:latin typeface="Arial"/>
            </a:endParaRPr>
          </a:p>
        </p:txBody>
      </p:sp>
      <p:sp>
        <p:nvSpPr>
          <p:cNvPr id="90" name="PlaceHolder 2"/>
          <p:cNvSpPr>
            <a:spLocks noGrp="1"/>
          </p:cNvSpPr>
          <p:nvPr>
            <p:ph/>
          </p:nvPr>
        </p:nvSpPr>
        <p:spPr>
          <a:xfrm>
            <a:off x="178920" y="1196640"/>
            <a:ext cx="8796600" cy="532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Članak 338. ZPP</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isana </a:t>
            </a:r>
            <a:r>
              <a:rPr b="1" lang="hr-HR" sz="3600" spc="-1" strike="noStrike">
                <a:solidFill>
                  <a:srgbClr val="000000"/>
                </a:solidFill>
                <a:latin typeface="Arial"/>
              </a:rPr>
              <a:t>presuda</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r>
              <a:rPr b="1" lang="hr-HR" sz="3200" spc="-1" strike="noStrike">
                <a:solidFill>
                  <a:srgbClr val="000000"/>
                </a:solidFill>
                <a:latin typeface="Arial"/>
              </a:rPr>
              <a:t>mora imati</a:t>
            </a:r>
            <a:endParaRPr b="0" lang="en-US" sz="3200" spc="-1" strike="noStrike">
              <a:solidFill>
                <a:srgbClr val="000000"/>
              </a:solidFill>
              <a:latin typeface="Arial"/>
            </a:endParaRPr>
          </a:p>
          <a:p>
            <a:pPr marL="343080" indent="-343080" algn="ctr">
              <a:lnSpc>
                <a:spcPct val="100000"/>
              </a:lnSpc>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Black"/>
              </a:rPr>
              <a:t>1. uvod, </a:t>
            </a:r>
            <a:endParaRPr b="0" lang="en-US" sz="3600" spc="-1" strike="noStrike">
              <a:solidFill>
                <a:srgbClr val="000000"/>
              </a:solidFill>
              <a:latin typeface="Arial"/>
            </a:endParaRPr>
          </a:p>
          <a:p>
            <a:pPr marL="343080" indent="-343080" algn="ctr">
              <a:lnSpc>
                <a:spcPct val="100000"/>
              </a:lnSpc>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Black"/>
              </a:rPr>
              <a:t>2. izreku,</a:t>
            </a:r>
            <a:endParaRPr b="0" lang="en-US" sz="3600" spc="-1" strike="noStrike">
              <a:solidFill>
                <a:srgbClr val="000000"/>
              </a:solidFill>
              <a:latin typeface="Arial"/>
            </a:endParaRPr>
          </a:p>
          <a:p>
            <a:pPr marL="343080" indent="-343080" algn="ctr">
              <a:lnSpc>
                <a:spcPct val="100000"/>
              </a:lnSpc>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Black"/>
              </a:rPr>
              <a:t>3. obrazloženje,</a:t>
            </a:r>
            <a:endParaRPr b="0" lang="en-US" sz="3600" spc="-1" strike="noStrike">
              <a:solidFill>
                <a:srgbClr val="000000"/>
              </a:solidFill>
              <a:latin typeface="Arial"/>
            </a:endParaRPr>
          </a:p>
          <a:p>
            <a:pPr marL="343080" indent="-343080" algn="ctr">
              <a:lnSpc>
                <a:spcPct val="100000"/>
              </a:lnSpc>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Black"/>
              </a:rPr>
              <a:t>4. uputu o pravnom lijeku</a:t>
            </a:r>
            <a:endParaRPr b="0" lang="en-US" sz="3600" spc="-1" strike="noStrike">
              <a:solidFill>
                <a:srgbClr val="000000"/>
              </a:solidFill>
              <a:latin typeface="Arial"/>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B365-B10D-405A-A3DF-5B7ACAD38DD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7.4. Što je utvrđeno na temelju izvedenih dokaza</a:t>
            </a:r>
            <a:endParaRPr b="0" lang="en-US" sz="4000" spc="-1" strike="noStrike">
              <a:solidFill>
                <a:srgbClr val="000000"/>
              </a:solidFill>
              <a:latin typeface="Arial"/>
            </a:endParaRPr>
          </a:p>
        </p:txBody>
      </p:sp>
      <p:sp>
        <p:nvSpPr>
          <p:cNvPr id="165"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tranke su u svojim iskazima ostale pri onom što su navele u tužbi i odgovoru na tužbu. Tužitelj je još naveo da mu je u napadu psa stradala nova, dosta kvalitetna i neiznošena odjeća, posebice hlače, vjetrovka, džemper, košulja i čarape. Tuženica je istaknula da je pas mlad i da ga je tužitelj najvjerojatnije prestrašio, ali da nikad nikog ni prije niti kasnije nije ugriza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1289-A328-4522-B397-2AE29C5FDC9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67"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8.1. Mjerodavno materijalno pravo</a:t>
            </a:r>
            <a:endParaRPr b="0" lang="en-US" sz="4000" spc="-1" strike="noStrike">
              <a:solidFill>
                <a:srgbClr val="000000"/>
              </a:solidFill>
              <a:latin typeface="Arial"/>
            </a:endParaRPr>
          </a:p>
        </p:txBody>
      </p:sp>
      <p:sp>
        <p:nvSpPr>
          <p:cNvPr id="168"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edmnjeva uzročnos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Članak 106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Šteta nastala u vezi s opasnom stvari, odnosno opasnom djelatnošću smatra se da potječe od te stvari, odnosno djelatnosti, osim ako se dokaže da one nisu bile uzrok šte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Tko odgovara za štet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Članak 1064.</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 štetu od opasne stvari odgovara njezin vlasnik, a za štetu od opasne djelatnosti odgovara osoba koja se njome bav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3F79-7F81-4F41-8B1A-FF9F1FC2FE9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7621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Black"/>
              </a:rPr>
              <a:t>8.2. Naznačavanje mjerodavnog materijalnog prava u obrazloženju</a:t>
            </a:r>
            <a:endParaRPr b="0" lang="en-US" sz="28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ma odredbi iz članka 1064. Zakona o obveznim odnosima (“Narodne novine”, br. 35/05 i 41/08, u daljnjem tekstu: ZOO), za štetu od opasne stvari odgovara njezin vlasni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ma Odluci o držanju pasa na području parka prirode Učka (“Sl. list Primorsko goranske županije, br. 5/2006), veliki psi se  u parku moraju voditi na povodcu, u protivnom moraju imati brnjicu.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B4BF-FD2A-4396-BCF8-E3D4B414311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94464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8.3. Mjerodavno materijalno pravo</a:t>
            </a:r>
            <a:endParaRPr b="0" lang="en-US" sz="4000" spc="-1" strike="noStrike">
              <a:solidFill>
                <a:srgbClr val="000000"/>
              </a:solidFill>
              <a:latin typeface="Arial"/>
            </a:endParaRPr>
          </a:p>
        </p:txBody>
      </p:sp>
      <p:sp>
        <p:nvSpPr>
          <p:cNvPr id="174" name="PlaceHolder 2"/>
          <p:cNvSpPr>
            <a:spLocks noGrp="1"/>
          </p:cNvSpPr>
          <p:nvPr>
            <p:ph/>
          </p:nvPr>
        </p:nvSpPr>
        <p:spPr>
          <a:xfrm>
            <a:off x="468360" y="1989000"/>
            <a:ext cx="8229600" cy="4530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Pravična novčana naknada</a:t>
            </a:r>
            <a:r>
              <a:rPr b="0" lang="hr-H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Članak 110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1) U slučaju </a:t>
            </a:r>
            <a:r>
              <a:rPr b="1" lang="hr-HR" sz="1800" spc="-1" strike="noStrike" u="sng">
                <a:solidFill>
                  <a:srgbClr val="000000"/>
                </a:solidFill>
                <a:uFillTx/>
                <a:latin typeface="Arial"/>
              </a:rPr>
              <a:t>povrede prava osobnosti</a:t>
            </a:r>
            <a:r>
              <a:rPr b="1" lang="hr-HR" sz="1800" spc="-1" strike="noStrike">
                <a:solidFill>
                  <a:srgbClr val="000000"/>
                </a:solidFill>
                <a:latin typeface="Arial"/>
              </a:rPr>
              <a:t> sud će, ako nađe da to </a:t>
            </a:r>
            <a:r>
              <a:rPr b="1" lang="hr-HR" sz="1800" spc="-1" strike="noStrike" u="sng">
                <a:solidFill>
                  <a:srgbClr val="000000"/>
                </a:solidFill>
                <a:uFillTx/>
                <a:latin typeface="Arial"/>
              </a:rPr>
              <a:t>težina povrede i okolnosti slučaja opravdavaju</a:t>
            </a:r>
            <a:r>
              <a:rPr b="1" lang="hr-HR" sz="1800" spc="-1" strike="noStrike">
                <a:solidFill>
                  <a:srgbClr val="000000"/>
                </a:solidFill>
                <a:latin typeface="Arial"/>
              </a:rPr>
              <a:t>, dosuditi pravičnu novčanu naknadu, nezavisno od naknade imovinske štete, a i kad nje nem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2) Pri odlučivanju </a:t>
            </a:r>
            <a:r>
              <a:rPr b="1" lang="hr-HR" sz="1800" spc="-1" strike="noStrike" u="sng">
                <a:solidFill>
                  <a:srgbClr val="000000"/>
                </a:solidFill>
                <a:uFillTx/>
                <a:latin typeface="Arial"/>
              </a:rPr>
              <a:t>o visini pravične novčane</a:t>
            </a:r>
            <a:r>
              <a:rPr b="1" lang="hr-HR" sz="1800" spc="-1" strike="noStrike">
                <a:solidFill>
                  <a:srgbClr val="000000"/>
                </a:solidFill>
                <a:latin typeface="Arial"/>
              </a:rPr>
              <a:t> naknade sud će voditi računa o jačini i trajanju povredom izazvanih fizičkih boli, duševnih boli i straha, </a:t>
            </a:r>
            <a:r>
              <a:rPr b="1" lang="hr-HR" sz="1800" spc="-1" strike="noStrike" u="sng">
                <a:solidFill>
                  <a:srgbClr val="000000"/>
                </a:solidFill>
                <a:uFillTx/>
                <a:latin typeface="Arial"/>
              </a:rPr>
              <a:t>cilju kojemu služi ta naknada, ali i o tome da se njome ne pogoduje težnjama koje nisu spojive sa njezinom naravi i društvenom svrhom</a:t>
            </a:r>
            <a:r>
              <a:rPr b="1" lang="hr-H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Arial"/>
              </a:rPr>
              <a:t>(3) Za povredu ugleda i drugih prava osobnosti pravne osobe sud će, ako procijeni </a:t>
            </a:r>
            <a:r>
              <a:rPr b="1" lang="hr-HR" sz="1800" spc="-1" strike="noStrike" u="sng">
                <a:solidFill>
                  <a:srgbClr val="000000"/>
                </a:solidFill>
                <a:uFillTx/>
                <a:latin typeface="Arial"/>
              </a:rPr>
              <a:t>da to težina povrede i okolnosti slučaja opravdavaju</a:t>
            </a:r>
            <a:r>
              <a:rPr b="1" lang="hr-HR" sz="1800" spc="-1" strike="noStrike">
                <a:solidFill>
                  <a:srgbClr val="000000"/>
                </a:solidFill>
                <a:latin typeface="Arial"/>
              </a:rPr>
              <a:t>, dosuditi joj pravičnu novčanu naknadu, nezavisno od naknade imovinske štete, a i kad nje n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B3EF-7908-478E-B0A4-14CF1343036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Black"/>
              </a:rPr>
              <a:t>9. SUĐENJE</a:t>
            </a:r>
            <a:br>
              <a:rPr sz="4000"/>
            </a:b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a temelju tako utvrđenog činjeničnog stanja, primjenom odredbe iz članka 1064. ZOO-a, sud utvrđuje da je tuženica u cijelosti odgovorna za sporni štetni događaj. U postupku je utvrđeno da oštećenik ničim nije pridonio nastanku predmetne štete jer ga je tužiteljičin pas iznenada napao ničim izazvan.Tuženica je, kao vlasnica psa, odgovorna za nastalu štetu jer je pas bio bez povodca i brnjice, što je protivno lokalnoj odluci o načinu držanja pasa. Pritom se odrasli njemački ovčar, prema sudskoj praksi, smatra opasnom stvari.</a:t>
            </a:r>
            <a:r>
              <a:rPr b="0" lang="hr-HR" sz="2400" spc="-1" strike="noStrike">
                <a:solidFill>
                  <a:srgbClr val="000000"/>
                </a:solidFill>
                <a:latin typeface="Arial"/>
              </a:rPr>
              <a:t> </a:t>
            </a:r>
            <a:r>
              <a:rPr b="1" lang="hr-HR" sz="2400" spc="-1" strike="noStrike">
                <a:solidFill>
                  <a:srgbClr val="000000"/>
                </a:solidFill>
                <a:latin typeface="Arial"/>
              </a:rPr>
              <a:t>Zbog toga je tužena dužna naknaditi tužitelju pretrpljenu štetu u cijelosti.</a:t>
            </a:r>
            <a:r>
              <a:rPr b="0" lang="hr-H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5E78-C0BB-446F-8B33-23EC406E8EE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79" name="PlaceHolder 1"/>
          <p:cNvSpPr>
            <a:spLocks noGrp="1"/>
          </p:cNvSpPr>
          <p:nvPr>
            <p:ph type="title"/>
          </p:nvPr>
        </p:nvSpPr>
        <p:spPr>
          <a:xfrm>
            <a:off x="6858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00"/>
                </a:solidFill>
                <a:latin typeface="Arial Black"/>
              </a:rPr>
              <a:t>10.1. Utvrđivanje visine neimovinske štete i suđenje</a:t>
            </a:r>
            <a:endParaRPr b="0" lang="en-US" sz="38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Na osnovi provedenog vještačenja, kojem stranke nisu prigovarale, a sud ga nalazi nepristranim, stručnim i danim prema pravilima struke, utvrđeno je da je tužitelj pretrpio fizičke bolove i strah, te da trpi naruženje, onako kako je to opisano u nalazu i mišljenju vještak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89C2-BD59-44DB-ACAA-3BEB5C0A2AB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8380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Black"/>
              </a:rPr>
              <a:t>10.2. Utvrđivanje visine neimovinske štete i suđenje</a:t>
            </a:r>
            <a:endParaRPr b="0" lang="en-US" sz="4000" spc="-1" strike="noStrike">
              <a:solidFill>
                <a:srgbClr val="000000"/>
              </a:solidFill>
              <a:latin typeface="Arial"/>
            </a:endParaRPr>
          </a:p>
        </p:txBody>
      </p:sp>
      <p:sp>
        <p:nvSpPr>
          <p:cNvPr id="183"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lijedom toga, tužitelju je na ime povrede prava osobnosti na tjelesno i duševno zdravlje, sukladno odredbama članka 19 i 1100. ZOO-a, dosuđena pravična novčana naknada na ime neimovinske štete u iznosu od 18.000,00 kn. Ovako dosuđenu pravičnu novčanu naknadu sud smatra primjerenom pretrpljenoj šteti, nalazeći da težina ozljeda i okolnosti slučaja opravdavaju upravo takvu odluku o visini dosuđene nakna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D7A0-FC91-4B8B-B664-90309081A46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Black"/>
              </a:rPr>
              <a:t>10.3.Odbijeni dio </a:t>
            </a:r>
            <a:br>
              <a:rPr sz="4000"/>
            </a:br>
            <a:r>
              <a:rPr b="0" lang="hr-HR" sz="4000" spc="-1" strike="noStrike">
                <a:solidFill>
                  <a:srgbClr val="000000"/>
                </a:solidFill>
                <a:latin typeface="Arial Black"/>
              </a:rPr>
              <a:t>tužbenog zahtjeva</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Vodeći računa o cilju kojemu služi pravična novčana naknada, ali i tome da se dosuđivanjem te naknade ne pogoduje težnjama koje nisu spojive sa njezinom naravi i društvenom svrhom, tužbeni zahtjev u preostalom iznosu od 3.000,00 kn odbijen je kao neosnovan jer je neprimjeren nastaloj šte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922A-01EF-4558-B6CA-F547A650B00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Black"/>
              </a:rPr>
              <a:t>10.4. Odluka o kamatama</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r>
              <a:rPr b="1" lang="hr-HR" sz="3200" spc="-1" strike="noStrike">
                <a:solidFill>
                  <a:srgbClr val="000000"/>
                </a:solidFill>
                <a:latin typeface="Arial"/>
              </a:rPr>
              <a:t>Tužitelju su na dosuđenu glavnicu ove naknade štete, sukladno članku 1103. ZOO-a, dosuđene zakonske zatezne kamate iz članka 29. stavak 2. ZOO-a, tekuće od podnošenja tužbe do ispl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EE5B-B0E7-4314-BB65-2224EF472F1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1" name="PlaceHolder 1"/>
          <p:cNvSpPr>
            <a:spLocks noGrp="1"/>
          </p:cNvSpPr>
          <p:nvPr>
            <p:ph type="title"/>
          </p:nvPr>
        </p:nvSpPr>
        <p:spPr>
          <a:xfrm>
            <a:off x="9907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Kad dospijeva obveza pravične novčane naknade?</a:t>
            </a:r>
            <a:endParaRPr b="0" lang="en-US" sz="4000" spc="-1" strike="noStrike">
              <a:solidFill>
                <a:srgbClr val="000000"/>
              </a:solidFill>
              <a:latin typeface="Arial"/>
            </a:endParaRPr>
          </a:p>
        </p:txBody>
      </p:sp>
      <p:sp>
        <p:nvSpPr>
          <p:cNvPr id="192" name="PlaceHolder 2"/>
          <p:cNvSpPr>
            <a:spLocks noGrp="1"/>
          </p:cNvSpPr>
          <p:nvPr>
            <p:ph/>
          </p:nvPr>
        </p:nvSpPr>
        <p:spPr>
          <a:xfrm>
            <a:off x="468360" y="1699920"/>
            <a:ext cx="8229600" cy="453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Članak 1103. ZOO NEIMOVINSKA ŠTE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bveza pravične novčane naknade dospijeva </a:t>
            </a:r>
            <a:r>
              <a:rPr b="1" lang="hr-HR" sz="2000" spc="-1" strike="noStrike" u="sng">
                <a:solidFill>
                  <a:srgbClr val="000000"/>
                </a:solidFill>
                <a:uFillTx/>
                <a:latin typeface="Arial"/>
              </a:rPr>
              <a:t>danom podnošenja pisanog zahtjeva ili tužbe</a:t>
            </a:r>
            <a:r>
              <a:rPr b="0" lang="hr-HR" sz="2000" spc="-1" strike="noStrike">
                <a:solidFill>
                  <a:srgbClr val="000000"/>
                </a:solidFill>
                <a:latin typeface="Arial"/>
              </a:rPr>
              <a:t>, osim ako je šteta nastala nakon tog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Članak 29. ZO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1) Dužnik koji zakasni s ispunjenjem novčane obveze duguje, pored glavnice, i zatezne kam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2) </a:t>
            </a:r>
            <a:r>
              <a:rPr b="1" lang="hr-HR" sz="2000" spc="-1" strike="noStrike">
                <a:solidFill>
                  <a:srgbClr val="000000"/>
                </a:solidFill>
                <a:latin typeface="Arial"/>
              </a:rPr>
              <a:t>Stopa zateznih kamata </a:t>
            </a:r>
            <a:r>
              <a:rPr b="1" lang="hr-HR" sz="1200" spc="-1" strike="noStrike">
                <a:solidFill>
                  <a:srgbClr val="000000"/>
                </a:solidFill>
                <a:latin typeface="Arial"/>
              </a:rPr>
              <a:t>na odnose iz trgovačkih ugovora i ugovora između trgovca i osobe javnog prava</a:t>
            </a:r>
            <a:r>
              <a:rPr b="1" lang="hr-HR" sz="2000" spc="-1" strike="noStrike">
                <a:solidFill>
                  <a:srgbClr val="000000"/>
                </a:solidFill>
                <a:latin typeface="Arial"/>
              </a:rPr>
              <a:t> određuje se, za svako polugodište, uvećanjem eskontne stope Hrvatske narodne banke koja je vrijedila zadnjeg dana polugodišta koje je prethodilo tekućem polugodištu </a:t>
            </a:r>
            <a:r>
              <a:rPr b="1" lang="hr-HR" sz="1200" spc="-1" strike="noStrike">
                <a:solidFill>
                  <a:srgbClr val="000000"/>
                </a:solidFill>
                <a:latin typeface="Arial"/>
              </a:rPr>
              <a:t>(za osam postotnih poena,)</a:t>
            </a:r>
            <a:r>
              <a:rPr b="1" lang="hr-HR" sz="2000" spc="-1" strike="noStrike">
                <a:solidFill>
                  <a:srgbClr val="000000"/>
                </a:solidFill>
                <a:latin typeface="Arial"/>
              </a:rPr>
              <a:t> a u ostalim odnosima za pet postotnih poe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F480-A571-4169-86EF-C0580FA3974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isana presuda</a:t>
            </a:r>
            <a:endParaRPr b="0" lang="en-US" sz="4400" spc="-1" strike="noStrike">
              <a:solidFill>
                <a:srgbClr val="000000"/>
              </a:solidFill>
              <a:latin typeface="Arial"/>
            </a:endParaRPr>
          </a:p>
        </p:txBody>
      </p:sp>
      <p:sp>
        <p:nvSpPr>
          <p:cNvPr id="93" name="PlaceHolder 2"/>
          <p:cNvSpPr>
            <a:spLocks noGrp="1"/>
          </p:cNvSpPr>
          <p:nvPr>
            <p:ph/>
          </p:nvPr>
        </p:nvSpPr>
        <p:spPr>
          <a:xfrm>
            <a:off x="178920" y="1196640"/>
            <a:ext cx="8796600" cy="5327640"/>
          </a:xfrm>
          <a:prstGeom prst="rect">
            <a:avLst/>
          </a:prstGeom>
          <a:noFill/>
          <a:ln w="0">
            <a:noFill/>
          </a:ln>
        </p:spPr>
        <p:txBody>
          <a:bodyPr anchor="t">
            <a:normAutofit/>
          </a:bodyPr>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Black"/>
              </a:rPr>
              <a:t>UVO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vod presude sadrži: naznaku da se presuda izriče u ime Republike Hrvatske, naziv suda, ime i prezime suca pojedinca, odnosno predsjednika vijeća, suca izvjestitelja i članova vijeća, ime i prezime ili naziv, osobni identifikacijski broj te prebivalište ili boravište, odnosno sjedište stranaka, njihovih zastupnika i punomoćnika, kratku oznaku predmeta spora, dan zaključenja glavne rasprave, naznaku stranaka, njihovih zastupnika i punomoćnika koji su toj raspravi prisustvovali te dan kad je presuda donese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E55B-BD78-4DD2-80E3-040B8597456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12193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Kad dospijeva obveza naknade</a:t>
            </a:r>
            <a:br>
              <a:rPr sz="4000"/>
            </a:br>
            <a:r>
              <a:rPr b="1" lang="hr-HR" sz="4000" spc="-1" strike="noStrike">
                <a:solidFill>
                  <a:srgbClr val="000000"/>
                </a:solidFill>
                <a:latin typeface="Arial"/>
              </a:rPr>
              <a:t>(imovinske štete) ?</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Članak 1086. ZO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Obveza naknade štete smatra se </a:t>
            </a:r>
            <a:r>
              <a:rPr b="1" lang="hr-HR" sz="3200" spc="-1" strike="noStrike" u="sng">
                <a:solidFill>
                  <a:srgbClr val="000000"/>
                </a:solidFill>
                <a:uFillTx/>
                <a:latin typeface="Arial"/>
              </a:rPr>
              <a:t>dospjelom od trenutka nastanka št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A454-4BFF-444D-915A-3C68851A31D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8380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Black"/>
              </a:rPr>
              <a:t>10.5. Utvrđivanje visine imovinske štete i suđenje</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Tužitelj je tijekom postupka dokazao da je pretrpio još i imovinsku štetu zbog uništene odjeće, za koju je utvrđeno da je bila novija i neiznošena. Slijedom toga mu je sud, prihvaćaju mjerodavnima podatke iz dostavljenog predračuna, dosudio naknadu ove štete u iznosu od 2.500,00 kn, sa zakonskim zateznim kamatama tekućim od dana utuženja do ispl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D69C-E390-4DAC-A96F-1348963FA5B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7621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Black"/>
              </a:rPr>
              <a:t>11. Odluka o parničnim troškovima</a:t>
            </a:r>
            <a:endParaRPr b="0" lang="en-US" sz="4000" spc="-1" strike="noStrike">
              <a:solidFill>
                <a:srgbClr val="000000"/>
              </a:solidFill>
              <a:latin typeface="Arial"/>
            </a:endParaRPr>
          </a:p>
        </p:txBody>
      </p:sp>
      <p:sp>
        <p:nvSpPr>
          <p:cNvPr id="201" name="PlaceHolder 2"/>
          <p:cNvSpPr>
            <a:spLocks noGrp="1"/>
          </p:cNvSpPr>
          <p:nvPr>
            <p:ph/>
          </p:nvPr>
        </p:nvSpPr>
        <p:spPr>
          <a:xfrm>
            <a:off x="380880" y="1904760"/>
            <a:ext cx="8229600" cy="453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Tužitelj je ostvario uspjeh u omjeru od 87% pa mu je u tom razmjeru, sukladno odredbama članka 154. stavak 2. i članka 155. ZPP-a, dosuđen trošak postupka. U tom smislu odmjeren mu je opravdan trošak za sastav tužbe u iznosu od 1.000,00 kn po Tbr. 7. toč.1. Tarife o nagradama i naknadi troškova za rad odvjetnika (“Narodne novine”, br. 142/12, u daljnjem tekstu: OT), trošak za dva zastupanja na ročištima u iznosu od 2.000,00 kn po Tbr.9. toč. 1. OT-a. Tužitelju su još dosuđeni i troškovi vještačenja u iznosu od 750,00 kn pa mu je ukupno dosuđeno 3.750,00 kn troškova postupk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U preostalom dijelu tužiteljevi troškovi (dva podneska) nisu bili potrebni za vođenje parnice pa mu nisu priznati. Tužitelj nije određeno zatražio trošak PDV-a na odvjetničke usluge, a niti troškove sudskih pristojbi pa mu ti troškovi nisu dosuđe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7592-943C-4693-AC62-FBFB18B00E8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3" name="PlaceHolder 1"/>
          <p:cNvSpPr>
            <a:spLocks noGrp="1"/>
          </p:cNvSpPr>
          <p:nvPr>
            <p:ph type="title"/>
          </p:nvPr>
        </p:nvSpPr>
        <p:spPr>
          <a:xfrm>
            <a:off x="7621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12. Završni dio presude</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Iz navedenih je razloga presuđeno kao u izreci.</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U Zagrebu, 28. listopada 2013. godine   </a:t>
            </a: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SUDAC</a:t>
            </a:r>
            <a:endParaRPr b="0" lang="en-US" sz="12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          </a:t>
            </a:r>
            <a:endParaRPr b="0" lang="en-US" sz="12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 </a:t>
            </a:r>
            <a:r>
              <a:rPr b="1" lang="hr-HR" sz="1200" spc="-1" strike="noStrike">
                <a:solidFill>
                  <a:srgbClr val="000000"/>
                </a:solidFill>
                <a:latin typeface="Arial Black"/>
              </a:rPr>
              <a:t>Ante Antić</a:t>
            </a:r>
            <a:endParaRPr b="0" lang="en-US" sz="12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41C4-7B9A-4F53-8C5C-2A500FB46E7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Black"/>
              </a:rPr>
              <a:t>13. UPUTA O PRAVNOM LIJEKU</a:t>
            </a:r>
            <a:r>
              <a:rPr b="0" lang="hr-HR" sz="4000" spc="-1" strike="noStrike">
                <a:solidFill>
                  <a:srgbClr val="000000"/>
                </a:solidFill>
                <a:latin typeface="Arial"/>
              </a:rPr>
              <a:t>:</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Uputa o pravnom lijeku:</a:t>
            </a:r>
            <a:endParaRPr b="0" lang="en-US" sz="32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otiv ove presude nezadovoljna stranka može podnijeti žalbu u roku od 15 dana. Rok za žalbu stranci koja je pristupila na ročište na kojem se presuda objavljuje teče od dana objave i uručenja presude, stranci koja je uredno obaviještena o ročištu na kojem se presuda objavljuje teče od dana objave presude, a stranci koja nije bila uredno obaviještena o ročištu na kojem se presuda objavljuje, rok za žalbu počinje teći od dana dostave prijepisa ove pres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9D52-84C0-4132-8FAF-2C89BF98881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isana presuda</a:t>
            </a:r>
            <a:endParaRPr b="0" lang="en-US" sz="4400" spc="-1" strike="noStrike">
              <a:solidFill>
                <a:srgbClr val="000000"/>
              </a:solidFill>
              <a:latin typeface="Arial"/>
            </a:endParaRPr>
          </a:p>
        </p:txBody>
      </p:sp>
      <p:sp>
        <p:nvSpPr>
          <p:cNvPr id="96" name="PlaceHolder 2"/>
          <p:cNvSpPr>
            <a:spLocks noGrp="1"/>
          </p:cNvSpPr>
          <p:nvPr>
            <p:ph/>
          </p:nvPr>
        </p:nvSpPr>
        <p:spPr>
          <a:xfrm>
            <a:off x="178920" y="1196640"/>
            <a:ext cx="8796600" cy="532764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Black"/>
              </a:rPr>
              <a:t>IZREKA</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rPr>
              <a:t>Izreka</a:t>
            </a:r>
            <a:r>
              <a:rPr b="0" lang="hr-HR" sz="3200" spc="-1" strike="noStrike">
                <a:solidFill>
                  <a:srgbClr val="000000"/>
                </a:solidFill>
                <a:latin typeface="Arial"/>
              </a:rPr>
              <a:t> presude sadrži odluku suda o prihvaćanju ili odbijanju pojedinih zahtjeva koji se tiču glavne stvari i sporednih traženja te odluku o postojanju ili nepostojanju potraživanja istaknutog radi prebijanja (članak 33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DC67-3AD1-4F88-AA7C-08AB059F684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isana presuda</a:t>
            </a:r>
            <a:endParaRPr b="0" lang="en-US" sz="4400" spc="-1" strike="noStrike">
              <a:solidFill>
                <a:srgbClr val="000000"/>
              </a:solidFill>
              <a:latin typeface="Arial"/>
            </a:endParaRPr>
          </a:p>
        </p:txBody>
      </p:sp>
      <p:sp>
        <p:nvSpPr>
          <p:cNvPr id="99" name="PlaceHolder 2"/>
          <p:cNvSpPr>
            <a:spLocks noGrp="1"/>
          </p:cNvSpPr>
          <p:nvPr>
            <p:ph/>
          </p:nvPr>
        </p:nvSpPr>
        <p:spPr>
          <a:xfrm>
            <a:off x="347760" y="1267920"/>
            <a:ext cx="8796240" cy="5327640"/>
          </a:xfrm>
          <a:prstGeom prst="rect">
            <a:avLst/>
          </a:prstGeom>
          <a:noFill/>
          <a:ln w="0">
            <a:noFill/>
          </a:ln>
        </p:spPr>
        <p:txBody>
          <a:bodyPr anchor="t">
            <a:normAutofit/>
          </a:bodyPr>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Black"/>
              </a:rPr>
              <a:t>OBRAZLOŽEN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Arial"/>
              </a:rPr>
              <a:t>U obrazloženju sud će izložiti zahtjeve stranaka</a:t>
            </a:r>
            <a:r>
              <a:rPr b="0" lang="hr-HR" sz="2800" spc="-1" strike="noStrike">
                <a:solidFill>
                  <a:srgbClr val="000000"/>
                </a:solidFill>
                <a:latin typeface="Arial"/>
              </a:rPr>
              <a:t>, činjenice koje su iznijele i dokaze koje su predložile, koje je od tih činjenica utvrđivao, zašto i kako ih je utvrdio, a ako ih je utvrdio dokazivanjem, koje je dokaze izvodio i zašto te kako ih je ocijenio; sud će posebno navesti koje je odredbe materijalnog prava primijenio odlučujući o zahtjevima stranaka, a izjasnit će se, ako je to potrebno, i o stavovima stranaka o pravnoj osnovi spora te o njihovim prijedlozima i prigovorima o kojima nije dao svoje razloge u odlukama koje je već donio tijekom postup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7410-28EE-486D-B38C-EA196E64745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isana presuda</a:t>
            </a:r>
            <a:endParaRPr b="0" lang="en-US" sz="4400" spc="-1" strike="noStrike">
              <a:solidFill>
                <a:srgbClr val="000000"/>
              </a:solidFill>
              <a:latin typeface="Arial"/>
            </a:endParaRPr>
          </a:p>
        </p:txBody>
      </p:sp>
      <p:sp>
        <p:nvSpPr>
          <p:cNvPr id="102" name="PlaceHolder 2"/>
          <p:cNvSpPr>
            <a:spLocks noGrp="1"/>
          </p:cNvSpPr>
          <p:nvPr>
            <p:ph/>
          </p:nvPr>
        </p:nvSpPr>
        <p:spPr>
          <a:xfrm>
            <a:off x="347760" y="1267920"/>
            <a:ext cx="8796240" cy="5327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obrazloženju presude zbog ogluhe, presude zbog izostanka, presude na temelju priznanja ili presude na temelju odricanja iznijet će se samo razlozi koji opravdavaju donošenje takvih presu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ko su se stranke nakon proglašenja presude odrekle prava na žalbu te ako nisu izričito zatražile da presuda koja će im biti dostavljena bude obrazložena, sud neće posebno obrazložiti donesenu presudu, već će samo naznačiti da su se stranke odrekle prava na žalbu i da zbog toga presuda nije obrazlože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BD6B-341F-434A-83F2-AC2C022781D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04"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Donošenje, objava, </a:t>
            </a:r>
            <a:br>
              <a:rPr sz="4000"/>
            </a:br>
            <a:r>
              <a:rPr b="1" lang="hr-HR" sz="4000" spc="-1" strike="noStrike">
                <a:solidFill>
                  <a:srgbClr val="000000"/>
                </a:solidFill>
                <a:latin typeface="Arial"/>
              </a:rPr>
              <a:t>pisana izrada i dostava presude</a:t>
            </a:r>
            <a:br>
              <a:rPr sz="4000"/>
            </a:br>
            <a:endParaRPr b="0" lang="en-US" sz="4000" spc="-1" strike="noStrike">
              <a:solidFill>
                <a:srgbClr val="000000"/>
              </a:solidFill>
              <a:latin typeface="Arial"/>
            </a:endParaRPr>
          </a:p>
        </p:txBody>
      </p:sp>
      <p:sp>
        <p:nvSpPr>
          <p:cNvPr id="105" name="PlaceHolder 2"/>
          <p:cNvSpPr>
            <a:spLocks noGrp="1"/>
          </p:cNvSpPr>
          <p:nvPr>
            <p:ph/>
          </p:nvPr>
        </p:nvSpPr>
        <p:spPr>
          <a:xfrm>
            <a:off x="250560" y="1599840"/>
            <a:ext cx="830268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Black"/>
              </a:rPr>
              <a:t>Članak 335. ZP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Black"/>
              </a:rPr>
              <a:t>Presuda se donosi i objavljuje 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Black"/>
              </a:rPr>
              <a:t> </a:t>
            </a:r>
            <a:r>
              <a:rPr b="0" lang="hr-HR" sz="2000" spc="-1" strike="noStrike">
                <a:solidFill>
                  <a:srgbClr val="000000"/>
                </a:solidFill>
                <a:latin typeface="Arial Black"/>
              </a:rPr>
              <a:t>ime Republike Hrvatsk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ad se glavna rasprava održava pred vijećem, presudu donose predsjednik vijeća i članovi vijeća koji su sudjelovali na ročištu na kojemu je glavna rasprava zaključe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Presudu objavljuje sudac pojedinac, odnosno predsjednik vijeć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esuda se mora donijeti, objaviti, izraditi i uručiti ili otpremiti, najkasnije u roku od 45 dana od dana zaključenja glavne raspra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vornik presude potpisuje sudac pojedinac, odnosno predsjednik vijeć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Arial"/>
              </a:rPr>
              <a:t>Strankama se uručuje, odnosno dostavlja ovjereni prijepis presude s uputom o pravu na izjavljivanje pravnog lijeka protiv pres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4078-DBF6-4A8A-AECF-6E7E19F9AE6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Sudski poslovnik</a:t>
            </a:r>
            <a:br>
              <a:rPr sz="4000"/>
            </a:br>
            <a:r>
              <a:rPr b="1" lang="hr-HR" sz="2800" spc="-1" strike="noStrike">
                <a:solidFill>
                  <a:srgbClr val="000000"/>
                </a:solidFill>
                <a:latin typeface="Arial"/>
              </a:rPr>
              <a:t>“Narodne novine” br.37/14</a:t>
            </a:r>
            <a:r>
              <a:rPr b="0" lang="hr-HR" sz="4000" spc="-1" strike="noStrike">
                <a:solidFill>
                  <a:srgbClr val="000000"/>
                </a:solidFill>
                <a:latin typeface="Arial"/>
              </a:rPr>
              <a:t> </a:t>
            </a:r>
            <a:endParaRPr b="0" lang="en-US" sz="4000" spc="-1" strike="noStrike">
              <a:solidFill>
                <a:srgbClr val="000000"/>
              </a:solidFill>
              <a:latin typeface="Arial"/>
            </a:endParaRPr>
          </a:p>
        </p:txBody>
      </p:sp>
      <p:sp>
        <p:nvSpPr>
          <p:cNvPr id="108" name="PlaceHolder 2"/>
          <p:cNvSpPr>
            <a:spLocks noGrp="1"/>
          </p:cNvSpPr>
          <p:nvPr>
            <p:ph/>
          </p:nvPr>
        </p:nvSpPr>
        <p:spPr>
          <a:xfrm>
            <a:off x="395280" y="1599840"/>
            <a:ext cx="8291520" cy="4924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Članak 6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 Sudske odluke i ostala pismena pišu se pismom Times New Roman, veličine 12 pt, na papiru veličine A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2) Presude, važnija rješenja i odluke drugostupanjskog suda uvijek se pišu na cijelom listu, s ostavljenim slobodnim prostorom širine 2,5 cm od gornjeg i donjeg, desnog i lijevog ruba papira, bez proreda, s time da pojedini dijelovi odluke (uvod, izreka i obrazloženje) budu vidljivo odvojen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3) Izvornik odluke piše se samo na jednoj stranici. Ako je odluka sastavljena od više listova, svi će se listovi spojiti prošivanjem ili lijepljenj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4) Na presudama i rješenjima kojima se dovršava postupak u gornjem lijevom kutu stavit će se grb Republike Hrvatske u izvornim bojama, a ispod njega naziv »Republika Hrvatska«, te naziv i sjedište suda i sjedište stalne službe. U sredini iznad uvoda stavit će se</a:t>
            </a:r>
            <a:br>
              <a:rPr sz="2000"/>
            </a:br>
            <a:r>
              <a:rPr b="0" lang="hr-HR" sz="2000" spc="-1" strike="noStrike">
                <a:solidFill>
                  <a:srgbClr val="000000"/>
                </a:solidFill>
                <a:latin typeface="Arial"/>
              </a:rPr>
              <a:t>»U I M E R E P U B L I K E H R V A T S K E«, a ispod toga stavit će se naziv odluke »P R E S U D A«, odnosno »R J E Š E NJ 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ita Lazarin</dc:creator>
  <dc:description/>
  <dc:language>en-US</dc:language>
  <cp:lastModifiedBy>wsadmin</cp:lastModifiedBy>
  <dcterms:modified xsi:type="dcterms:W3CDTF">2018-05-15T09:30:28Z</dcterms:modified>
  <cp:revision>6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