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1"/>
          <p:cNvSpPr>
            <a:spLocks noGrp="1"/>
          </p:cNvSpPr>
          <p:nvPr>
            <p:ph type="hdr"/>
          </p:nvPr>
        </p:nvSpPr>
        <p:spPr>
          <a:xfrm>
            <a:off x="-360" y="0"/>
            <a:ext cx="2971800" cy="49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PlaceHolder 2"/>
          <p:cNvSpPr>
            <a:spLocks noGrp="1"/>
          </p:cNvSpPr>
          <p:nvPr>
            <p:ph type="dt" idx="7"/>
          </p:nvPr>
        </p:nvSpPr>
        <p:spPr>
          <a:xfrm>
            <a:off x="3884400" y="0"/>
            <a:ext cx="29718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A6C3-0ABD-43D1-A0C7-F390CC6CFA3A}" type="datetime">
              <a:rPr b="0" lang="hr-HR" sz="1200" spc="-1" strike="noStrike">
                <a:solidFill>
                  <a:srgbClr val="000000"/>
                </a:solidFill>
                <a:latin typeface="Arial"/>
              </a:rPr>
              <a:t>29.07.26</a:t>
            </a:fld>
            <a:endParaRPr b="0" lang="en-US" sz="1200" spc="-1" strike="noStrike">
              <a:solidFill>
                <a:srgbClr val="000000"/>
              </a:solidFill>
              <a:latin typeface="Tahoma"/>
            </a:endParaRPr>
          </a:p>
        </p:txBody>
      </p:sp>
      <p:sp>
        <p:nvSpPr>
          <p:cNvPr id="85"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move the slide</a:t>
            </a:r>
            <a:endParaRPr b="1" lang="en-US" sz="3600" spc="-1" strike="noStrike">
              <a:solidFill>
                <a:srgbClr val="ff0066"/>
              </a:solidFill>
              <a:latin typeface="Arial"/>
            </a:endParaRPr>
          </a:p>
        </p:txBody>
      </p:sp>
      <p:sp>
        <p:nvSpPr>
          <p:cNvPr id="86" name="PlaceHolder 4"/>
          <p:cNvSpPr>
            <a:spLocks noGrp="1"/>
          </p:cNvSpPr>
          <p:nvPr>
            <p:ph type="body"/>
          </p:nvPr>
        </p:nvSpPr>
        <p:spPr>
          <a:xfrm>
            <a:off x="685800" y="4714560"/>
            <a:ext cx="54864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FA39-5E37-41A2-9F8B-ECDEEEE2AF18}" type="slidenum">
              <a:rPr b="0" lang="hr-HR"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47880" y="744480"/>
            <a:ext cx="4964040" cy="3722760"/>
          </a:xfrm>
          <a:prstGeom prst="rect">
            <a:avLst/>
          </a:prstGeom>
          <a:ln w="0">
            <a:noFill/>
          </a:ln>
        </p:spPr>
      </p:sp>
      <p:sp>
        <p:nvSpPr>
          <p:cNvPr id="341" name="PlaceHolder 2"/>
          <p:cNvSpPr>
            <a:spLocks noGrp="1"/>
          </p:cNvSpPr>
          <p:nvPr>
            <p:ph type="body"/>
          </p:nvPr>
        </p:nvSpPr>
        <p:spPr>
          <a:xfrm>
            <a:off x="685800" y="4714560"/>
            <a:ext cx="54864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očeta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8262-F321-4BD2-A6D4-0CE414FC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EB074-6973-4302-A64A-90B2FDB5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7030F-0C2B-4F2C-B431-826D6703C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07137-D327-4648-8DC7-987B9A0CC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71F39-9E04-4C1B-88B1-CCA18CECE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7"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3EFA5-8B5A-40AE-ACEB-8CA552D84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9"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2060D-B641-488C-A10B-A75364981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51"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40D21-93EF-4135-8907-D6B9791EA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3ED6E-B622-423C-9E54-78011259C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048B6-1252-4D9C-83C2-3BF37884C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56"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5B25-61A2-462E-BE4B-D77B4D471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362F-4170-4D87-AF20-ADEEABF89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0"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1723-0550-40FC-83F5-7C408FBAD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4"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5E37E-9F0E-442F-B940-1C692CC10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8"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B7D0F-3FFE-40AF-AD63-7FC03B69C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71"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84367-0F42-410F-838F-34680F616F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76"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13B91-7949-4724-BF0D-9BBADBD28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15EFE-A70C-4502-B32E-1E502F602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6FB04-D5B0-4288-B3A4-479E0200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E8A16-249D-4720-AF68-A3305CA2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CDF65-0B49-4A61-8C52-2CBB21AE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7BD4-C3D0-4199-B319-0BFD0F214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E84C-0527-4F7E-B2C1-2CEC98B3D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0638-CD4F-4270-A3F5-521B1C009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023A-E2A3-4990-9F91-064C8839CE03}"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67C6-8ABD-4A6A-998E-6C9E37287FA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42"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3" name="PlaceHolder 3"/>
          <p:cNvSpPr>
            <a:spLocks noGrp="1"/>
          </p:cNvSpPr>
          <p:nvPr>
            <p:ph type="dt" idx="4"/>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8805-5F8E-442B-8A9A-39627C1CDEAF}"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Ana Garačić, sutkinja Vrhovnog suda Republike Hrvatske</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FB99-4064-42A8-A454-1734DD4B7279}"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754200" y="1218960"/>
            <a:ext cx="7997760" cy="464508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rPr>
              <a:t>KAZNENO MATERIJALNO PRAVO</a:t>
            </a:r>
            <a:endParaRPr b="0" lang="en-US" sz="4000" spc="-1" strike="noStrike">
              <a:solidFill>
                <a:srgbClr val="333399"/>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333399"/>
                </a:solidFill>
                <a:latin typeface="Arial"/>
              </a:rPr>
              <a:t>II. Edukacija sudaca prekršajnih sudova – 2018.</a:t>
            </a:r>
            <a:endParaRPr b="0" lang="en-US" sz="4000" spc="-1" strike="noStrike">
              <a:solidFill>
                <a:srgbClr val="333399"/>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333399"/>
                </a:solidFill>
                <a:latin typeface="Arial"/>
              </a:rPr>
              <a:t> </a:t>
            </a:r>
            <a:endParaRPr b="0" lang="en-US" sz="4000" spc="-1" strike="noStrike">
              <a:solidFill>
                <a:srgbClr val="333399"/>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3399"/>
                </a:solidFill>
                <a:latin typeface="Times New Roman"/>
                <a:ea typeface="Times New Roman"/>
              </a:rPr>
              <a:t>●</a:t>
            </a:r>
            <a:r>
              <a:rPr b="1" lang="hr-HR" sz="4000" spc="-1" strike="noStrike">
                <a:solidFill>
                  <a:srgbClr val="333399"/>
                </a:solidFill>
                <a:latin typeface="Arial"/>
              </a:rPr>
              <a:t>ujednačavanje sudske prakse</a:t>
            </a:r>
            <a:endParaRPr b="0" lang="en-US" sz="4000" spc="-1" strike="noStrike">
              <a:solidFill>
                <a:srgbClr val="333399"/>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90" name="PlaceHolder 2"/>
          <p:cNvSpPr>
            <a:spLocks noGrp="1"/>
          </p:cNvSpPr>
          <p:nvPr>
            <p:ph type="title"/>
          </p:nvPr>
        </p:nvSpPr>
        <p:spPr>
          <a:xfrm>
            <a:off x="659880" y="1301400"/>
            <a:ext cx="7797960" cy="4605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ff0066"/>
                </a:solidFill>
                <a:latin typeface="Arial"/>
              </a:rPr>
              <a:t>                     </a:t>
            </a:r>
            <a:endParaRPr b="1" lang="en-US" sz="4800" spc="-1" strike="noStrike">
              <a:solidFill>
                <a:srgbClr val="ff0066"/>
              </a:solidFill>
              <a:latin typeface="Arial"/>
            </a:endParaRPr>
          </a:p>
        </p:txBody>
      </p:sp>
      <p:sp>
        <p:nvSpPr>
          <p:cNvPr id="91" name="Rectangle 37"/>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6693-30DC-4A80-948E-BF5DF61C9612}"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92" name="Rectangle 3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predsjednica Kaznenog odjela Vrhovnoga suda</a:t>
            </a:r>
            <a:endParaRPr b="0" lang="en-US" sz="1200" spc="-1" strike="noStrike">
              <a:solidFill>
                <a:srgbClr val="000000"/>
              </a:solidFill>
              <a:latin typeface="Tahoma"/>
            </a:endParaRPr>
          </a:p>
        </p:txBody>
      </p:sp>
      <p:sp>
        <p:nvSpPr>
          <p:cNvPr id="93" name="Rectangle 41"/>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1A45-D046-44ED-80A8-78429BD406DD}"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Zakon o sudovima za mladež</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Članak 29. stavak 4</a:t>
            </a:r>
            <a:r>
              <a:rPr b="0" lang="hr-HR" sz="2400" spc="-1" strike="noStrike">
                <a:solidFill>
                  <a:srgbClr val="333399"/>
                </a:solidFill>
                <a:latin typeface="Arial"/>
              </a:rPr>
              <a:t>. Zakon o sudovima za mladež („Narodne novine“ br: 84/11., 143/12., 148/13. i 56/15. - dalje u tekstu: ZSM)</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zbog počinjenja novog djela sud utvrdi da „kazna iz ranije presude neće biti pridržana“ optuženik se osuđuje na novu jedinstvenu kaznu bez prethodnog utvrđivanja kazne za svako pojedino djelo, na što upućuje čl. 29. stavak 4. ZSM/11.</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3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2AFB-8C71-4B0E-B106-86F7DAF5D1F6}"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3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3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92D7-A9C9-4C4F-8126-64FA7F9B0AFC}"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2040" y="1379520"/>
            <a:ext cx="8244000" cy="4687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zneni zakon</a:t>
            </a:r>
            <a:endParaRPr b="0" lang="en-US" sz="24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Članak 3. stavak 2. u svezi s člankom 68. </a:t>
            </a:r>
            <a:r>
              <a:rPr b="1" lang="hr-HR" sz="2000" spc="-1" strike="noStrike">
                <a:solidFill>
                  <a:srgbClr val="333399"/>
                </a:solidFill>
                <a:latin typeface="Arial"/>
              </a:rPr>
              <a:t>Kaznenog zakona </a:t>
            </a:r>
            <a:r>
              <a:rPr b="0" lang="hr-HR" sz="2000" spc="-1" strike="noStrike">
                <a:solidFill>
                  <a:srgbClr val="333399"/>
                </a:solidFill>
                <a:latin typeface="Arial"/>
              </a:rPr>
              <a:t>(„Narodne novine“ br: 125/11., 144/12., 56/15. i 61/15. -  dalje u tekstu: KZ/11) i člankom 75. Kaznenog zakona – ("Narodne novine" br: 110/97, 27/98, 50/00, 129/00, 51/01, 111/03, 190/03, 105/04, 84/05, 71/06, 110/07, 152/08, 57/11 i 77/11 – dalje u tekstu: KZ/97) </a:t>
            </a:r>
            <a:endParaRPr b="0" lang="en-US" sz="20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dredba članka 75. stavka 3. KZ/97 blaža je za počinitelja od odredbe iz članka 68. KZ/11 jer propisuje da obvezno psihijatrijsko liječenje u svakom slučaju ne može trajati dulje od pet godina, dok odredba članka 68. KZ/11 ne sadrži posebne rokove maksimalnog trajanja ove mjere.</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4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9BC7-BCF9-4A23-949F-469951E67650}"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4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4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C3FF-ED93-4897-BDEF-D54C04148A5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zneni zakon</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59. stavak 2. Kazneni zakon („Narodne novine“ br: 125/11., 144/12., 56/15. i 61/15.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kolnost neisplate imovinskopravnog zahtjeva oštećenoj osobi, nije sam po sebi razlog za odbijanje prijedloga za uvjetni otpust.</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4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3805-2C97-43A3-A401-F5AB45C159D3}"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4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4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F930-02A9-44B1-B254-24CF6E4E697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zneni zakon</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139. stavak 3. Kazneni zakon („Narodne novine“ br: 125/11., 144/12., 56/15. i 61/15.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stvareni su elementi kaznenog djela prijetnje iz članka 139. stavka 3. KZ/11 kada je optuženik zaprijetio sudskoj zapisničarki da će je usmrtiti zbog toga što mu je odbila izdati dozvolu za posjet okrivljeniku jer je kazneno djelo počinjeno prema službenoj osobi u svezi s njezinim radom što je posebni modalitet ostvarenja ovog kaznenog djel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5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DD6A-AF95-4A88-9EC7-13C9B5A68A00}"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5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5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846D-AD08-4609-8DE7-188A5D3D5DC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70. stavak 1.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Sigurnosna mjera, obvezan psihosocijalni tretman ne može se izreći počinitelju teškog kaznenog djelo dovođenja u opasnost života i imovine općeopasnom radnjom ili sredstvom, prouzročenje požara, jer nije riječ o kaznenom djelo s obilježjem nasilja kako je propisano u članak 70. stavak 1. KZ/11.</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5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1DD6-868C-4830-B1F9-6827C758D9B9}"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5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5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72CE-0B1E-4A77-AB99-9EE3D43936B5}"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147. stavak 2.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su ostvareni elementi kaznenoga djela uvrede iz članka 147. st. 2. KZ/11, uvreda pred većim brojem osoba ako je počinjena pred tri osobe jer je za ostvarenje kvalifikacije pristupačnosti uvrede većem broju osoba, mora raditi o najmanje pet ili više osoba.</a:t>
            </a:r>
            <a:endParaRPr b="0" lang="en-US" sz="2400" spc="-1" strike="noStrike">
              <a:solidFill>
                <a:srgbClr val="3333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6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877D-2CD7-4B2F-8CCF-BB5618067305}"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6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6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79F7-51A4-475F-99DB-A420FE353191}"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184. stavak 1.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su ostvareni elementi kaznenog djela nadrilječništva iz članka 184. stavka 1. KZ/11 kada je riječ samo o jednokratnom liječenju ili pružanju medicinske pomoći bez odgovarajuće stručne spreme u odnosu na jednu osobu zbog jedne bolesti jer je ovdje riječ o tzv. kolektivnom kaznenom koje je sastavljeno od više istovrsnih radnji obuhvaćenih u jedinstvenom skupno djelu koje traju kontinuirano.</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6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E256-028B-4AD3-AA5C-44A6E4061B34}"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6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6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A768-75F0-4ED9-A029-4C63541E362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65. stavak 5.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U radnjama optuženika ostvareni su elementi kaznenog djela pranja novca iz članka 265. stavka 5. KZ/11 kada su, za unaprijed dobiveni značajni honorar, u dogovoru s nepoznatom osobom preuzeli na svoj račun veće sume novca koji su kasnije uplatili na račun različitih osoba u Rusiji.</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7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2C12-CA4C-4A6D-A42A-69BEE341CC01}"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7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7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0E62-9977-4E35-8A29-08A37FD8E5B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78. stavak 1. i Kaznenog zakona (NN, 110/97, 27/98, 50/00, 129/00, 51/01, 105/04, 84/05, 71/06, 110/97, 152/08)</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su ispunjene pretpostavke za izricanje sigurnosne mjere zabrane upravljanja motornim vozilom kada počinjeno kazneno djelo izazivanja prometne nesreće predstavlja izolirani eksces u dosadašnjem životu optuženika, a pritom je od počinjenja tog kaznenog djela proteklo više od osam godina za koje je vrijeme radio kao profesionalni vozač što znači da je svakodnevno puno radno vrijeme upravljao vozilom.</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7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18D3-C89C-4F92-9083-BC8DD0464314}"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7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7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5B58-5355-4A95-B374-ADD91993CF9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09. Kaznenog zakona (NN, 110/97., 27/98., 50/00., 129/00., 51/01., 111/03., 190/03., 105/04., 84/05., 71/06., 110/07., 152/08., 57/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zneno djelo povrede dužnosti uzdržavanja iz članka 209. KZ/97 čini i onaj tko ne uzdržava osobu koju je po zakonu dužan uzdržavati na način u visini i u rokovima određenim sudskom odlukom ili bilo kojom drugom ovršnom ispravom. </a:t>
            </a:r>
            <a:endParaRPr b="0" lang="en-US" sz="2400" spc="-1" strike="noStrike">
              <a:solidFill>
                <a:srgbClr val="333399"/>
              </a:solidFill>
              <a:latin typeface="Arial"/>
            </a:endParaRPr>
          </a:p>
        </p:txBody>
      </p:sp>
      <p:sp>
        <p:nvSpPr>
          <p:cNvPr id="18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8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1E2E-59D0-4AB0-9379-1B511330CE1E}"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8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8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47C8-729E-4284-8096-7208F6F71F4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2040" y="1727280"/>
            <a:ext cx="8244000" cy="43401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Ujednačavanje kaznene sudske prakse u odnosu na odluke svih sudova, prvostupanjskih općinskih i drugostupanjskih  županijske danas je povezano s niz poteškoća. Jer</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Još uvijek nemamo </a:t>
            </a:r>
            <a:r>
              <a:rPr b="1" lang="hr-HR" sz="2400" spc="-1" strike="noStrike">
                <a:solidFill>
                  <a:srgbClr val="333399"/>
                </a:solidFill>
                <a:latin typeface="Arial"/>
              </a:rPr>
              <a:t>- jedan apelacioni sud -  </a:t>
            </a:r>
            <a:r>
              <a:rPr b="0" lang="hr-HR" sz="2400" spc="-1" strike="noStrike">
                <a:solidFill>
                  <a:srgbClr val="333399"/>
                </a:solidFill>
                <a:latin typeface="Arial"/>
              </a:rPr>
              <a:t>koji bi kao drugostupanjski sud ujednačavao praksu svih općinskih sudova u Republici Hrvatskoj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2"/>
          <p:cNvSpPr>
            <a:spLocks noGrp="1"/>
          </p:cNvSpPr>
          <p:nvPr>
            <p:ph type="title"/>
          </p:nvPr>
        </p:nvSpPr>
        <p:spPr>
          <a:xfrm>
            <a:off x="642960" y="739440"/>
            <a:ext cx="7772400" cy="639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9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7042-92B7-4131-B560-464E3EE503DC}"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97"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9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FC6C-009A-4176-9B9E-3FA21A07294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46. stavak 2.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stvareni su elementi kaznenoga djela zlouporabe povjerenja u gospodarskom poslovanju kada su optuženici novac koji je grad Bjelovar uplaćivao za potrebe dječjega vrtića trošili nenamjenski.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8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3EDF-777C-4BC8-95DC-3D489FDC7FBD}"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8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8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7705-881D-4560-B415-7607BD3168BE}"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72. stavak 3.</a:t>
            </a:r>
            <a:r>
              <a:rPr b="0" i="1" lang="hr-HR" sz="2400" spc="-1" strike="noStrike">
                <a:solidFill>
                  <a:srgbClr val="333399"/>
                </a:solidFill>
                <a:latin typeface="Arial"/>
              </a:rPr>
              <a:t> </a:t>
            </a:r>
            <a:r>
              <a:rPr b="0" lang="hr-HR" sz="2400" spc="-1" strike="noStrike">
                <a:solidFill>
                  <a:srgbClr val="333399"/>
                </a:solidFill>
                <a:latin typeface="Arial"/>
              </a:rPr>
              <a:t>Kaznenog zakona (NN, 110/97., 27/98., 50/00., 129/00., 51/01., 111/03., 190/03., 105/04., 84/05., 71/06., 110/07., 152/08., 57/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ptuženik je kazneno djelo izazivanja prometne nesreće iz članka 272. stavka 3. KZ/97 ostvario s neizravnom namjerom kada je u naseljenom mjestu upravljao vozilo brzinom od 104 km/h i s 1,53 g/kg alkohola u krvi.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9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62AB-AC28-4D35-8770-CE1E96065F63}"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9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9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AEDF-82E7-4D78-AEC3-E58037691D0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2.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je postupala u krajnjoj nuždi optuženik koji je nakon prijetnji drugog optuženika i tražiti da mu vrati pozajmljeni novac jer će u protivnom nešto nažao učiniti njegovoj ženi i djeci dug isplatio počinjenjem kaznenog djela prijevare  jer je opasnost mogao otkloniti traženjem pomoći policije i državnog odvjetništv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9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B1C2-4F01-4B51-8AC3-13601FD1EECB}"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9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9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5911-04A6-4A9C-8E96-036FAE6173E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0. u svezi s člankom 158. stavkom 1.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je optuženik bio u zabludi o dobi oštećenice, a kod kazneno djelo spolnog odnošaja s djetetom  iz članka 158. stavka 1. Kaznenog zakona to jest dob oštećenice, valjalo ga je osloboditi od optužbe jer postoje okolnosti koje isključuju krivnju.</a:t>
            </a:r>
            <a:endParaRPr b="0" lang="en-US" sz="2400" spc="-1" strike="noStrike">
              <a:solidFill>
                <a:srgbClr val="3333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0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4496-A80A-45EB-B4BD-3ED88A31FFFC}"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0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0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67C8-EC74-4105-B394-6A79C3001EE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3. stavak 1. u svezi čl. 218. st. 2. Kaznenog zakona („Narodne novine“ br: 110/97, 27/98, 50/00, 129/00, 51/01, 111/03, 190/03 – odluka Ustavnog suda, 105/04, 84/05, 71/06, 110/07, 152/08 i 57/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Samim dolaskom u blizinu ulaznih vrata poslovnice prodavaonice za otkup zlata s rukavicama na rukama, sunčanim naočalama i  nožem gdje je od djelatnika policije svladan, optuženik još nije ušao u zonu pokušaj kaznenog djela razbojništva, nego je riječ o pripremnim radnjama koje nisu kažnjive.</a:t>
            </a:r>
            <a:endParaRPr b="0" lang="en-US" sz="2400" spc="-1" strike="noStrike">
              <a:solidFill>
                <a:srgbClr val="3333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0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B496-2C3C-4950-B794-7C5EA951B428}"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0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0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52E8-9E23-4F12-B914-ABB1C3BD576C}"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Kazneni zakon</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NN, 110/97, 27/98, 50/00, 129/00, 51/01, 111/03, 190/03, 105/04, 84/05, 71/06, 110/07, 152/08)</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61. stavak 2. u svezi s člankom 178.</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je riječ o produljenom kaznenom djelu međunarodne prostitucije jer je svako djelo počinjeno je prema različitoj osobi, a kako je sloboda i pravo čovjeka i građanina kao pojedinca zaštitni objekt tih djela to ih navedena okolnost individualizir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1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686A-B80B-44DA-A57B-814E6F0E5B8A}"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1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1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25F6-CF17-4C30-9651-3BA9DC31B1D5}"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79. stavci 2. i 3. Kaznenog zakona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ko je nedvojbeno utvrđeno da optuženik nije posjedovao dozvolu za držanje i nošenje pištolja iz kojeg je  pucao,  ispunjenje su pretpostavke da sud radi zaštite opće sigurnosti od optuženika oduzme i oružje i streljivo iako ga nije proglasio krivim za predmetno kazneno djelo.</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1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6E46-8568-47F2-BD6F-F131987E9978}"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1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1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FB04-6391-494B-9A07-87B4B900DE4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123. stavak 2. Kazneni zakon („Narodne novine“ br: 125/11., 144/12., 56/15. i 61/15.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su ostvareni elementi kaznenoga djela nepružanja pomoći kada je žrtva prometne nesreće odmah ili ubrzo, prema nalazu i mišljenje medicinskog vještaka oko pet minuta nakon naleta vozila, umrl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2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7690-E54A-455F-B2E7-7795E7F72F9D}"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2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2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C02C-74C8-4072-8A79-2AA2D9BA13FC}"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139. stavak 3. Kazneni zakon („Narodne novine“ br: 125/11., 144/12., 56/15. i 61/15.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stvareni su elementi kaznenog djela prijetnje iz članka 139. stavka 3. KZ/11 kada je optuženik zaprijetio sudskoj zapisničarki da će je usmrtiti zbog toga što mu je odbila izdati dozvolu za posjet okrivljeniku zbog toga to je kazneno djelo počinjeno prema službenoj osobi u svezi s njezinim radom, a što je posebni modalitet ostvarenja ovog kaznenog djel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2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F3A0-B427-44E2-8F21-05C90A1BABBD}"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2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2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ED5E-69A2-4D16-A7F0-FAE392039B6E}"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58. u svezi  članka 57. stavka 5. Kaznenog zakona (NN, 125/11., 144/12., 56/15., 61/15. i 101/17.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sud opozove djelomične uvjetne osude pa u novim postupku izrekne jedinstvenu kaznu, opoziva se cijela kazna, a ne samo njezin dio kazne koji je u djelomičnoj uvjetnoj osudi uvjetovan, a zatim izriče jedinstvena kazna u koju  uračunava onaj dio kazne iz djelomične uvjetne osude koji je optuženik već izdržao.</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3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386C-5505-48B6-B53E-A95C6237C4BB}"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3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3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FE83-C92D-427C-A761-A89A431C2E2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Cilj:</a:t>
            </a: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ujednačena sudska praksa</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ko ga postići:</a:t>
            </a: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dostupnost sudske prakse svim sucima, općoj i pravnoj javnosti –</a:t>
            </a:r>
            <a:r>
              <a:rPr b="1" lang="hr-HR" sz="2400" spc="-1" strike="noStrike">
                <a:solidFill>
                  <a:srgbClr val="333399"/>
                </a:solidFill>
                <a:latin typeface="Arial"/>
              </a:rPr>
              <a:t> internet </a:t>
            </a:r>
            <a:r>
              <a:rPr b="0" lang="hr-HR" sz="2400" spc="-1" strike="noStrike">
                <a:solidFill>
                  <a:srgbClr val="333399"/>
                </a:solidFill>
                <a:latin typeface="Arial"/>
              </a:rPr>
              <a:t>– </a:t>
            </a:r>
            <a:r>
              <a:rPr b="1" i="1" lang="hr-HR" sz="2400" spc="-1" strike="noStrike">
                <a:solidFill>
                  <a:srgbClr val="333399"/>
                </a:solidFill>
                <a:latin typeface="Arial"/>
              </a:rPr>
              <a:t>Portal sudske prakse</a:t>
            </a: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dostupnost sudske prakse svim sucima – </a:t>
            </a:r>
            <a:r>
              <a:rPr b="1" lang="hr-HR" sz="2400" spc="-1" strike="noStrike">
                <a:solidFill>
                  <a:srgbClr val="333399"/>
                </a:solidFill>
                <a:latin typeface="Arial"/>
              </a:rPr>
              <a:t>intranet </a:t>
            </a:r>
            <a:r>
              <a:rPr b="0" lang="hr-HR" sz="2400" spc="-1" strike="noStrike">
                <a:solidFill>
                  <a:srgbClr val="333399"/>
                </a:solidFill>
                <a:latin typeface="Arial"/>
              </a:rPr>
              <a:t>– </a:t>
            </a:r>
            <a:r>
              <a:rPr b="1" i="1" lang="hr-HR" sz="2400" spc="-1" strike="noStrike">
                <a:solidFill>
                  <a:srgbClr val="333399"/>
                </a:solidFill>
                <a:latin typeface="Arial"/>
              </a:rPr>
              <a:t>SupraNova</a:t>
            </a: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r>
              <a:rPr b="0" lang="hr-HR" sz="2400" spc="-1" strike="noStrike">
                <a:solidFill>
                  <a:srgbClr val="333399"/>
                </a:solidFill>
                <a:latin typeface="Arial"/>
              </a:rPr>
              <a:t>zakonodavno okvir – Zakon o sudovima (čl. 27. i čl. 43. ZOS)</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0"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01"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568F-30D4-4F6E-A100-72F0742347D4}"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02"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03"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EF96-CFB8-437E-ABCD-2D730D22C7B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2040" y="1450800"/>
            <a:ext cx="8244000" cy="461664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89. stavak 15. Kazneni zakon („Narodne novine“ br: 125/11., 144/12., 56/15., 61/15. i 101/17. – dalje u tekstu: KZ/11.</a:t>
            </a:r>
            <a:r>
              <a:rPr b="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ko zamolba za donacija sjemenskog kukuruza ne predstavlja ispravu u smislu odredbe članka 87. stavka 15. KZ/11 zbog čega okrivljenik koji je na takvu zamolbu u donjem desnom uglu skenirao žig lovačkog društva i ime I. M. kao predsjednika tog lovačkog društva bez njegovog potpisa, a sebe postavio kao kontakt osobu, a zatim tako izrađenu zamolbu predao na BC Institut, time nije počinio kazneno djelo krivotvorenja isprave.</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3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79B9-20F4-432F-9C64-9902ECD3FC8F}"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3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3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55AC-07F7-48B0-AFBF-CBF2A35B9C81}"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139. stavak 3. Kazneni zakon („Narodne novine“ br: 125/11., 144/12., 56/15. i 61/15.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su ostvareni elementi kaznenog djela prijetnje iz članka 139. stavka 3. KZ/11 jer se ne može smatrati da su oštećenici zbog prijetnje dulje vrijeme stavljeni u težak položaj kada je prijetnja trajala od 2. do 6. srpnja 2017., nego je riječ o kaznenom djelu iz članka 139. stavak 2. KZ/11.</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4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05D9-C254-4BC4-A456-36BDD7105622}"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4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4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FF85-A44D-4CE4-9A2B-0B038B09FBDA}"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51. Kaznenog zakona (NN, 125/11., 144/12., 56/15., 61/15. i 101/17.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Riječ je o realnom stjecaju kaznenog djela povreda djetetovih prava iz članka 177. stavka 2. KZ/11 i kaznenog djela nasilje u obitelji iz članka 179.a KZ/11 kada je utvrđeno da je optuženik u različitim vremenskim periodima na štetu svoje supruge počinio kazneno djelo nasilja u obitelji  koje je ostvarivao pred svojim djetetom tako da ostvario i kazneno djelo povrede djetetovih prav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4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AE55-5DDE-4B28-9D90-046E6F51B766}"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4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4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70F0-6B30-4C60-BBD3-A870C753C26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 stavak 2. u vezi s člankom 55. Kaznenog zakona (NN, 110/97, 27/98, 50/00, 129/00, 51/01, 111/03, 190/03, 105/04, 84/05, 71/06, 110/07, 152/08, 57/11, 77/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se optuženiku sudi za kazneno djelo počinjeno prije stupanja na snagu III. Novele KZ/11 (NN, 101/17 od 12. listopada 2017.) može mu se izreći rada za opće dobro premda je ranije bio osuđen na kaznu zatvora dulju od šest mjeseci.</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5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5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15F2-D430-48CE-8A08-BA3320C71BF8}"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5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5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23E1-4DFC-49F4-9646-723550D3D66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12. stavak 1. Kaznenog zakona (NN, 110/97, 27/98, 50/00, 129/00, 51/01, 111/03, 190/03, 105/04, 84/05, 71/06, 110/07, 152/08 i 57/11 – dalje u tekstu KZ/97)</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isu ostvareni elementi kaznenog djela krivotvorenja službene isprave iz članka 312. stavka 1. KZ/97 jer optužni prijedlog za kojeg se optuženica tereti da ga je sačinila i u njega unijela neistiniti sadržaj, ne predstavlja službenu ispravu.</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5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5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A6E1-8722-4E42-9ABE-1C9DD37E9AD9}"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5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5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945A-33C4-4617-ABBB-563755985C9E}"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92040" y="1436400"/>
            <a:ext cx="8244000" cy="463068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Članak 3. stavak 3.  Kaznenog zakona (NN, 125/11., 144/12., 56/15., 61/15. i 101/17. – dalje u tekstu: KZ/11.) u svezi s člankom 256. stavak 1. KZ/11  i člankom 286. stavkom 1. Kaznenog zakona (NN, 110/97, 27/98, 50/00, 129/00, 51/01, 111/03, 190/03 – odluka Ustavnog suda, 105/04, 84/05, 71/06, 110/07, 152/08, 57/11 – dalje u tekstu KZ/97)</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Postoji pravni kontinuitet  između kaznenog djela utaje poreza i drugih davanja iz članka 286. stavak 1. KZ/97. i kaznenog djela utaje poreza ili carine iz članka 256. stavak 1. KZ/11. koja odredba je blaža za počinitelja jer je za opstojnost kaznenog djela propisano da smanjenje ili neutvrđenje porezne ili carinske obveze treba prelaziti 20.000,00 kuna, a prema staroj odredbi iz KZ/97 ona je trebala prelaziti 10.000,00 kn.</a:t>
            </a:r>
            <a:endParaRPr b="0" lang="en-US" sz="2000" spc="-1" strike="noStrike">
              <a:solidFill>
                <a:srgbClr val="333399"/>
              </a:solidFill>
              <a:latin typeface="Arial"/>
            </a:endParaRPr>
          </a:p>
        </p:txBody>
      </p:sp>
      <p:sp>
        <p:nvSpPr>
          <p:cNvPr id="26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6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22B8-A5E7-4BB8-A8F6-5B9D8E239202}"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6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6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CA9E-C7BE-4E19-BC1C-FBA01AA1D41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Članak 3. stavak 3. Kaznenog zakona (NN, 125/11., 144/12., 56/15., 61/15. i 101/17. – dalje u tekstu: KZ/11.) u svezi članka 193. stavka 2. Kaznenog zakona (NN, 110/97, 27/98, 50/00, 129/00, 51/01, 111/03, 190/03, 105/04, 84/05, 71/06, 110/07, 152/08, 57/11 i 77/11) i članka 158 .stavka 2. KZ/11.</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Postoji pravni kontinuitet između kaznenog djela bludne radnje iz čl. 193. st. 2. u svezi st. 1. KZ/97. i kaznenog djelu bludne radnje iz čl. 155. st. 1. KZ/11 (a ne kaznenog kazneno djelo spolne zlouporabe djeteta mlađeg od 15 godina iz čl. 158. st. 2. KZ/11.) kada je u vrijeme počinjenja kaznenog djela bludne radnje oštećenica imala 14 godina i četiri mjeseca što znači da nije bila dijete nego maloljetna osoba zbog čega se optuženi ne može staviti u nepovoljniji položaj na način da ga se tereti za kazneno djelo spolne zlouporabe djeteta mlađeg od 15 godina iz čl. 158. st. 2. KZ/11.</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6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6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2B29-448A-4440-AE64-52B193E33F33}"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6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6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54FC-FDE9-4845-84E8-0046FBBF1C0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Članak 9. stavak 1. Kaznenog zakona (NN, 125/11., 144/12., 56/15., 61/15. i 101/17. – dalje u tekstu: KZ/11.)</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 </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Kazneno djelo počinjeno objavom inkriminirajućeg sadržaja na facebook profilima okrivljenika zbog prirode toga medija privatni tužitelj niti ne može znati na kojoj lokaciji su se okrivljenici fizički nalazili dok su inkriminirane objave stavljali na svoj facebook profil, ali to za ocjenu mjesta počinjenja djela to nije i relevantno jer je mjesto počinjenja kaznenog djela gdje je ono mjesto gdje je počinitelj radio ili bio dužan raditi i mjesto gdje je u cjelini ili djelomično nastupila posljedica iz zakonskog opisa kaznenog djela ili je prema njegovoj zamisli trebala nastupiti</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7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7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6EE5-EB7C-450A-B51D-28509F098296}"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7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7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2636-7764-4A9C-A6BB-418835A9A55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ubTitle"/>
          </p:nvPr>
        </p:nvSpPr>
        <p:spPr>
          <a:xfrm>
            <a:off x="392040" y="1596600"/>
            <a:ext cx="8244000" cy="4659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51. Kaznenog zakona (NN, 125/11., 144/12., 56/15., 61/15. i 101/17.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Riječ je o realnom stjecaju kaznenog djela prijetnje iz članka 139. stavka 2. KZ/11 i kaznenog djela nasilje u obitelji iz članka 179.a KZ/11 kada je utvrđeno da je  riječ o dva potpuno različita životna događaja, koji svaki za sebe ostvaruje obilježja različitih kaznenih djela ostvarenih u različito vrijeme tako da nije u pitanju prividni već heterogeni realni stjecaj.</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7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7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0E8E-B6CD-43E4-9E5A-1AE136BA2A99}"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7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7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7481-764B-4524-87EB-2386A904197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77. stavak 2.  Kaznenog zakona (NN, 125/11., 144/12., 56/15., 61/15. i 101/17.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je dosuđen imovinskopravni zahtjev koji je po iznosu niži od pribavljene imovinske koristi sud je uz dosuđenje imovinskopravni zahtjev od optuženika dužan oduzeti imovinsku korist koja je ostvarena, a koja premašuje dosuđeni imovinskopravni zahtjev.</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8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8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9CE9-AC9F-4F2E-8309-95A0361CABF8}"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8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8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B9D2-96FD-466F-9365-FF2D20C336F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2040" y="1727280"/>
            <a:ext cx="8244000" cy="43401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Vrhovni sud Republike Hrvatske će radi razmatranja spornih pravnih pitanja koja se odnose na drugostupanjsko sudovanje, u svrhu ujednačavanja sudske prakse, svakih šest mjeseci, a po potrebi i češće, </a:t>
            </a:r>
            <a:r>
              <a:rPr b="1" lang="hr-HR" sz="2400" spc="-1" strike="noStrike">
                <a:solidFill>
                  <a:srgbClr val="333399"/>
                </a:solidFill>
                <a:latin typeface="Arial"/>
              </a:rPr>
              <a:t>organizirati zajednički sastanak s predsjednicima sudskih odjela svih županijskih sudova.</a:t>
            </a:r>
            <a:r>
              <a:rPr b="0"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Zaključci sa sastanka objavit će se na internetskoj stranici Vrhovnog suda Republike Hrvatske.</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5"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0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14C3-E8BA-4858-9285-6BD467BF48E1}"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07"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0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5500-9C0B-4E3A-8050-19C3B4E2CD4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82. stavak 1.  Kaznenog zakona (NN, 125/11., 144/12., 56/15., 61/15. i 101/17.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se zastara računa prema KZ/11, a posljedica koja je obilježje kaznenoga djela nastupi kasnije zastara počinje teći od toga trenutka.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8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8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2629-AB85-407C-892C-A570A99AB912}"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8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8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F87B-389E-4386-8A56-69F485F53060}"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56. stavak 3. Kaznenog zakona (NN, 125/11., 144/12., 56/15., 61/15. i 101/17.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ptuženik koji je iskazao pretporez po primljenim isporukama u iznosu od 14.238.070,00 kn u vezi sa sedam računa, a znajući da te račune nije platio i da pravo na odbitak pretporeza od obveze plaćanja poreza na dodanu vrijednost u tom iznosu ne može iskoristiti, dao je netočne podatke o činjenicama koje su od utjecaja na utvrđivanje iznosa poreske obveze i time ostvario sve elemente kaznenog djela utaje poreza ili carine.</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9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9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48B7-DD6D-40E3-B97A-66A5015CE19E}"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9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9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8767-DE60-4238-9276-96F6F1FF3C6D}"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 22. st. 1. Kaznenog zakona – ("Narodne novine" br: 125/11, 144/12 i 56/15)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ptuženica se ne može pozivati na to da je kazneno djelo utaje poreza i carine iz članka 256. stavka 1. KZ/11 počinio u stanju krajnje nužde jer je neprihvatljivo njezino obrazloženje da je djelomičnim izbjegavanjem plaćanja poreza, otklonjena opasnost od prestanka rada društva i da su spašena radna mjesta, te da je ostvarena značajna društvena korist.</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9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29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3758-E121-41AB-8CF1-1E973F20606E}"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29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29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8500-CB50-46FE-B712-70E5A7D6C0F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4.  stavak 1. Kaznenog zakona – ("Narodne novine" br: 125/11, 144/12 i 56/15)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Pokušaj kaznenog djela je kažnjiv za sva ona kaznena djela za koja je propisana kazna zatvora od pet godina ili teža,  pa tima i za ona za koje je propisana kazna zatvora do maksimalno pet godina.</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0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8D24-A855-4473-B657-EB57DF65473D}"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0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0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BDC8-D131-41A4-9D3A-652E4615D18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7. stavak 1. u svezi s člankom 224. stavkom 4. Kaznenog zakona - "Narodne novine", broj 110/97, 27/98, 50/00, 129/00, 51/01, 111/03, 190/03, 105/04)</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P</a:t>
            </a:r>
            <a:r>
              <a:rPr b="1" lang="hr-HR" sz="2400" spc="-1" strike="noStrike">
                <a:solidFill>
                  <a:srgbClr val="333399"/>
                </a:solidFill>
                <a:latin typeface="Arial"/>
              </a:rPr>
              <a:t>oticanje posredstvom druge osobe (tzv. lančano poticanje) također je poticanje u smislu odredbe članak 37.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0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0020-A9B4-45E2-97FA-0A4CDED62B47}"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0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0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3E11-50CB-4AAC-8F28-4C73C3CAD053}"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8. u svezi članka 218. stavka 2.  Kaznenog zakona (NN 110/97, 27/98, 50/00, 129/00, 51/01, 105/04, 84/05, 71/06, 110/07, 152/08)</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je jedan počinitelj imao ulogu vozača automobila kojim se dolazi na mjesto ostvarenja kaznenog djela razbojništva, a drugi provjerava teren i izvještava počinitelja o tome ne može se smatrati da su oni bitno pridonijeli kao supočinitelj kaznenom djelu razbojništva, nego se njihove radnje trebaju pravno kvalificirati kao pomaganje u ostvarenju tog kaznenog djela.</a:t>
            </a:r>
            <a:endParaRPr b="0" lang="en-US" sz="2400" spc="-1" strike="noStrike">
              <a:solidFill>
                <a:srgbClr val="333399"/>
              </a:solidFill>
              <a:latin typeface="Arial"/>
            </a:endParaRPr>
          </a:p>
        </p:txBody>
      </p:sp>
      <p:sp>
        <p:nvSpPr>
          <p:cNvPr id="31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1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2487-6B15-4E34-BD1B-125434C96A68}"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1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1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0452-C58F-4AE1-8F5D-FF49C296047C}"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384. u svezi čl. 58. stavak 8. Kazneni zakon („Narodne novine“ br: 125/11 i 144/12)</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Prema odredbi članka 384. stavka 1. KZ/11 izvršenje kaznenopravnih sankcija pravomoćno izrečenih sukladno odredbama kaznenog zakona i drugih posebnih propisa iz članka  381. stavka 1. KZ/11, čije izvršenje nije započelo ili je u tijeku, provodit će se sukladno odredbama KZ/11 od dana njegova stupanja na snagu, tj od 1. siječnja 2013., a sud je dužan primijeniti onu Novelu Kaznenog zakona koja je bila na snazi prije isteka roka za izvršenje obveze iz članka 62. KZ.</a:t>
            </a:r>
            <a:endParaRPr b="0" lang="en-US" sz="2400" spc="-1" strike="noStrike">
              <a:solidFill>
                <a:srgbClr val="333399"/>
              </a:solidFill>
              <a:latin typeface="Arial"/>
            </a:endParaRPr>
          </a:p>
        </p:txBody>
      </p:sp>
      <p:sp>
        <p:nvSpPr>
          <p:cNvPr id="31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1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408A-D176-43E5-B659-A85DDBD31B75}"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1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1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C910-AC17-4FB0-ABBA-8E0685D33DE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28. stavak 2. Kazneni zakon („Narodne novine“ br: 125/11., 144/12., 56/15. i 61/15. – dalje u tekstu: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Ostvareni su elementi produljenog kaznenoga djela sitne krađe, a ne produljenog kaznenog djela krađe kada okrivljenikova namjera nije bila pribavljanje robe u vrijednosti većoj od 2.000,00 kuna jer to ne proizlazi iz činjeničnog supstrata optužnice, a izmjene i dopune KZ/11 od 22. svibnja 2015. ne mogu se primijeniti jer su nepovoljnije za optuženik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2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2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ADE0-721A-4086-BF67-772B1D3DA494}"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2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2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19F4-CFD6-444B-AA6A-E8F9E0FE5E4E}"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52.a stavak 2. Kaznenog zakona (NN, 110/97, 27/98, 50/00, 129/00, 51/01, 111/03, 190/03 – odluka Ustavnog suda, 105/04, 84/05, 71/06, 110/07, 152/08, 57/11, 125/11, 143/12)</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aknadnim legaliziranjem građevine koja je sagrađena u zaštićenom obalnom pojasu nje otklonjena kaznena odgovornost za počinjeno kazneno djelo iz članka 252.a KZ/97 jer je zaštićeni obalni pojas od posebnog interesa za Republike Hrvatsku.</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2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2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A80F-4808-492A-AC85-C5469AAD8EF4}"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2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2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9C81-B116-4325-99E5-8481058C9CC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64. stavak 1. Kazneni zakon – („Narodne novine“ br: 125/11., 144/12., 56/15. i 61/15.)</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Ne čini kazneno djelo nedopuštene trgovine počinitelj koji je u studenome 2014. godine prodao 22 kutije duhana u listu jer je tek stupanjem na snagu Zakona o izmjenama i dopunama Zakona o trošarinama iz 2015. godine duhan u listu kao duhanska sirovina, postaje robu čiji je promet ograničen.</a:t>
            </a:r>
            <a:endParaRPr b="0" lang="en-US" sz="2400" spc="-1" strike="noStrike">
              <a:solidFill>
                <a:srgbClr val="333399"/>
              </a:solidFill>
              <a:latin typeface="Arial"/>
            </a:endParaRPr>
          </a:p>
        </p:txBody>
      </p:sp>
      <p:sp>
        <p:nvSpPr>
          <p:cNvPr id="33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33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3139-5BC1-484A-B862-4BA464CDF351}"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3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3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27FE-31BD-47AE-B866-DF3F9FEF437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Ujednačavanje sudske prakse donošenjem pravnih shvaćanja uobičajena je praksa Vrhovnoga suda i nekih viših i županijskih sudova. </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Donošenje pravnih shvaćanja danas je predviđeno u članku 38. Zakonu o sudovima u dijelu koji govori o unutarnjem ustrojstvu sudova, gdje je  opisan način rada sudske uprave i sudskih odjela.</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11"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4689-01B7-4DE0-8E71-F5C702C6FAA4}"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12"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13"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293C-F07F-42A8-A022-7B55D54E37F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ubTitle"/>
          </p:nvPr>
        </p:nvSpPr>
        <p:spPr>
          <a:xfrm>
            <a:off x="392040" y="1379160"/>
            <a:ext cx="8244000" cy="48769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6" name="PlaceHolder 2"/>
          <p:cNvSpPr>
            <a:spLocks noGrp="1"/>
          </p:cNvSpPr>
          <p:nvPr>
            <p:ph type="title"/>
          </p:nvPr>
        </p:nvSpPr>
        <p:spPr>
          <a:xfrm>
            <a:off x="685800" y="2206800"/>
            <a:ext cx="7772400" cy="190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Zahvaljujem na pozornosti !</a:t>
            </a:r>
            <a:endParaRPr b="1" lang="en-US" sz="2800" spc="-1" strike="noStrike">
              <a:solidFill>
                <a:srgbClr val="ff0066"/>
              </a:solidFill>
              <a:latin typeface="Arial"/>
            </a:endParaRPr>
          </a:p>
        </p:txBody>
      </p:sp>
      <p:sp>
        <p:nvSpPr>
          <p:cNvPr id="33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5EF7-9481-494D-AF47-0B6205CA8FD0}"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33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33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701C-6241-4FB9-B9D8-EE6DF82062F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836280"/>
            <a:ext cx="82818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br>
              <a:rPr sz="2800"/>
            </a:br>
            <a:endParaRPr b="1" lang="en-US" sz="2800" spc="-1" strike="noStrike">
              <a:solidFill>
                <a:srgbClr val="ff0066"/>
              </a:solidFill>
              <a:latin typeface="Arial"/>
            </a:endParaRPr>
          </a:p>
        </p:txBody>
      </p:sp>
      <p:sp>
        <p:nvSpPr>
          <p:cNvPr id="115" name=""/>
          <p:cNvSpPr txBox="1"/>
          <p:nvPr/>
        </p:nvSpPr>
        <p:spPr>
          <a:xfrm>
            <a:off x="324000" y="1557360"/>
            <a:ext cx="8686800" cy="46591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UJEDNAČAVANJE SUDSKE PRAKSE DONOŠENJEM ZAKLJUČAKA SA ZAJEDNIČKIH SASTANKA VRHOVNOG SUDA S PREDSJEDNICIMA SUDSKIH ODJELA SVIH ŽUPANIJSKIH SUDOVA</a:t>
            </a:r>
            <a:endParaRPr b="0" lang="en-US" sz="24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Zaključak 1.</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333399"/>
                </a:solidFill>
                <a:latin typeface="Arial"/>
              </a:rPr>
              <a:t>(čl. 264. stavak 1. KZ/11- nedozvoljena trgovina)</a:t>
            </a:r>
            <a:endParaRPr b="0" lang="en-US" sz="2000" spc="-1" strike="noStrike">
              <a:solidFill>
                <a:srgbClr val="333399"/>
              </a:solidFill>
              <a:latin typeface="Arial"/>
            </a:endParaRPr>
          </a:p>
          <a:p>
            <a:pPr>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333399"/>
                </a:solidFill>
                <a:latin typeface="Arial"/>
              </a:rPr>
              <a:t>Ne čini kazneno djelo nedozvoljene trgovine počinitelj koji je u studenome 2014. godine prodao 22 kutije duhana u listu jer je tek stupanjem na snagu Zakona o izmjenama i dopunama Zakona o trošarinama iz 2015. godine duhan u listu kao duhanska sirovina, postaje robu čiji je promet ograničen.</a:t>
            </a:r>
            <a:endParaRPr b="0" lang="en-US" sz="2000" spc="-1" strike="noStrike">
              <a:solidFill>
                <a:srgbClr val="333399"/>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Rezervirano mjesto datuma 3"/>
          <p:cNvSpPr/>
          <p:nvPr/>
        </p:nvSpPr>
        <p:spPr>
          <a:xfrm>
            <a:off x="457200" y="6454800"/>
            <a:ext cx="2133720" cy="282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Rezervirano mjesto podnožja 4"/>
          <p:cNvSpPr/>
          <p:nvPr/>
        </p:nvSpPr>
        <p:spPr>
          <a:xfrm>
            <a:off x="19796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Rezervirano mjesto broja slajda 1"/>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8C76-3F4B-494D-8E61-EF5EAA841236}"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119" name="Rezervirano mjesto podnožja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 Garačić, sutkinja Vrhovnog suda Republike Hrvatske</a:t>
            </a:r>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Zaključak 2.</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Arial"/>
              </a:rPr>
              <a:t>(čl. 111. toč. 2., čl. 117. st. 2., čl. 118. st. 2. čl. 119. st. 2., čl. 154. st. 1. toč. 2., čl. 165. st. 1. i čl. 166. st. 1. i 2. KZ/11)</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333399"/>
                </a:solidFill>
                <a:latin typeface="Arial"/>
              </a:rPr>
              <a:t>Za obilježje kaznenih djela (čl. 111. toč. 2., čl. 117. st. 2., čl. 118. st. 2. čl. 119. st. 2., čl. 154. st. 1. toč. 2. i čl. 166. st. 1. i 2. KZ/11) koja su počinjena prema osobi koja je posebno ranjiva zbog njezine dobi činjenični opis treba sadržavati u čemu se ta ranjivost sastoji, a nije dovoljno navesti samo da je riječ o djetetu ili maloljetnoj osobi ili navesti samo drugu odrednicu životne dobi žrtve.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2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1A27-3B0C-4D9A-81ED-CB3D4267FC81}"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2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2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3D22-5DCA-4025-B62D-68386D9BBFF0}"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Zaključak 3.</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Arial"/>
              </a:rPr>
              <a:t>(čl. 234. st. 2. KZ/11 – neovlaštena uporaba tuđe pokretne stvari)</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333399"/>
                </a:solidFill>
                <a:latin typeface="Arial"/>
              </a:rPr>
              <a:t>Postoji pravni kontinuitet  između kaznenih djela neovlaštene uporabe iz članka 346. KZ/97 i kaznenog djela neovlaštene uporabe tuđe pokretne stvari iz članka 234. KZ/11 ali samo kada je riječ o neovlaštenoj uporabi tuđe pokretne stvari, a ne i onda kada je riječ o neovlaštenoj uporabi novca.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6"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27"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F505-B74D-4209-B2E0-00EC6ED9CB46}"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28"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29"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684E-116C-47FB-AD3B-0F91326A6FB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92040" y="1727280"/>
            <a:ext cx="8244000" cy="43401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Zakon o sudovima za mladež</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Članak 29. stavak 2. u svezi članka 110. i članka 111. Zakon o sudovima za mladež, (NN 84/11, 143/12, 148/13, i 56/15 - dalje u tekstu: ZSM)</a:t>
            </a: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Kada sud opoziva pridržaj maloljetničkog zatvora to provodi na raspravi, pa je i sastav vijeća isti kao na je rasprava,  uz suca za mladež sudjeluju suci porotnici za mladež.</a:t>
            </a:r>
            <a:endParaRPr b="0" lang="en-US" sz="2400" spc="-1" strike="noStrike">
              <a:solidFill>
                <a:srgbClr val="333399"/>
              </a:solidFill>
              <a:latin typeface="Arial"/>
            </a:endParaRPr>
          </a:p>
        </p:txBody>
      </p:sp>
      <p:sp>
        <p:nvSpPr>
          <p:cNvPr id="131" name="PlaceHolder 2"/>
          <p:cNvSpPr>
            <a:spLocks noGrp="1"/>
          </p:cNvSpPr>
          <p:nvPr>
            <p:ph type="title"/>
          </p:nvPr>
        </p:nvSpPr>
        <p:spPr>
          <a:xfrm>
            <a:off x="642960" y="753840"/>
            <a:ext cx="7772400" cy="595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Ujednačavanje sudske prakse</a:t>
            </a:r>
            <a:endParaRPr b="1" lang="en-US" sz="2800" spc="-1" strike="noStrike">
              <a:solidFill>
                <a:srgbClr val="ff0066"/>
              </a:solidFill>
              <a:latin typeface="Arial"/>
            </a:endParaRPr>
          </a:p>
        </p:txBody>
      </p:sp>
      <p:sp>
        <p:nvSpPr>
          <p:cNvPr id="13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D147-0236-451E-83EA-79679F4B5ED3}" type="datetime">
              <a:rPr b="0" lang="hr-HR" sz="1400" spc="-1" strike="noStrike">
                <a:solidFill>
                  <a:srgbClr val="808080"/>
                </a:solidFill>
                <a:latin typeface="Tahoma"/>
              </a:rPr>
              <a:t>29.07.26</a:t>
            </a:fld>
            <a:endParaRPr b="0" lang="en-US" sz="1400" spc="-1" strike="noStrike">
              <a:solidFill>
                <a:srgbClr val="000000"/>
              </a:solidFill>
              <a:latin typeface="Tahoma"/>
            </a:endParaRPr>
          </a:p>
        </p:txBody>
      </p:sp>
      <p:sp>
        <p:nvSpPr>
          <p:cNvPr id="133" name="Rezervirano mjesto podnožj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ahoma"/>
              </a:rPr>
              <a:t>Ana Garačić, predsjednica Kaznenog odjela Vrhovnoga suda</a:t>
            </a:r>
            <a:endParaRPr b="0" lang="en-US" sz="1400" spc="-1" strike="noStrike">
              <a:solidFill>
                <a:srgbClr val="000000"/>
              </a:solidFill>
              <a:latin typeface="Tahoma"/>
            </a:endParaRPr>
          </a:p>
        </p:txBody>
      </p:sp>
      <p:sp>
        <p:nvSpPr>
          <p:cNvPr id="13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DEEE-525C-4E4D-9AB6-E8EF795DFD6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20:16:31Z</dcterms:created>
  <dc:creator>Vrhovni sud Republike Hrvatske</dc:creator>
  <dc:description/>
  <dc:language>en-US</dc:language>
  <cp:lastModifiedBy>Garačić, Ana</cp:lastModifiedBy>
  <cp:lastPrinted>2018-04-27T06:33:07Z</cp:lastPrinted>
  <dcterms:modified xsi:type="dcterms:W3CDTF">2018-09-17T10:23:30Z</dcterms:modified>
  <cp:revision>686</cp:revision>
  <dc:subject/>
  <dc:title>hynsjntsnj</dc:title>
</cp:coreProperties>
</file>