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592B4-2E12-4A43-B5B7-19C95CAC7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D79B4-E469-4A13-97FA-E169F0B91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DCAEE-CC04-41B5-B4CC-0C341EAD8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B39E2-7B58-4DE1-9CDC-6ECF32A93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BB9F4F-7C51-4CC0-9B54-81461D715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8FB51-7C98-4AD3-BCBF-9D61A07AD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22BD6-917F-433C-BA63-15D2D0FE9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838A2-F901-4948-B85A-8761D6426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EBF8C-8857-443F-BE69-C846DA12A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7BAAF-84B2-466F-8F0D-CA6F108B6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36388-9BE3-41BF-AE31-66AFEAB00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03E6D-C2D5-4A9E-971F-7957B8A1E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7EE75-05D6-4D91-B387-88BC31118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5A984-221F-4499-86CB-88DA97F6D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909EB-1CB5-4FB8-AA98-C3F50D579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94881B-DDB0-495F-8570-3420424D6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C3C48-DE02-47D4-99CF-D0AA99154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43B74-3792-44AA-8649-31194780C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8A328-247F-4E54-B169-9631FA171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A2861-FEEA-4A28-ACD4-C0DCE9603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958B6-596C-4549-A8D0-046D20BCD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548CE-B33D-4068-B5D1-5A89FC9E4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FC01E-8CE5-4C54-A301-7FE8B714B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68F73-7164-4075-98FB-BF0DF13C2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EE6C-032A-47A8-B38B-4DCEB0393B5C}" type="datetime">
              <a:rPr b="0" lang="sr-Latn-CS" sz="1400" spc="-1" strike="noStrike">
                <a:solidFill>
                  <a:srgbClr val="000000"/>
                </a:solidFill>
                <a:latin typeface="Arial"/>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B78C-F4A1-4AC9-9969-2B1330A9A5B2}"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2C98-21C8-4A3E-9392-BA30705CC65E}" type="datetime">
              <a:rPr b="0" lang="sr-Latn-CS" sz="1200" spc="-1" strike="noStrike">
                <a:solidFill>
                  <a:srgbClr val="898989"/>
                </a:solidFill>
                <a:latin typeface="Arial"/>
              </a:rPr>
              <a:t>29.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2EFD-4416-4EE6-BD9B-CFD3E97A4656}" type="slidenum">
              <a:rPr b="0" lang="hr-H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Black"/>
              </a:rPr>
              <a:t>Presuda</a:t>
            </a:r>
            <a:br>
              <a:rPr sz="4000"/>
            </a:br>
            <a:r>
              <a:rPr b="0" lang="hr-HR" sz="4000" spc="-1" strike="noStrike">
                <a:solidFill>
                  <a:srgbClr val="000000"/>
                </a:solidFill>
                <a:latin typeface="Arial"/>
              </a:rPr>
              <a:t>- </a:t>
            </a:r>
            <a:r>
              <a:rPr b="0" lang="hr-HR" sz="3600" spc="-1" strike="noStrike">
                <a:solidFill>
                  <a:srgbClr val="000000"/>
                </a:solidFill>
                <a:latin typeface="Arial"/>
              </a:rPr>
              <a:t>izrada presude iz radnog prava</a:t>
            </a:r>
            <a:r>
              <a:rPr b="0" lang="hr-HR"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600200" y="274320"/>
            <a:ext cx="739152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Black"/>
              </a:rPr>
              <a:t>Izrada </a:t>
            </a:r>
            <a:r>
              <a:rPr b="0" lang="sr-Latn-RS" sz="4400" spc="-1" strike="noStrike">
                <a:solidFill>
                  <a:srgbClr val="000000"/>
                </a:solidFill>
                <a:latin typeface="Arial Black"/>
              </a:rPr>
              <a:t>izrek</a:t>
            </a:r>
            <a:r>
              <a:rPr b="0" lang="hr-HR" sz="4400" spc="-1" strike="noStrike">
                <a:solidFill>
                  <a:srgbClr val="000000"/>
                </a:solidFill>
                <a:latin typeface="Arial Black"/>
              </a:rPr>
              <a:t>e presude I</a:t>
            </a:r>
            <a:endParaRPr b="0" lang="en-US" sz="4400" spc="-1" strike="noStrike">
              <a:solidFill>
                <a:srgbClr val="000000"/>
              </a:solidFill>
              <a:latin typeface="Arial"/>
            </a:endParaRPr>
          </a:p>
        </p:txBody>
      </p:sp>
      <p:sp>
        <p:nvSpPr>
          <p:cNvPr id="99" name="PlaceHolder 2"/>
          <p:cNvSpPr>
            <a:spLocks noGrp="1"/>
          </p:cNvSpPr>
          <p:nvPr>
            <p:ph/>
          </p:nvPr>
        </p:nvSpPr>
        <p:spPr>
          <a:xfrm>
            <a:off x="178920" y="1599840"/>
            <a:ext cx="8805960" cy="5257800"/>
          </a:xfrm>
          <a:prstGeom prst="rect">
            <a:avLst/>
          </a:prstGeom>
          <a:noFill/>
          <a:ln w="0">
            <a:noFill/>
          </a:ln>
        </p:spPr>
        <p:txBody>
          <a:bodyPr anchor="t">
            <a:normAutofit/>
          </a:bodyPr>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p r e s u d i o    j e</a:t>
            </a:r>
            <a:endParaRPr b="0" lang="en-US" sz="1800" spc="-1" strike="noStrike">
              <a:solidFill>
                <a:srgbClr val="000000"/>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	</a:t>
            </a:r>
            <a:r>
              <a:rPr b="1" lang="hr-HR" sz="1800" spc="-1" strike="noStrike">
                <a:solidFill>
                  <a:srgbClr val="000000"/>
                </a:solidFill>
                <a:latin typeface="Arial"/>
              </a:rPr>
              <a:t>1. Utvrđuje se da je izvanredni otkaz tuženika od 1. svibnja 2015. godine kojim je otkazan tužiteljičin ugovor o radu na neodređeno vrijeme od 2.3.2010. godine, nedopušten pa se nalaže tuženiku vratiti tužiteljicu na posao, odnosno na prijašnje poslove i zadatke, u roku od 8 da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	</a:t>
            </a:r>
            <a:r>
              <a:rPr b="1" lang="hr-HR" sz="1800" spc="-1" strike="noStrike">
                <a:solidFill>
                  <a:srgbClr val="000000"/>
                </a:solidFill>
                <a:latin typeface="Arial"/>
              </a:rPr>
              <a:t>2. Nalaže se tuženiku isplatiti tužiteljici naknadu plaće zbog nezakonitog otkaza u bruto iznosu od 44.500,00 kn (slovima: četrdesetčetiritisućepetstotinakuna), sa zakonskim zateznim kamatama*(visina stope?) tekući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 na iznos od 8.900,00 kn počevši od 1.5.2015. do ispl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 na iznos od 8.900,00 kn počevši od 1.6.2015. do ispl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 na iznos od 8.900,00 kn počevši od 1.7.2015. do ispl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 na iznos od 8.900,00 kn počevši od 1.8.2015. do ispl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 na iznos od 8.900,00 kn počevši od 1.9.2015. do ispl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sve u roku od 8 da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r>
              <a:rPr b="1" lang="hr-HR" sz="1800" spc="-1" strike="noStrike">
                <a:solidFill>
                  <a:srgbClr val="000000"/>
                </a:solidFill>
                <a:latin typeface="Arial"/>
              </a:rPr>
              <a:t>	</a:t>
            </a:r>
            <a:r>
              <a:rPr b="1" lang="hr-HR" sz="1800" spc="-1" strike="noStrike">
                <a:solidFill>
                  <a:srgbClr val="000000"/>
                </a:solidFill>
                <a:latin typeface="Arial"/>
              </a:rPr>
              <a:t>3. Nalaže se tuženiku nadoknaditi tužiteljici parnične troškove u iznosu od 2.000,00 kn (dvijetiusućekuna), u roku od 8 dan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51920"/>
            <a:ext cx="743760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Black"/>
              </a:rPr>
              <a:t>Izrada </a:t>
            </a:r>
            <a:r>
              <a:rPr b="0" lang="sr-Latn-RS" sz="4400" spc="-1" strike="noStrike">
                <a:solidFill>
                  <a:srgbClr val="000000"/>
                </a:solidFill>
                <a:latin typeface="Arial Black"/>
              </a:rPr>
              <a:t>izrek</a:t>
            </a:r>
            <a:r>
              <a:rPr b="0" lang="hr-HR" sz="4400" spc="-1" strike="noStrike">
                <a:solidFill>
                  <a:srgbClr val="000000"/>
                </a:solidFill>
                <a:latin typeface="Arial Black"/>
              </a:rPr>
              <a:t>e presude II</a:t>
            </a:r>
            <a:endParaRPr b="0" lang="en-US" sz="4400" spc="-1" strike="noStrike">
              <a:solidFill>
                <a:srgbClr val="000000"/>
              </a:solidFill>
              <a:latin typeface="Arial"/>
            </a:endParaRPr>
          </a:p>
        </p:txBody>
      </p:sp>
      <p:sp>
        <p:nvSpPr>
          <p:cNvPr id="101" name="PlaceHolder 2"/>
          <p:cNvSpPr>
            <a:spLocks noGrp="1"/>
          </p:cNvSpPr>
          <p:nvPr>
            <p:ph/>
          </p:nvPr>
        </p:nvSpPr>
        <p:spPr>
          <a:xfrm>
            <a:off x="395280" y="1341000"/>
            <a:ext cx="8229600" cy="5327640"/>
          </a:xfrm>
          <a:prstGeom prst="rect">
            <a:avLst/>
          </a:prstGeom>
          <a:noFill/>
          <a:ln w="0">
            <a:noFill/>
          </a:ln>
        </p:spPr>
        <p:txBody>
          <a:bodyPr anchor="t">
            <a:normAutofit/>
          </a:bodyPr>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	</a:t>
            </a:r>
            <a:r>
              <a:rPr b="1" lang="hr-HR" sz="1600" spc="-1" strike="noStrike">
                <a:solidFill>
                  <a:srgbClr val="000000"/>
                </a:solidFill>
                <a:latin typeface="Arial"/>
              </a:rPr>
              <a:t>	</a:t>
            </a:r>
            <a:r>
              <a:rPr b="1" lang="hr-HR" sz="1600" spc="-1" strike="noStrike">
                <a:solidFill>
                  <a:srgbClr val="000000"/>
                </a:solidFill>
                <a:latin typeface="Arial"/>
              </a:rPr>
              <a:t>	</a:t>
            </a:r>
            <a:r>
              <a:rPr b="1" lang="hr-HR" sz="1600" spc="-1" strike="noStrike">
                <a:solidFill>
                  <a:srgbClr val="000000"/>
                </a:solidFill>
                <a:latin typeface="Arial"/>
              </a:rPr>
              <a:t>     </a:t>
            </a:r>
            <a:r>
              <a:rPr b="1" lang="hr-HR" sz="1600" spc="-1" strike="noStrike">
                <a:solidFill>
                  <a:srgbClr val="000000"/>
                </a:solidFill>
                <a:latin typeface="Arial"/>
              </a:rPr>
              <a:t>p r e s u d i o    j e</a:t>
            </a:r>
            <a:endParaRPr b="0" lang="en-US" sz="1600" spc="-1" strike="noStrike">
              <a:solidFill>
                <a:srgbClr val="000000"/>
              </a:solidFill>
              <a:latin typeface="Arial"/>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	</a:t>
            </a:r>
            <a:r>
              <a:rPr b="1" lang="hr-HR" sz="1600" spc="-1" strike="noStrike">
                <a:solidFill>
                  <a:srgbClr val="000000"/>
                </a:solidFill>
                <a:latin typeface="Arial"/>
              </a:rPr>
              <a:t>1. Utvrđuje se da je izvanredni otkaz tuženika od 1. svibnja 2015. godine kojim je otkazan tužiteljičin ugovor o radu na neodređeno vrijeme od 2.3.2010. godine, nedopušten pa se nalaže tuženiku vratiti tužiteljicu na posao, odnosno na prijašnje poslove i zadatke, u roku od 8 dan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	</a:t>
            </a:r>
            <a:r>
              <a:rPr b="1" lang="hr-HR"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	</a:t>
            </a:r>
            <a:r>
              <a:rPr b="1" lang="hr-HR" sz="1600" spc="-1" strike="noStrike">
                <a:solidFill>
                  <a:srgbClr val="000000"/>
                </a:solidFill>
                <a:latin typeface="Arial"/>
              </a:rPr>
              <a:t>	</a:t>
            </a:r>
            <a:r>
              <a:rPr b="1" lang="hr-HR" sz="1600" spc="-1" strike="noStrike">
                <a:solidFill>
                  <a:srgbClr val="000000"/>
                </a:solidFill>
                <a:latin typeface="Arial"/>
              </a:rPr>
              <a:t>2. Nalaže se tuženiku isplatiti tužiteljici naknadu plaće zbog nezakonitog otkaza u bruto iznosu od 35.600,00 kn (slovima: tridesetpettisućašeststotinakuna), sa zakonskim zateznim kamatama*) visina stope?) tekući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 na iznos od 8.900,00 kn počevši od 1.6.2015. do ispla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             </a:t>
            </a:r>
            <a:r>
              <a:rPr b="1" lang="hr-HR" sz="1600" spc="-1" strike="noStrike">
                <a:solidFill>
                  <a:srgbClr val="000000"/>
                </a:solidFill>
                <a:latin typeface="Arial"/>
              </a:rPr>
              <a:t>- na iznos od 8.900,00 kn počevši od 1.7.2015. do ispla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             </a:t>
            </a:r>
            <a:r>
              <a:rPr b="1" lang="hr-HR" sz="1600" spc="-1" strike="noStrike">
                <a:solidFill>
                  <a:srgbClr val="000000"/>
                </a:solidFill>
                <a:latin typeface="Arial"/>
              </a:rPr>
              <a:t>- na iznos od 8.900,00 kn počevši od 1.8.2015. do ispla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             </a:t>
            </a:r>
            <a:r>
              <a:rPr b="1" lang="hr-HR" sz="1600" spc="-1" strike="noStrike">
                <a:solidFill>
                  <a:srgbClr val="000000"/>
                </a:solidFill>
                <a:latin typeface="Arial"/>
              </a:rPr>
              <a:t>- na iznos od 8.900,00 kn počevši od 1.9.2015. do ispla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	</a:t>
            </a:r>
            <a:r>
              <a:rPr b="1" lang="hr-HR" sz="1600" spc="-1" strike="noStrike">
                <a:solidFill>
                  <a:srgbClr val="000000"/>
                </a:solidFill>
                <a:latin typeface="Arial"/>
              </a:rPr>
              <a:t>sve u roku od 8 dan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	</a:t>
            </a:r>
            <a:r>
              <a:rPr b="1" lang="hr-HR" sz="1600" spc="-1" strike="noStrike">
                <a:solidFill>
                  <a:srgbClr val="000000"/>
                </a:solidFill>
                <a:latin typeface="Arial"/>
              </a:rPr>
              <a:t>	</a:t>
            </a:r>
            <a:r>
              <a:rPr b="0" lang="hr-HR" sz="1600" spc="-1" strike="noStrike">
                <a:solidFill>
                  <a:srgbClr val="000000"/>
                </a:solidFill>
                <a:latin typeface="Arial Black"/>
              </a:rPr>
              <a:t>3. Odbija se tužbeni zahtjev u preostalom dijelu u iznosu od 8.900,00 kn (slovima: osamtisućadevetstotinakuna) s pripadajućim zakonskim zateznim kamatam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a:rPr>
              <a:t>	</a:t>
            </a:r>
            <a:r>
              <a:rPr b="1" lang="hr-HR" sz="1600" spc="-1" strike="noStrike">
                <a:solidFill>
                  <a:srgbClr val="000000"/>
                </a:solidFill>
                <a:latin typeface="Arial"/>
              </a:rPr>
              <a:t>	</a:t>
            </a:r>
            <a:r>
              <a:rPr b="1" lang="hr-HR" sz="1600" spc="-1" strike="noStrike">
                <a:solidFill>
                  <a:srgbClr val="000000"/>
                </a:solidFill>
                <a:latin typeface="Arial"/>
              </a:rPr>
              <a:t>4. Nalaže se tuženiku nadoknaditi tužiteljici parnične troškove u iznosu od 2.000,00 kn (dvijetiusućekuna), u roku od 8 dan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51920"/>
            <a:ext cx="746784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Black"/>
              </a:rPr>
              <a:t>Izreka presude - Kamate</a:t>
            </a:r>
            <a:endParaRPr b="0" lang="en-US" sz="4400" spc="-1" strike="noStrike">
              <a:solidFill>
                <a:srgbClr val="000000"/>
              </a:solidFill>
              <a:latin typeface="Arial"/>
            </a:endParaRPr>
          </a:p>
        </p:txBody>
      </p:sp>
      <p:sp>
        <p:nvSpPr>
          <p:cNvPr id="103" name="PlaceHolder 2"/>
          <p:cNvSpPr>
            <a:spLocks noGrp="1"/>
          </p:cNvSpPr>
          <p:nvPr>
            <p:ph/>
          </p:nvPr>
        </p:nvSpPr>
        <p:spPr>
          <a:xfrm>
            <a:off x="0" y="1599840"/>
            <a:ext cx="9144000" cy="5373720"/>
          </a:xfrm>
          <a:prstGeom prst="rect">
            <a:avLst/>
          </a:prstGeom>
          <a:noFill/>
          <a:ln w="0">
            <a:noFill/>
          </a:ln>
        </p:spPr>
        <p:txBody>
          <a:bodyPr anchor="t">
            <a:normAutofit/>
          </a:bodyPr>
          <a:p>
            <a:pPr marL="343080" indent="-343080">
              <a:lnSpc>
                <a:spcPct val="8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Black"/>
              </a:rPr>
              <a:t>ZATEZNE KAMATE - </a:t>
            </a:r>
            <a:r>
              <a:rPr b="0" lang="hr-HR" sz="2800" spc="-1" strike="noStrike">
                <a:solidFill>
                  <a:srgbClr val="000000"/>
                </a:solidFill>
                <a:latin typeface="Arial"/>
              </a:rPr>
              <a:t>Kad se duguju - Članak 29.</a:t>
            </a:r>
            <a:endParaRPr b="0" lang="en-US" sz="2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1) Dužnik koji zakasni s ispunjenjem novčane obveze duguje, pored glavnice, i zatezne kamate.</a:t>
            </a:r>
            <a:endParaRPr b="0" lang="en-US" sz="1600" spc="-1" strike="noStrike">
              <a:solidFill>
                <a:srgbClr val="000000"/>
              </a:solidFill>
              <a:latin typeface="Arial"/>
            </a:endParaRPr>
          </a:p>
          <a:p>
            <a:pPr marL="343080" indent="-343080">
              <a:lnSpc>
                <a:spcPct val="8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Black"/>
              </a:rPr>
              <a:t>(2) Stopa zateznih kamata na odnose iz trgovačkih ugovora i ugovora između trgovca i osobe javnog prava određuje se, za svako polugodište, uvećanjem eskontne stope Hrvatske narodne banke koja je vrijedila zadnjeg dana polugodišta koje je prethodilo tekućem polugodištu za osam postotnih poena, a u ostalim odnosima za pet postotnih poena.</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t>
            </a:r>
            <a:r>
              <a:rPr b="0" lang="hr-HR" sz="2000" spc="-1" strike="noStrike">
                <a:solidFill>
                  <a:srgbClr val="000000"/>
                </a:solidFill>
                <a:latin typeface="Arial"/>
              </a:rPr>
              <a:t>7) Stopa zateznih kamata odnosi se na razdoblje od jedne godi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8) Hrvatska narodna banka dužna je svakog 1. siječnja i 1. srpnja objaviti eskontnu stopu u »Narodnim novina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228240"/>
            <a:ext cx="736308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Black"/>
              </a:rPr>
              <a:t>Kako prikazati visinu kamatne stope u izreci ?</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Black"/>
              </a:rPr>
              <a:t>… </a:t>
            </a:r>
            <a:r>
              <a:rPr b="1" lang="hr-HR" sz="2400" spc="-1" strike="noStrike">
                <a:solidFill>
                  <a:srgbClr val="333399"/>
                </a:solidFill>
                <a:latin typeface="Arial Black"/>
              </a:rPr>
              <a:t>sa zateznim kamatama po stopi koja se određuje za svako polugodište, uvećanjem eskontne stope Hrvatske narodne banke (HNB) koja je vrijedila zadnjeg dana polugodišta koje je prethodilo tekućem polugodištu za pet postotnih poen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Black"/>
              </a:rPr>
              <a:t>… </a:t>
            </a:r>
            <a:r>
              <a:rPr b="1" lang="hr-HR" sz="2400" spc="-1" strike="noStrike">
                <a:solidFill>
                  <a:srgbClr val="333399"/>
                </a:solidFill>
                <a:latin typeface="Arial Black"/>
              </a:rPr>
              <a:t>zakonsku zateznu kamatu, ili</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Black"/>
              </a:rPr>
              <a:t>… </a:t>
            </a:r>
            <a:r>
              <a:rPr b="1" lang="hr-HR" sz="2400" spc="-1" strike="noStrike">
                <a:solidFill>
                  <a:srgbClr val="333399"/>
                </a:solidFill>
                <a:latin typeface="Arial Black"/>
              </a:rPr>
              <a:t>zakonske zatezne kamate prema članku 29. stavak 2. Zakona o obveznim odnosim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99840" y="151920"/>
            <a:ext cx="7086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Novela ZOO – “NN” 78/15 ! </a:t>
            </a:r>
            <a:endParaRPr b="0" lang="en-US" sz="4400" spc="-1" strike="noStrike">
              <a:solidFill>
                <a:srgbClr val="000000"/>
              </a:solidFill>
              <a:latin typeface="Arial"/>
            </a:endParaRPr>
          </a:p>
        </p:txBody>
      </p:sp>
      <p:sp>
        <p:nvSpPr>
          <p:cNvPr id="107"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Članak 3. - U članku 29. stavak 2. mijenja se i glasi:</a:t>
            </a:r>
            <a:endParaRPr b="0" lang="en-US" sz="1800" spc="-1" strike="noStrike">
              <a:solidFill>
                <a:srgbClr val="000000"/>
              </a:solidFill>
              <a:latin typeface="Arial"/>
            </a:endParaRPr>
          </a:p>
          <a:p>
            <a:pPr marL="343080" indent="-343080">
              <a:lnSpc>
                <a:spcPct val="80000"/>
              </a:lnSpc>
              <a:spcBef>
                <a:spcPts val="451"/>
              </a:spcBef>
              <a:buClr>
                <a:srgbClr val="cc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cc6600"/>
                </a:solidFill>
                <a:latin typeface="Arial Black"/>
              </a:rPr>
              <a:t>(2) Stopa zateznih kamata na odnose iz trgovačkih ugovora i ugovora između trgovca i osobe javnog prava </a:t>
            </a:r>
            <a:endParaRPr b="0" lang="en-US" sz="1800" spc="-1" strike="noStrike">
              <a:solidFill>
                <a:srgbClr val="000000"/>
              </a:solidFill>
              <a:latin typeface="Arial"/>
            </a:endParaRPr>
          </a:p>
          <a:p>
            <a:pPr marL="343080" indent="-343080">
              <a:lnSpc>
                <a:spcPct val="80000"/>
              </a:lnSpc>
              <a:spcBef>
                <a:spcPts val="451"/>
              </a:spcBef>
              <a:buClr>
                <a:srgbClr val="cc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u="sng">
                <a:solidFill>
                  <a:srgbClr val="cc6600"/>
                </a:solidFill>
                <a:uFillTx/>
                <a:latin typeface="Arial Black"/>
              </a:rPr>
              <a:t>određuje se, za svako polugodište, uvećanjem prosječne kamatne stope na stanja kredita odobrenih na razdoblje dulje od godine dana nefinancijskim trgovačkim društvima izračunate za referentno razdoblje koje prethodi tekućem polugodištu za pet postotnih poena, a u ostalim odnosima za tri postotna poen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tavak 8. mijenja se i glas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8) Prosječnu kamatnu stopu iz stavka 2. ovoga članka za referentno razdoblje utvrđuje Hrvatska narodna banka i dužna ju je svakog 1. siječnja i 1. srpnja objaviti u »Narodnim novinam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Iza stavka 8. dodaje se stavak 9. koji glas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9) Referentno razdoblje iz stavka 2. ovoga članka za objavu na dan 1. siječnja obuhvaća razdoblje od 1. svibnja do 31. listopada, a referentno razdoblje za objavu na dan 1. srpnja obuhvaća razdoblje od 1. studenoga do 30. travnj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Black"/>
              </a:rPr>
              <a:t>Od 1. kolovoza 20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99840" y="151920"/>
            <a:ext cx="694836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Black"/>
              </a:rPr>
              <a:t>Izreka presude parnični troškov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sr-Latn-RS" sz="2400" spc="-1" strike="noStrike">
                <a:solidFill>
                  <a:srgbClr val="000000"/>
                </a:solidFill>
                <a:latin typeface="Arial"/>
              </a:rPr>
              <a:t>A/ </a:t>
            </a:r>
            <a:r>
              <a:rPr b="1" lang="hr-HR" sz="2400" spc="-1" strike="noStrike">
                <a:solidFill>
                  <a:srgbClr val="000000"/>
                </a:solidFill>
                <a:latin typeface="Arial"/>
              </a:rPr>
              <a:t>Nalaže se tuženiku nadoknaditi tužiteljici parnične troškove u iznosu od 2.000,00 kn (dvijetisućekuna), u roku od 8 dan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B/ Nalaže se tuženiku nadoknaditi tužiteljici parnične troškove u iznosu od 1.500,00 kn (tisusućupetstotinakuna), u roku od 8 dana, dok se u preostalom dijelu zahtjev tužiteljice za naknadu parničnih troškova u iznosu od 500,00 kn (slovima:petstotinakuna) odbij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C/ Odbija se zahtjev tužiteljice za nadoknadu parničnih troškov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D/ Svaka stranka snosi svoje troškove postupk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151920"/>
            <a:ext cx="7086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Izreka primjer:</a:t>
            </a:r>
            <a:endParaRPr b="0" lang="en-US" sz="4400" spc="-1" strike="noStrike">
              <a:solidFill>
                <a:srgbClr val="000000"/>
              </a:solidFill>
              <a:latin typeface="Arial"/>
            </a:endParaRPr>
          </a:p>
        </p:txBody>
      </p:sp>
      <p:sp>
        <p:nvSpPr>
          <p:cNvPr id="111" name=""/>
          <p:cNvSpPr txBox="1"/>
          <p:nvPr/>
        </p:nvSpPr>
        <p:spPr>
          <a:xfrm>
            <a:off x="457200" y="1484280"/>
            <a:ext cx="8229600" cy="5113440"/>
          </a:xfrm>
          <a:prstGeom prst="rect">
            <a:avLst/>
          </a:prstGeom>
          <a:solidFill>
            <a:srgbClr val="ffff00"/>
          </a:solidFill>
          <a:ln w="0">
            <a:noFill/>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p r e s u d i o  j 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I. Nalaže se tuženiku Croatia osiguranje d.d. iz Zagreba, Vatroslava Jagića 33, OIB: 26187994862, da tužiteljici Ani Curić, Opatovac 2c, Cernik, Nova Gradiška, OIB: 90500532093, isplati iznos od 2.400,00 kn neto sa zakonskim zateznim kamatama tekući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000000"/>
                </a:solidFill>
                <a:latin typeface="Arial"/>
              </a:rPr>
              <a:t>- na iznos od 2.000,00 kn od 26.12.2012.g., pa do isplat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000000"/>
                </a:solidFill>
                <a:latin typeface="Arial"/>
              </a:rPr>
              <a:t>- na iznos od 400,00 kn od 01.04.2013.g., pa do isplat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po stopi određenoj za svako polugodište, uvećanjem eskontne stope Hrvatske narodne banke, koja je vrijedila zadnjeg dana polugodišta, koje je prethodilo tekućem polugodištu, za pet postotnih poena do 31.07.2015.g., a od 01.08.2015.g. pa do isplate, po prosječnoj kamatnoj stopi na stanje kredita odobrenih za razdoblje dulje od godinu dana nefinancijskim trgovačkim društvima izračunatoj za referentno razdoblje koje prethodi tekućem polugodištu uvećano za tri postotna poena, u roku od 8 dan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II. Nalaže se tuženiku naknaditi tužiteljici trošak parničnog postupka u iznosu od 375,00 kn, sa zakonskim zateznim kamatama po prosječnoj kamatnoj stopi na stanje kredita odobrenih na razdoblje dulje od godinu dana nefinancijskim trgovačkim društvima izračunatoj za referentno razdoblje koje prethodi tekućem polugodištu uvećano za tri postotna poena, tekućoj od dana, 29. svibnja 2017. godine, pa do isplate, u roku od 8 dana.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99840" y="151920"/>
            <a:ext cx="701028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Black"/>
              </a:rPr>
              <a:t>1.a) Izlaganje zahtjeva stranaka tužiteljica</a:t>
            </a:r>
            <a:endParaRPr b="0" lang="en-US" sz="4000" spc="-1" strike="noStrike">
              <a:solidFill>
                <a:srgbClr val="000000"/>
              </a:solidFill>
              <a:latin typeface="Arial"/>
            </a:endParaRPr>
          </a:p>
        </p:txBody>
      </p:sp>
      <p:sp>
        <p:nvSpPr>
          <p:cNvPr id="113" name="PlaceHolder 2"/>
          <p:cNvSpPr>
            <a:spLocks noGrp="1"/>
          </p:cNvSpPr>
          <p:nvPr>
            <p:ph/>
          </p:nvPr>
        </p:nvSpPr>
        <p:spPr>
          <a:xfrm>
            <a:off x="228600" y="1752120"/>
            <a:ext cx="8229600" cy="52578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Tužiteljica u tužbi, podnesenoj 16. lipnja 2015., navodi da joj je tuženik nezakonito o</a:t>
            </a:r>
            <a:r>
              <a:rPr b="0" lang="sr-Latn-RS" sz="2000" spc="-1" strike="noStrike">
                <a:solidFill>
                  <a:srgbClr val="000000"/>
                </a:solidFill>
                <a:latin typeface="Arial"/>
              </a:rPr>
              <a:t>tkazao ugovor o radu zbog događaja koji se zbio u subotu 25. travnja 2015. dok je radila na blagajni  supermarketa, kada ju je napao Anton Antić i gotovo je odvukao s radnog mjesta u prostor ispred prodavaonice te je s njom žustro raspravljao, vikao i prijetio se. Tom prilikom joj je oduzeo ključeve njezinog vozila i odvezao se u nepoznatom pravcu. Potom je odmah otišla s posla i zatražila liječničku pomoć zbog stresa. Istina, imenovani je bio zaručnik tužiteljice i češće je pravio ovakve probleme dolazeći na njezino radno mjesto, ali je u posljednje vrijeme to kulminiralo. Smatra da ni u čemu nije kršila radne obveze jer je za sve krivac njezin bivši zaručnmik, a odlazak na bolovanje je bio posljedica stresa koji je pretrpjela u navedenu subotu, kada je bila napadnuta pred većim brojem klupaca koji su čekali red na blagajni. Tužbenim zahtjevom traži da se otkaz utvrdi nedopuštenim, vraćanje na posao, kao i da joj se nadoknadi plaća  u ukupnom iznosu od  44.500,00 kn, kao i da joj se isplati pripadajuća kam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274320"/>
            <a:ext cx="7086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hr-HR" sz="3200" spc="-1" strike="noStrike">
                <a:solidFill>
                  <a:srgbClr val="000000"/>
                </a:solidFill>
                <a:latin typeface="Arial"/>
              </a:rPr>
              <a:t>2. Izlaganje zahtjeva stranaka – tuženik </a:t>
            </a:r>
            <a:r>
              <a:rPr b="1" lang="hr-HR" sz="3200" spc="-1" strike="noStrike">
                <a:solidFill>
                  <a:srgbClr val="000000"/>
                </a:solidFill>
                <a:latin typeface="Arial"/>
              </a:rPr>
              <a:t>	</a:t>
            </a:r>
            <a:br>
              <a:rPr sz="3200"/>
            </a:br>
            <a:r>
              <a:rPr b="1" lang="hr-HR" sz="3200" spc="-1" strike="noStrike">
                <a:solidFill>
                  <a:srgbClr val="000000"/>
                </a:solidFill>
                <a:latin typeface="Arial"/>
              </a:rPr>
              <a:t>Odgovor na tužbu tužene stranke</a:t>
            </a:r>
            <a:br>
              <a:rPr sz="4000"/>
            </a:br>
            <a:endParaRPr b="0" lang="en-US" sz="3200" spc="-1" strike="noStrike">
              <a:solidFill>
                <a:srgbClr val="000000"/>
              </a:solidFill>
              <a:latin typeface="Arial"/>
            </a:endParaRPr>
          </a:p>
        </p:txBody>
      </p:sp>
      <p:sp>
        <p:nvSpPr>
          <p:cNvPr id="115" name="PlaceHolder 2"/>
          <p:cNvSpPr>
            <a:spLocks noGrp="1"/>
          </p:cNvSpPr>
          <p:nvPr>
            <p:ph/>
          </p:nvPr>
        </p:nvSpPr>
        <p:spPr>
          <a:xfrm>
            <a:off x="457200" y="2133720"/>
            <a:ext cx="8229600" cy="4525920"/>
          </a:xfrm>
          <a:prstGeom prst="rect">
            <a:avLst/>
          </a:prstGeom>
          <a:solidFill>
            <a:srgbClr val="bbe0e3"/>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uženik se </a:t>
            </a:r>
            <a:r>
              <a:rPr b="0" lang="hr-HR" sz="2400" spc="-1" strike="noStrike">
                <a:solidFill>
                  <a:srgbClr val="000000"/>
                </a:solidFill>
                <a:latin typeface="Arial"/>
              </a:rPr>
              <a:t>protivio tužbi i tužbeno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zahtjevu predlažući da se tužbeni zahtjev u cijelosti odbije. Ističe da je proveo zakonit postupak i tužiteljici dao dopušten izvanredni otkaz jer je počinila povredu obveze iz radnog odno</a:t>
            </a:r>
            <a:r>
              <a:rPr b="0" lang="sr-Latn-RS" sz="2400" spc="-1" strike="noStrike">
                <a:solidFill>
                  <a:srgbClr val="000000"/>
                </a:solidFill>
                <a:latin typeface="Arial"/>
              </a:rPr>
              <a:t>sa. Navodi da je tužiteljica sama kriva za česte dolaske svog bivšeg zaručnika na njezino radno mjesto jer je to njezin privatni problem koji je mogla i morala otkloniti tako da pravodobno pozove tuženikovo osiguranje ili u krajnjem slučaju policiju. Kako to nije učinila, iako ju je tuženik već upozorio da to mora napraviti, te budući je 25. travnja 2015. oko 11,15 sati otišla s posla, u vrijeme kada je promet kupaca najveći, to je na takav način oštetila tuženika i počinila </a:t>
            </a:r>
            <a:r>
              <a:rPr b="0" lang="hr-HR" sz="2400" spc="-1" strike="noStrike">
                <a:solidFill>
                  <a:srgbClr val="000000"/>
                </a:solidFill>
                <a:latin typeface="Arial"/>
              </a:rPr>
              <a:t>osobito tešku </a:t>
            </a:r>
            <a:r>
              <a:rPr b="0" lang="sr-Latn-RS" sz="2400" spc="-1" strike="noStrike">
                <a:solidFill>
                  <a:srgbClr val="000000"/>
                </a:solidFill>
                <a:latin typeface="Arial"/>
              </a:rPr>
              <a:t>povredu obveze iz radnog odnos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0"/>
            <a:ext cx="7010280" cy="836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Black"/>
              </a:rPr>
              <a:t>Obrazloženje</a:t>
            </a:r>
            <a:endParaRPr b="0" lang="en-US" sz="4400" spc="-1" strike="noStrike">
              <a:solidFill>
                <a:srgbClr val="000000"/>
              </a:solidFill>
              <a:latin typeface="Arial"/>
            </a:endParaRPr>
          </a:p>
        </p:txBody>
      </p:sp>
      <p:sp>
        <p:nvSpPr>
          <p:cNvPr id="117" name="PlaceHolder 2"/>
          <p:cNvSpPr>
            <a:spLocks noGrp="1"/>
          </p:cNvSpPr>
          <p:nvPr>
            <p:ph/>
          </p:nvPr>
        </p:nvSpPr>
        <p:spPr>
          <a:xfrm>
            <a:off x="0" y="907920"/>
            <a:ext cx="9144000" cy="5950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800" spc="-1" strike="noStrike">
                <a:solidFill>
                  <a:srgbClr val="000000"/>
                </a:solidFill>
                <a:latin typeface="Arial"/>
              </a:rPr>
              <a:t>	</a:t>
            </a:r>
            <a:r>
              <a:rPr b="0" lang="hr-HR" sz="1800" spc="-1" strike="noStrike">
                <a:solidFill>
                  <a:srgbClr val="000000"/>
                </a:solidFill>
                <a:latin typeface="Arial"/>
              </a:rPr>
              <a:t>Tužiteljica u tužbi, podnesenoj 16. lipnja 2015. godine, navodi da joj je tuženik nezakonito o</a:t>
            </a:r>
            <a:r>
              <a:rPr b="0" lang="sr-Latn-RS" sz="1800" spc="-1" strike="noStrike">
                <a:solidFill>
                  <a:srgbClr val="000000"/>
                </a:solidFill>
                <a:latin typeface="Arial"/>
              </a:rPr>
              <a:t>tkazao ugovor o radu zbog događaja koji se zbio u subotu 25. travnja 2015. dok je radila na blagajni  supermarketa, kada ju je napao Anton Antić i gotovo je odvukao s radnog mjesta u prostor ispred prodavaonice te je s njom žustro raspravljao, vikao i prijetio se. Tom prilikom joj je oduzeo ključeve njezinog vozila i odvezao se u nepoznatom pravcu. Potom je odmah otišla s posla i ztražila liječničku pomoć zbog stresa. Istina, imenovani je bio zaručnik tužiteljice i češće je pravio ovakve probleme dolazeći na njezino radno mjesto, ali je u posljednje vrijeme to kulminiralo. Smatra da ni u čemu nije kršila radne obveze jer je za sve krivac njezin bivši zaručnmik, a odlazak na bolovanje je bio posljedica stresa koji je pretrpjela u navedenu subotu, kada je bila napadnuta pred većim brojem klupaca koji su čekali red na blagajni. Tužbenim zahtjevom traži da se otkaz utvrdi nedopuštenim, vraćanje na posao, kao i da joj se nadoknadi plaća  u ukupnom iznosu od  44.500,00 kn, kao i da joj se isplati pripadajuća kamat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Tuženik se </a:t>
            </a:r>
            <a:r>
              <a:rPr b="0" lang="hr-HR" sz="1800" spc="-1" strike="noStrike">
                <a:solidFill>
                  <a:srgbClr val="000000"/>
                </a:solidFill>
                <a:latin typeface="Arial"/>
              </a:rPr>
              <a:t>protivio tužbi i tužbenom zahtjevu predlažući da se tužbeni zahtjev u cijelosti odbije. Ističe da je proveo zakonit postupak i tužiteljici dao dopušten izvanredni otkaz jer je počinila povredu obveze iz radnog odno</a:t>
            </a:r>
            <a:r>
              <a:rPr b="0" lang="sr-Latn-RS" sz="1800" spc="-1" strike="noStrike">
                <a:solidFill>
                  <a:srgbClr val="000000"/>
                </a:solidFill>
                <a:latin typeface="Arial"/>
              </a:rPr>
              <a:t>sa. Navodi da je tužiteljica sama kriva za česte dolaske svog bivšeg zaručnika na njezino radno mjesto jer je to njezin privatni problem koji je mogla i morala otkloniti tako da pravodobno pozove tuženikovo osiguranje ili u krajnjem slučaju policiju. Kako to nije učinila, iako ju je tuženik već upozorio da to mora napraviti, te budući je 25. travnja 2015. oko 11,15 sati otišla s posla, u vrijeme kada je promet kupaca najveći, to je na takav način oštetila tuženika i počinila </a:t>
            </a:r>
            <a:r>
              <a:rPr b="0" lang="hr-HR" sz="1800" spc="-1" strike="noStrike">
                <a:solidFill>
                  <a:srgbClr val="000000"/>
                </a:solidFill>
                <a:latin typeface="Arial"/>
              </a:rPr>
              <a:t>osobito tešku </a:t>
            </a:r>
            <a:r>
              <a:rPr b="0" lang="sr-Latn-RS" sz="1800" spc="-1" strike="noStrike">
                <a:solidFill>
                  <a:srgbClr val="000000"/>
                </a:solidFill>
                <a:latin typeface="Arial"/>
              </a:rPr>
              <a:t>povredu obveze iz radnog odnos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99840" y="151920"/>
            <a:ext cx="7086600" cy="8384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Black"/>
              </a:rPr>
              <a:t>Uvod presude</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Black"/>
              </a:rPr>
              <a:t>UV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000000"/>
                </a:solidFill>
                <a:uFillTx/>
                <a:latin typeface="Arial"/>
              </a:rPr>
              <a:t>Uvod presude sadrž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znaku da se presuda izriče u ime Republike Hrvatske, naziv suda, ime i prezime suca pojedinca, odnosno predsjednika vijeća, suca izvjestitelja i članova vijeća, ime i prezime ili naziv, osobni identifikacijski broj te prebivalište ili boravište, odnosno sjedište stranaka, njihovih zastupnika i punomoćnika, kratku oznaku predmeta spora, dan zaključenja glavne rasprave, naznaku stranaka, njihovih zastupnika i punomoćnika koji su toj raspravi prisustvovali te dan kad je presuda donesen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00200" y="151920"/>
            <a:ext cx="731520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Black"/>
              </a:rPr>
              <a:t>3. Koji su dokazi izvedeni</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postupku su izvedeni dokazi uvidom u tuženikovu odluku o izvanrednom otkazu od 1. svibnja 2015. (list 3. spisa), medicinsku dokumentaciju o liječenju tužiteljice, (list. 4. i 5. spisa), izvršen je uvid u prekršajni spis suda posl.br. Pk-126/2015,uvid u potvrde tuženika o visini plaće koju bi ostvarila tužiteljica (list 13. spisa) provedeno je vještačenje po stalnom sudskom vještaku radne medicine dr. Dori Dorić (list 8. do 12.spisa), saslušana je svjedokinja Marta Ivić (list 14. spisa), te su saslušane stranke (list 19. spisa).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151920"/>
            <a:ext cx="75438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4. Što je predmet spora</a:t>
            </a:r>
            <a:endParaRPr b="0" lang="en-US" sz="4400" spc="-1" strike="noStrike">
              <a:solidFill>
                <a:srgbClr val="000000"/>
              </a:solidFill>
              <a:latin typeface="Arial"/>
            </a:endParaRPr>
          </a:p>
        </p:txBody>
      </p:sp>
      <p:sp>
        <p:nvSpPr>
          <p:cNvPr id="121" name="PlaceHolder 2"/>
          <p:cNvSpPr>
            <a:spLocks noGrp="1"/>
          </p:cNvSpPr>
          <p:nvPr>
            <p:ph/>
          </p:nvPr>
        </p:nvSpPr>
        <p:spPr>
          <a:xfrm>
            <a:off x="228600" y="1676520"/>
            <a:ext cx="8229600" cy="4525920"/>
          </a:xfrm>
          <a:prstGeom prst="rect">
            <a:avLst/>
          </a:prstGeom>
          <a:noFill/>
          <a:ln w="0">
            <a:noFill/>
          </a:ln>
        </p:spPr>
        <p:txBody>
          <a:bodyPr anchor="t">
            <a:normAutofit/>
          </a:bodyPr>
          <a:p>
            <a:pPr lvl="1" marL="743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	</a:t>
            </a:r>
            <a:r>
              <a:rPr b="1" lang="hr-HR" sz="3200" spc="-1" strike="noStrike">
                <a:solidFill>
                  <a:srgbClr val="000000"/>
                </a:solidFill>
                <a:latin typeface="Arial"/>
              </a:rPr>
              <a:t>Predmet spora je zahtjev tužiteljice za utvrđenje tuženikovog izvanrednog otkaza nedopuštenim, vraćanje tužiteljice na posao - na prijašnje radno mjesto, te isplata </a:t>
            </a:r>
            <a:r>
              <a:rPr b="1" lang="sr-Latn-RS" sz="3200" spc="-1" strike="noStrike">
                <a:solidFill>
                  <a:srgbClr val="000000"/>
                </a:solidFill>
                <a:latin typeface="Arial"/>
              </a:rPr>
              <a:t>naknade plaće s pripadajućim zakonskim zateznim kamatama.</a:t>
            </a: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52120" y="228240"/>
            <a:ext cx="7086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5. Što je nesporno u ovoj pravnoj stvari</a:t>
            </a:r>
            <a:endParaRPr b="0" lang="en-US" sz="4000" spc="-1" strike="noStrike">
              <a:solidFill>
                <a:srgbClr val="000000"/>
              </a:solidFill>
              <a:latin typeface="Arial"/>
            </a:endParaRPr>
          </a:p>
        </p:txBody>
      </p:sp>
      <p:sp>
        <p:nvSpPr>
          <p:cNvPr id="123"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Među strankama nije sporn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a je tužiteljica bila zaposlena kao blagajnica kod tuženika po ugovoru o radu na neodređeno vrijeme, da je 25. travnja 2015. došlo do incidenta za vrijeme radnog vremena u kojem je sudjelovao bivši zaručnik tužiteljice i da je potom tužiteljica napustila posao bez da je obavijestila pretpostavljenog radnik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ije sporna visina novčane tražbine, odnosno naknade plaće koja nije isplaćena tužiteljici zbog otkaz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99840" y="151920"/>
            <a:ext cx="7086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6. Što je sporno</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Sporno je da li je izvanredni otkaz koji je tuženik dao tužiteljici odlukom od 1. svibnja 2015. dopušten i zakonit, odnosno da li je tuženik u događaju od 25. travnja 2015. imao opravdan razloga za taj otka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99840" y="274320"/>
            <a:ext cx="7086600" cy="10666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7.1. Što je utvrđeno na temelju izvedenih dokaza</a:t>
            </a:r>
            <a:endParaRPr b="0" lang="en-US" sz="3600" spc="-1" strike="noStrike">
              <a:solidFill>
                <a:srgbClr val="000000"/>
              </a:solidFill>
              <a:latin typeface="Arial"/>
            </a:endParaRPr>
          </a:p>
        </p:txBody>
      </p:sp>
      <p:sp>
        <p:nvSpPr>
          <p:cNvPr id="127" name="PlaceHolder 2"/>
          <p:cNvSpPr>
            <a:spLocks noGrp="1"/>
          </p:cNvSpPr>
          <p:nvPr>
            <p:ph/>
          </p:nvPr>
        </p:nvSpPr>
        <p:spPr>
          <a:xfrm>
            <a:off x="179280" y="1600200"/>
            <a:ext cx="8964720" cy="506880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 odluke o izvanrednom otkazu utvrđeno je da je tuženik otkazao tužiteljičin ugovor o radu zbog događaja od 25. travnja 2015., stavljajući joj na teret neodgovorno ponašanje na poslu zbog čega je navedenog dana došlo do incidenta u kojem je, uz tužiteljicu, učestvovao njezin bivši zaručnik. Tom prilikom su se tužiteljica i njezin zaručnik, oko 11,30 sati,  neko vrijeme svađali pred kupcima koji su stajali u redu da bi u jednom trenutku tužiteljica napustila blagajnu i svađajući se sa svojim bivšim zaručnikom, otišla izvan prodavaonice dok su kupci negodovali. Potom se tužiteljica, bez da je o rečenom obavijestila pretpostavljene, nije vratila na posao jer je istom tada otišla i potom se sutradan javila da je na bolovanju</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 medicinske dokumentacije i liječničke potvrde utvrđeno je da se tužiteljica, javila svojoj liječnici 25. travnja 2015. oko 12,15 sati, kada je liječnica utvrdila da je tužiteljica bila izvan sebe, uplakana, crvena u licu, raščupana, sva je drhturila i bila u strahu te je postavljena dijagnoza općeg stanja stresa.</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Iz prekršajnog spisa utvrđuje se da je Anton Anić pravomoćno kažnjen za prekršaj protiv javnog reda i mira jer je 25. travnja 2015. oko 11,15 sati u prodavaonici  supermarketa na blagajni napao svoju bivšu zaručnicu i  na silu je odveo izvan radnih prostorija, vičući na kupce i  prijeteći se njima i radnicima supermarketa</a:t>
            </a:r>
            <a:r>
              <a:rPr b="1" lang="hr-HR"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99840" y="75960"/>
            <a:ext cx="7086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Što je rekla svjedokinja?</a:t>
            </a: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507520" cy="5257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Iz iskaza nepristrane svjedokinje Marte Ivić, koja je bila kupac i tog je dana bila prva u redu da joj se izvrši naplata na blagajni na kojoj je radila tužiteljica, utvrđeno da je mlađa muška osoba krupne i jake građe, nekih tridesetih godina, na grub način, povišenim glasom, napao tužiteljicu na radnom mjestu pred kupcima i doslovce je fizički izvukao s blagajne i radnog mjesta te je odveo u ulazni dio supermarketa i potom izvan prodavaonice. To se zbilo vrlo, vrlo brzo i na način da tužiteljica, a niti bilo tko drugi, nije mogao reagirati budući je napadač bio fizički jak i krupan muškarac koji je prema svima djelovao prijeteći. Tužiteljica je vikala i svađala se s tom osobom, gurala ga i opirala se, ali ga to nije omelo u nakani da  je odvuče iz prodavaon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00200" y="151920"/>
            <a:ext cx="68580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8.0. Mjerodavno pravo</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Arial"/>
              </a:rPr>
              <a:t>Izvanredni otkaz ugovora o rad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lanak 116. Zakona o radu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 Poslodavac i radnik imaju opravdani razlog za otkaz ugovora o radu sklopljenog na neodređeno ili određeno vrijeme, bez obveze poštivanja propisanog ili ugovorenog otkaznoga roka (izvanredni otkaz), ako zbog osobito teške povrede obveze iz radnog odnosa ili neke druge osobito važne činjenice, uz uvažavanje svih okolnosti i interesa obiju ugovornih stranaka, nastavak radnog odnosa nije moguć.</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 Ugovor o radu može se izvanredno otkazati samo u roku od petnaest dana od dana saznanja za činjenicu na kojoj se izvanredni otkaz temelj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99840" y="151920"/>
            <a:ext cx="716292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8.1. Mjerodavno pravo</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000000"/>
                </a:solidFill>
                <a:latin typeface="Arial"/>
              </a:rPr>
              <a:t>Vraćanje radnika na posao u slučaju nedopuštenog otkaz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Članak 124.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1) Ako sud utvrdi da otkaz poslodavca nije dopušten i da radni odnos nije prestao, naložit će vraćanje radnika na posa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00200" y="151920"/>
            <a:ext cx="67248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8.2. Mjerodavno pravo</a:t>
            </a:r>
            <a:endParaRPr b="0" lang="en-US" sz="4400" spc="-1" strike="noStrike">
              <a:solidFill>
                <a:srgbClr val="000000"/>
              </a:solidFill>
              <a:latin typeface="Arial"/>
            </a:endParaRPr>
          </a:p>
        </p:txBody>
      </p:sp>
      <p:sp>
        <p:nvSpPr>
          <p:cNvPr id="135" name="PlaceHolder 2"/>
          <p:cNvSpPr>
            <a:spLocks noGrp="1"/>
          </p:cNvSpPr>
          <p:nvPr>
            <p:ph/>
          </p:nvPr>
        </p:nvSpPr>
        <p:spPr>
          <a:xfrm>
            <a:off x="108000" y="1599840"/>
            <a:ext cx="90360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Arial"/>
              </a:rPr>
              <a:t>Sudska zaštita prava iz radnog odnos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Članak 133.</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 Radnik koji smatra da mu je poslodavac povrijedio neko pravo iz radnog odnosa može u roku od petnaest dana od dostave odluke kojom je povrijeđeno njegovo pravo, odnosno od saznanja za povredu prava zahtijevati od poslodavca ostvarenje toga prava.</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 Ako poslodavac u roku od petnaest dana od dostave zahtjeva radnika iz stavka 1. ovoga članka ne udovolji tom zahtjevu, radnik može u daljnjem roku od petnaest dana zahtijevati zaštitu povrijeđenog prava pred nadležnim sudom.</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3) Zaštitu povrijeđenog prava pred nadležnim sudom ne može zahtijevati radnik koji prethodno poslodavcu nije podnio zahtjev iz stavka 1. ovoga članka, osim u slučaju zahtjeva radnika za naknadom štete ili drugog novčanog potraživanja iz radnog odno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99840" y="151920"/>
            <a:ext cx="716292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8.3. Mjerodavno pravo</a:t>
            </a:r>
            <a:endParaRPr b="0" lang="en-US" sz="4400" spc="-1" strike="noStrike">
              <a:solidFill>
                <a:srgbClr val="000000"/>
              </a:solidFill>
              <a:latin typeface="Arial"/>
            </a:endParaRPr>
          </a:p>
        </p:txBody>
      </p:sp>
      <p:sp>
        <p:nvSpPr>
          <p:cNvPr id="137" name="PlaceHolder 2"/>
          <p:cNvSpPr>
            <a:spLocks noGrp="1"/>
          </p:cNvSpPr>
          <p:nvPr>
            <p:ph/>
          </p:nvPr>
        </p:nvSpPr>
        <p:spPr>
          <a:xfrm>
            <a:off x="178920" y="1412640"/>
            <a:ext cx="8589960" cy="5445000"/>
          </a:xfrm>
          <a:prstGeom prst="rect">
            <a:avLst/>
          </a:prstGeom>
          <a:noFill/>
          <a:ln w="0">
            <a:noFill/>
          </a:ln>
        </p:spPr>
        <p:txBody>
          <a:bodyPr anchor="t">
            <a:normAutofit/>
          </a:bodyPr>
          <a:p>
            <a:pPr marL="343080" indent="-343080">
              <a:lnSpc>
                <a:spcPct val="80000"/>
              </a:lnSpc>
              <a:spcBef>
                <a:spcPts val="524"/>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100" spc="-1" strike="noStrike">
                <a:solidFill>
                  <a:srgbClr val="000000"/>
                </a:solidFill>
                <a:latin typeface="Arial Black"/>
              </a:rPr>
              <a:t>Teret dokazivanja u radnim sporovima- Čl. 135.</a:t>
            </a:r>
            <a:r>
              <a:rPr b="0" i="1" lang="hr-HR"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Arial"/>
              </a:rPr>
              <a:t>(1) U slučaju spora iz radnog odnosa, teret dokazivanja je na osobi koja smatra da joj je neko pravo iz radnog odnosa povrijeđeno, odnosno koja pokreće spor, ako ovim ili drugim zakonom nije drukčije uređeno.</a:t>
            </a:r>
            <a:endParaRPr b="0" lang="en-US" sz="2100" spc="-1" strike="noStrike">
              <a:solidFill>
                <a:srgbClr val="000000"/>
              </a:solidFill>
              <a:latin typeface="Arial"/>
            </a:endParaRPr>
          </a:p>
          <a:p>
            <a:pPr marL="343080" indent="-34308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Arial"/>
              </a:rPr>
              <a:t>(2) U slučaju spora oko stavljanja radnika u nepovoljniji položaj od drugih radnika radi obraćanja radnika zbog opravdane sumnje na korupciju ili u dobroj vjeri podnošenja prijave o toj sumnji odgovornim osobama ili nadležnim tijelima državne vlasti, a što je dovelo do povrede nekog od prava radnika……………….</a:t>
            </a:r>
            <a:endParaRPr b="0" lang="en-US" sz="2100" spc="-1" strike="noStrike">
              <a:solidFill>
                <a:srgbClr val="000000"/>
              </a:solidFill>
              <a:latin typeface="Arial"/>
            </a:endParaRPr>
          </a:p>
          <a:p>
            <a:pPr marL="343080" indent="-34308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a:solidFill>
                  <a:srgbClr val="000000"/>
                </a:solidFill>
                <a:latin typeface="Arial"/>
              </a:rPr>
              <a:t>(3) U slučaju spora zbog otkaza ugovora o radu, teret dokazivanja postojanja opravdanog razloga za otkaz ugovora o radu je na poslodavcu ako je ugovor o radu otkazao poslodavac, a na radniku samo ako je on ugovor o radu otkazao izvanrednim otkazom ugovora o radu.</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100" spc="-1" strike="noStrike">
                <a:solidFill>
                  <a:srgbClr val="000000"/>
                </a:solidFill>
                <a:latin typeface="Arial"/>
              </a:rPr>
              <a:t>(4) U slučaju spora u vezi s radnim vremenom, ako poslodavac ne vodi evidenciju iz članka 5. stavka 1. ovoga Zakona na propisani način, teret dokazivanja radnog vremena je na poslodavcu.</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676520" y="151920"/>
            <a:ext cx="685800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Black"/>
              </a:rPr>
              <a:t>Izreka presud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Black"/>
              </a:rPr>
              <a:t>IZREKA</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Izreka</a:t>
            </a:r>
            <a:r>
              <a:rPr b="0" lang="hr-HR" sz="3200" spc="-1" strike="noStrike">
                <a:solidFill>
                  <a:srgbClr val="000000"/>
                </a:solidFill>
                <a:latin typeface="Arial"/>
              </a:rPr>
              <a:t> presude sadrži odluku suda o prihvaćanju ili odbijanju pojedinih zahtjeva koji se tiču glavne stvari i sporednih traženja te odluku o postojanju ili nepostojanju potraživanja istaknutog radi prebijanja (članak 33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00200" y="304560"/>
            <a:ext cx="739152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Black"/>
              </a:rPr>
              <a:t>9. Naznačavanje mjerodavnog materijalnog (i postupovnog) prava u obrazloženju</a:t>
            </a:r>
            <a:endParaRPr b="0" lang="en-US" sz="2800" spc="-1" strike="noStrike">
              <a:solidFill>
                <a:srgbClr val="000000"/>
              </a:solidFill>
              <a:latin typeface="Arial"/>
            </a:endParaRPr>
          </a:p>
        </p:txBody>
      </p:sp>
      <p:sp>
        <p:nvSpPr>
          <p:cNvPr id="139" name="PlaceHolder 2"/>
          <p:cNvSpPr>
            <a:spLocks noGrp="1"/>
          </p:cNvSpPr>
          <p:nvPr>
            <p:ph/>
          </p:nvPr>
        </p:nvSpPr>
        <p:spPr>
          <a:xfrm>
            <a:off x="152280" y="1828800"/>
            <a:ext cx="850752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ema odredbi iz članka 135. stavak 3. zakona o radu (“Narodne novine”, br.93/14, u daljnjem tekstu: ZR),u slučaju spora zbog otkaza ugovora o radu, teret dokazivanja postojanja opravdanog razloga za otkaz ugovora o radu je na poslodavcu ako je ugovor o radu otkazao poslodavac, a na radniku samo ako je on ugovor o radu otkazao izvanrednim otkazom ugovora o rad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00200" y="152280"/>
            <a:ext cx="6934320" cy="8510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Black"/>
              </a:rPr>
              <a:t>10. SUĐENJE !!!</a:t>
            </a:r>
            <a:endParaRPr b="0" lang="en-US" sz="2800" spc="-1" strike="noStrike">
              <a:solidFill>
                <a:srgbClr val="000000"/>
              </a:solidFill>
              <a:latin typeface="Arial"/>
            </a:endParaRPr>
          </a:p>
        </p:txBody>
      </p:sp>
      <p:sp>
        <p:nvSpPr>
          <p:cNvPr id="141" name="PlaceHolder 2"/>
          <p:cNvSpPr>
            <a:spLocks noGrp="1"/>
          </p:cNvSpPr>
          <p:nvPr>
            <p:ph/>
          </p:nvPr>
        </p:nvSpPr>
        <p:spPr>
          <a:xfrm>
            <a:off x="250560" y="1412640"/>
            <a:ext cx="8893080" cy="544500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Arial"/>
              </a:rPr>
              <a:t>Na temelju tako utvrđenog činjeničnog stanja, primjenom odredbe iz članka 135. st. 3. ZR-a, sud utvrđuje da tuženik u ovom postupku nije dokazao postojanje opravdanog razloga za izvanredni otkaz, odnosno da je tužiteljica počinila povredu obveze iz radnog odnosa koja joj se stavlja na teret . U postupku je utvrđeno da je neposredni krivac za događaj od 25. travnja 2015. bivši zaručnik tužiteljice, koji ju je na grub način, povišenim glasom, napao na radnom mjestu pred kupcima i doslovce je fizički izvukao s blagajne i radnog mjesta te je odveo u ulazni dio supermarketa i potom izvan prodavaonice. To se zbilo vrlo brzo i na način da tužiteljica, koja je bila iznenađena silinom tog napada, nije mogla pravodobno reagirati budući je njezin bivši zaručnik bio mlađa osoba, tridesetih godina, snažne građe, s tim da se nitko od kupaca nije usudio bilo što reći jer je napadač bio fizički jak i krupan muškarac koji je prema svima djelovao prijeteći. Sud ocjenjuje da tužiteljica, iako je ušla u  verbalnu prepirku  s bivšim zaručnikom, ničim nije doprinijela činjenici da  je napustila radno mjesto usred rada i unatoč činjenici da ju je čekao poveći red kupaca.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151920"/>
            <a:ext cx="701028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Black"/>
              </a:rPr>
              <a:t>10.1. SUĐENJE !!!</a:t>
            </a:r>
            <a:endParaRPr b="0" lang="en-US" sz="3200" spc="-1" strike="noStrike">
              <a:solidFill>
                <a:srgbClr val="000000"/>
              </a:solidFill>
              <a:latin typeface="Arial"/>
            </a:endParaRPr>
          </a:p>
        </p:txBody>
      </p:sp>
      <p:sp>
        <p:nvSpPr>
          <p:cNvPr id="143"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lijedom toga, sud utvrđuje da je tužbeni zahtjev na utvrđenje nedopuštenosti otkaza i vraćanje na posao osnovan budući tuženik, kao poslodavac, nije dokazao postojanje opravdanog razloga za otkaz iz članka 116. stavak 1. ZR-a.</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 ocjeni ovog suda tužiteljica je dijelom ipak odgovorna za događaj od 25. travnja 2015. utoliko jer je već ranije morala zatražiti pojačanu pozornost radnika koji obavljaju poslove sigurnosti kod poslodavca. Međutim, opisano ponašanje se ni u kojem slučaju ne može smatrati osobito teškom povredom obveze iz radnog odnosa budući se radilo o iznenadnoj situaciji koju niti svaki prosječni radnik nije mogao predvidjeti i odgovarajuće reagirati, a njezin naknadni odlazak na bolovanje je u cijelosti opravd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00200" y="151920"/>
            <a:ext cx="678168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rimjer 1a.</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solidFill>
            <a:srgbClr val="ffff00"/>
          </a:solidFill>
          <a:ln w="0">
            <a:noFill/>
          </a:ln>
        </p:spPr>
        <p:txBody>
          <a:bodyPr anchor="t">
            <a:normAutofit fontScale="92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rPr>
              <a:t>Sukladno čl. 8 Zakona o parničnom postupku, sud prema svom uvjerenju na temelju savjesne i brižljive ocjene svakog dokaza zasebno i svih dokaza zajedno, a i na temelju rezultata cjelokupnog postupka, odlučuje koje će činjenice uzeti kao dokazane.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rPr>
              <a:t>Na temelju tako provedenog dokaznog postupka i ocjene svih provedenih dokaza, sud je zaključio da je tužbeni zahtjev tužiteljice osnovan u cijelosti.</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rPr>
              <a:t>Između stranaka nije sporno da je tužiteljica, u utuženom razdoblju bila zaposlena kod tuženika.</a:t>
            </a:r>
            <a:r>
              <a:rPr b="1" lang="hr-HR" sz="1600" spc="-1" strike="noStrike">
                <a:solidFill>
                  <a:srgbClr val="000000"/>
                </a:solidFill>
                <a:latin typeface="Arial"/>
              </a:rPr>
              <a:t>,  a </a:t>
            </a:r>
            <a:r>
              <a:rPr b="1" lang="vi-VN" sz="1600" spc="-1" strike="noStrike">
                <a:solidFill>
                  <a:srgbClr val="000000"/>
                </a:solidFill>
                <a:latin typeface="Arial"/>
              </a:rPr>
              <a:t>nije sporna</a:t>
            </a:r>
            <a:r>
              <a:rPr b="1" lang="hr-HR" sz="1600" spc="-1" strike="noStrike">
                <a:solidFill>
                  <a:srgbClr val="000000"/>
                </a:solidFill>
                <a:latin typeface="Arial"/>
              </a:rPr>
              <a:t> ni</a:t>
            </a:r>
            <a:r>
              <a:rPr b="1" lang="vi-VN" sz="1600" spc="-1" strike="noStrike">
                <a:solidFill>
                  <a:srgbClr val="000000"/>
                </a:solidFill>
                <a:latin typeface="Arial"/>
              </a:rPr>
              <a:t> visina tužbenog zahtjeva, kao i </a:t>
            </a:r>
            <a:r>
              <a:rPr b="1" lang="hr-HR" sz="1600" spc="-1" strike="noStrike">
                <a:solidFill>
                  <a:srgbClr val="000000"/>
                </a:solidFill>
                <a:latin typeface="Arial"/>
              </a:rPr>
              <a:t>utužen</a:t>
            </a:r>
            <a:r>
              <a:rPr b="1" lang="vi-VN" sz="1600" spc="-1" strike="noStrike">
                <a:solidFill>
                  <a:srgbClr val="000000"/>
                </a:solidFill>
                <a:latin typeface="Arial"/>
              </a:rPr>
              <a:t>i tijek zakonskih zateznih kamat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rPr>
              <a:t>Između stranaka je sporno, pripada li tužiteljici pravo na isplatu Božićnica za 2012.g., te Uskrsnice za 2013.g.</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Arial"/>
              </a:rPr>
              <a:t> </a:t>
            </a:r>
            <a:endParaRPr b="0" lang="en-US" sz="16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0000"/>
                </a:solidFill>
                <a:latin typeface="Arial"/>
              </a:rPr>
              <a:t> </a:t>
            </a:r>
            <a:endParaRPr b="0" lang="en-US" sz="1400" spc="-1" strike="noStrike">
              <a:solidFill>
                <a:srgbClr val="000000"/>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00200" y="228240"/>
            <a:ext cx="68580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rimjer 1b.</a:t>
            </a:r>
            <a:endParaRPr b="0" lang="en-US" sz="4400" spc="-1" strike="noStrike">
              <a:solidFill>
                <a:srgbClr val="000000"/>
              </a:solidFill>
              <a:latin typeface="Arial"/>
            </a:endParaRPr>
          </a:p>
        </p:txBody>
      </p:sp>
      <p:sp>
        <p:nvSpPr>
          <p:cNvPr id="147" name=""/>
          <p:cNvSpPr txBox="1"/>
          <p:nvPr/>
        </p:nvSpPr>
        <p:spPr>
          <a:xfrm>
            <a:off x="539640" y="1557000"/>
            <a:ext cx="8229600" cy="5111640"/>
          </a:xfrm>
          <a:prstGeom prst="rect">
            <a:avLst/>
          </a:prstGeom>
          <a:solidFill>
            <a:srgbClr val="ffff00"/>
          </a:solidFill>
          <a:ln w="0">
            <a:noFill/>
          </a:ln>
        </p:spPr>
        <p:txBody>
          <a:bodyPr anchor="t">
            <a:normAutofit fontScale="96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Uvidom u Dodatak I KU-a od 28.12.2012.g., utvrđeno je da je čl. 2. ugovoreno kako se odredba čl. 83. st. 2. KU-a iz 2010.g., a koja se odnosi na prigodnu isplatu za Božić, neće primjenjivati u 2012.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Uvidom u Dodatak II KU-a od 03.06.2013.g., utvrđeno je da su ugovorne strane ugovorile kako se odredba čl. 83. st. 1. KU-a iz 2013.g., koji se odnosi na prigodnu isplatu za Uskrs u visini neoporezivog iznosa dara, a najmanje u iznosu od 400,00 kn neto, neće primjenjivati u 2013.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Uvidom u Kolektivni ugovor od 26.11.2010.g., isti je u primjeni od 01.12.2010.g., čl. 146. istog, ugovoreno je kako se isti sklapa na određeno vrijeme u trajanju od 3 godine i vrijedi do 30.11.2013.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Uvidom u Kolektivni ugovor od 31.01.2013.g., čl. 146. istog, ugovoreno je, kako se isti sklapa na određeno vrijeme, u trajanju od 4 godine, i vrijedi do 31.01.2017.g., dok je čl. 151., ugovoreno, kako se citirani KU, primjenjuje od 01.02.2013.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Temeljem navedenog, a vezano za isplatu Božićnica za 2012.g., sud je utvrdio da je dana, 25.12.2012.g., među strankama bio u primjeni Kolektivni ugovor iz 2010.g., dok je vezano za isplatu Uskrsnice, sud utvrdio, kako je na dan Uskrsa te godine, odnosno dana 31.03.2013.g., na snazi bio Kolektivni ugovor iz 2013.g.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Sukladno odredbi čl. 173. st. 3. Zakona o obveznim odnosima, a sve s obzirom da KU nije propisan rok ispunjenja, odnosno isti nije propisan niti zakonom, te imajući u vidu da se radi o Božićnici koja se isplaćuje povodom dana Božića, uobičajeno je, te je u skladu s prirodom navedenog blagdana, da se Božićnica isplaćuje najkasnije danom uoči Božića, odnosno 24.12.2012.g., a isto se odnosi i na isplatu Uskrsnice, koja se isplaćuje najkasnije danom uoči Uskrsa, odnosno, u konkretnom slučaju, za 2013.g., dana, 30.03.2013.g. Temeljem navedenog, sud je utvrdio dospijeće utuženih tražbin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00200" y="151920"/>
            <a:ext cx="68580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rimjer 1c.</a:t>
            </a:r>
            <a:endParaRPr b="0" lang="en-US" sz="4400" spc="-1" strike="noStrike">
              <a:solidFill>
                <a:srgbClr val="000000"/>
              </a:solidFill>
              <a:latin typeface="Arial"/>
            </a:endParaRPr>
          </a:p>
        </p:txBody>
      </p:sp>
      <p:sp>
        <p:nvSpPr>
          <p:cNvPr id="149" name=""/>
          <p:cNvSpPr txBox="1"/>
          <p:nvPr/>
        </p:nvSpPr>
        <p:spPr>
          <a:xfrm>
            <a:off x="457200" y="1599840"/>
            <a:ext cx="8229600" cy="4924440"/>
          </a:xfrm>
          <a:prstGeom prst="rect">
            <a:avLst/>
          </a:prstGeom>
          <a:solidFill>
            <a:srgbClr val="ffff00"/>
          </a:solidFill>
          <a:ln w="0">
            <a:noFill/>
          </a:ln>
        </p:spPr>
        <p:txBody>
          <a:bodyPr anchor="t">
            <a:normAutofit fontScale="9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Arial"/>
              </a:rPr>
              <a:t>	</a:t>
            </a:r>
            <a:endParaRPr b="0" lang="en-US" sz="10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00"/>
                </a:solidFill>
                <a:latin typeface="Arial"/>
              </a:rPr>
              <a:t>	</a:t>
            </a:r>
            <a:r>
              <a:rPr b="1" lang="vi-VN" sz="1200" spc="-1" strike="noStrike">
                <a:solidFill>
                  <a:srgbClr val="000000"/>
                </a:solidFill>
                <a:latin typeface="Arial"/>
              </a:rPr>
              <a:t>Neosnovani su prigovori tuženika, da su Dodaci I i II KU-ovima, isključili pravo tužiteljice na isplatu, budući su isti doneseni nakon što je obveza poslodavca dospjela i ne mogu se primjenjivati retroaktivno, nakon što je već obveza tuženika nastupila, a sve sukladno odredbama Kolektivnog ugovora iz 2010.g. i 2013.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r>
              <a:rPr b="1" lang="hr-HR" sz="1200" spc="-1" strike="noStrike">
                <a:solidFill>
                  <a:srgbClr val="000000"/>
                </a:solidFill>
                <a:latin typeface="Arial"/>
              </a:rPr>
              <a:t>	</a:t>
            </a:r>
            <a:r>
              <a:rPr b="1" lang="vi-VN" sz="1200" spc="-1" strike="noStrike">
                <a:solidFill>
                  <a:srgbClr val="000000"/>
                </a:solidFill>
                <a:latin typeface="Arial"/>
              </a:rPr>
              <a:t> </a:t>
            </a:r>
            <a:r>
              <a:rPr b="1" lang="vi-VN" sz="1200" spc="-1" strike="noStrike">
                <a:solidFill>
                  <a:srgbClr val="000000"/>
                </a:solidFill>
                <a:latin typeface="Arial"/>
              </a:rPr>
              <a:t>Neosnovani su navodi tuženika u kojem ističe da je tužiteljici isplatio utužene tražbine kroz isplatu drugog potraživanja, konkretno stimulacije, ovo iz razloga što se isplata Božićnice i Uskrsnice dokazuje isplatnicom tuženika u kojoj je navedeno da se radi upravo o isplati Božićnice, odnosno Uskrsnice. Sukladno odredbi čl. 166. Zakona o obveznim odnosima, ispunjenje se sastoji u izvršenju onog što čini sadržaj obveze, te niti ga dužnik može ispuniti nečim drugim, niti vjerovnik može zahtijevati nešto drug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	</a:t>
            </a:r>
            <a:r>
              <a:rPr b="1" lang="vi-VN" sz="1200" spc="-1" strike="noStrike">
                <a:solidFill>
                  <a:srgbClr val="000000"/>
                </a:solidFill>
                <a:latin typeface="Arial"/>
              </a:rPr>
              <a:t>Čl. 167. st. 1. Zakona o obveznim odnosima, propisuje da obveza prestaje ako vjerovnik u sporazumu s dužnikom primi nešto što mu se ne duguje, ali ne može se jednom isplatom ispuniti dvije obveze, s obzirom da je tuženik tužiteljici dugovao plaću - stimulaciju, kao i prigodne nagrade, Božićnicu i Uskrsnicu.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r>
              <a:rPr b="1" lang="hr-HR" sz="1200" spc="-1" strike="noStrike">
                <a:solidFill>
                  <a:srgbClr val="000000"/>
                </a:solidFill>
                <a:latin typeface="Arial"/>
              </a:rPr>
              <a:t>	</a:t>
            </a:r>
            <a:r>
              <a:rPr b="1" lang="vi-VN" sz="1200" spc="-1" strike="noStrike">
                <a:solidFill>
                  <a:srgbClr val="000000"/>
                </a:solidFill>
                <a:latin typeface="Arial"/>
              </a:rPr>
              <a:t>Slijedom svega navedenog, sud je mišljenja da su osnovani zahtjevi tužiteljice, za isplatu Božićnice i Uskrsnice u 2012.g. i 2013.g., pa je stoga valjalo usvojiti tužbeni zahtjev tužiteljice u cijelosti.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r>
              <a:rPr b="1" lang="hr-HR"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	</a:t>
            </a:r>
            <a:r>
              <a:rPr b="1" lang="vi-VN" sz="1200" spc="-1" strike="noStrike">
                <a:solidFill>
                  <a:srgbClr val="000000"/>
                </a:solidFill>
                <a:latin typeface="Arial"/>
              </a:rPr>
              <a:t> </a:t>
            </a:r>
            <a:r>
              <a:rPr b="1" lang="vi-VN" sz="1200" spc="-1" strike="noStrike">
                <a:solidFill>
                  <a:srgbClr val="000000"/>
                </a:solidFill>
                <a:latin typeface="Arial"/>
              </a:rPr>
              <a:t>Zakonske zatezne kamate na iznos od 2.000,00 kn, na ime Božićnice, dosuđene su tužiteljici od 26.12.2012.g., kada je nastupila obveza tuženika za isplatu, odnosno 01.04.2013.g., na ime Uskrsnice, kada je nastupila obveza isplate za tuženika, a sve temeljem odredbe čl. 173. st. 3. ZOO-a</a:t>
            </a:r>
            <a:r>
              <a:rPr b="1" lang="hr-HR" sz="1200" spc="-1" strike="noStrike">
                <a:solidFill>
                  <a:srgbClr val="000000"/>
                </a:solidFill>
                <a:latin typeface="Arial"/>
              </a:rPr>
              <a:t>. </a:t>
            </a:r>
            <a:r>
              <a:rPr b="1" lang="vi-VN" sz="1200" spc="-1" strike="noStrike">
                <a:solidFill>
                  <a:srgbClr val="000000"/>
                </a:solidFill>
                <a:latin typeface="Arial"/>
              </a:rPr>
              <a:t> Utuženi tijek zakonskih zateznih kamata, kao i visina tužbenog zahtjeva, među strankama nisu sporne</a:t>
            </a:r>
            <a:r>
              <a:rPr b="1" lang="hr-HR" sz="1200" spc="-1" strike="noStrike">
                <a:solidFill>
                  <a:srgbClr val="000000"/>
                </a:solidFill>
                <a:latin typeface="Arial"/>
              </a:rPr>
              <a:t>. S tim da se</a:t>
            </a:r>
            <a:r>
              <a:rPr b="1" lang="vi-VN" sz="1200" spc="-1" strike="noStrike">
                <a:solidFill>
                  <a:srgbClr val="000000"/>
                </a:solidFill>
                <a:latin typeface="Arial"/>
              </a:rPr>
              <a:t> </a:t>
            </a:r>
            <a:r>
              <a:rPr b="1" lang="hr-HR" sz="1200" spc="-1" strike="noStrike">
                <a:solidFill>
                  <a:srgbClr val="000000"/>
                </a:solidFill>
                <a:latin typeface="Arial"/>
              </a:rPr>
              <a:t>o</a:t>
            </a:r>
            <a:r>
              <a:rPr b="1" lang="vi-VN" sz="1200" spc="-1" strike="noStrike">
                <a:solidFill>
                  <a:srgbClr val="000000"/>
                </a:solidFill>
                <a:latin typeface="Arial"/>
              </a:rPr>
              <a:t>dluka o kamatama temelji se na čl. 29 ZOO i ZID ZOO-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99840" y="274320"/>
            <a:ext cx="7086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rimjer 1d.</a:t>
            </a:r>
            <a:endParaRPr b="0" lang="en-US" sz="4400" spc="-1" strike="noStrike">
              <a:solidFill>
                <a:srgbClr val="000000"/>
              </a:solidFill>
              <a:latin typeface="Arial"/>
            </a:endParaRPr>
          </a:p>
        </p:txBody>
      </p:sp>
      <p:sp>
        <p:nvSpPr>
          <p:cNvPr id="151" name=""/>
          <p:cNvSpPr txBox="1"/>
          <p:nvPr/>
        </p:nvSpPr>
        <p:spPr>
          <a:xfrm>
            <a:off x="457200" y="1600200"/>
            <a:ext cx="8229600" cy="4997520"/>
          </a:xfrm>
          <a:prstGeom prst="rect">
            <a:avLst/>
          </a:prstGeom>
          <a:solidFill>
            <a:srgbClr val="ffff00"/>
          </a:solid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	</a:t>
            </a:r>
            <a:r>
              <a:rPr b="1" lang="vi-VN" sz="1200" spc="-1" strike="noStrike">
                <a:solidFill>
                  <a:srgbClr val="000000"/>
                </a:solidFill>
                <a:latin typeface="Arial"/>
              </a:rPr>
              <a:t>Odluka o trošku temelji se na odredbi čl. 154 st. 1 i čl. 155 Zakona o parničnom postupku.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	</a:t>
            </a:r>
            <a:r>
              <a:rPr b="1" lang="vi-VN" sz="1200" spc="-1" strike="noStrike">
                <a:solidFill>
                  <a:srgbClr val="000000"/>
                </a:solidFill>
                <a:latin typeface="Arial"/>
              </a:rPr>
              <a:t>Tužiteljici je priznat trošak za zastupanje po punomoćniku u skladu sa doprinjetim i zatraženim troškovnikom, te prema vrijednosti predmeta spora, i to za zastupanje na ročištu dana 16.05.2017.g. 25 bodova (Tbr. 9. toč. 1. Tarife), pristup na ročište za objavu i uručenje presude 12,5 bodova (Tbr. 9. toč. 3. Tarife), a što uz vrijednost boda od 10,00 kn, ukupno iznosi 375,00 kuna.</a:t>
            </a:r>
            <a:r>
              <a:rPr b="1" lang="hr-HR" sz="1200" spc="-1" strike="noStrike">
                <a:solidFill>
                  <a:srgbClr val="000000"/>
                </a:solidFill>
                <a:latin typeface="Arial"/>
              </a:rPr>
              <a:t> </a:t>
            </a:r>
            <a:r>
              <a:rPr b="1" lang="vi-VN" sz="1200" spc="-1" strike="noStrike">
                <a:solidFill>
                  <a:srgbClr val="000000"/>
                </a:solidFill>
                <a:latin typeface="Arial"/>
              </a:rPr>
              <a:t>Na tako određeni iznos parničnog troška, tužiteljici su dosuđene zakonske zatezne kamate, tekuće od presuđenja do isplate, sukladno čl. 29. Zakona o obveznim odnosima. </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	</a:t>
            </a:r>
            <a:r>
              <a:rPr b="1" lang="vi-VN" sz="1200" spc="-1" strike="noStrike">
                <a:solidFill>
                  <a:srgbClr val="000000"/>
                </a:solidFill>
                <a:latin typeface="Arial"/>
              </a:rPr>
              <a:t>Slijedom svega iznijetog, odlučeno je kao u izreci presude.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	</a:t>
            </a:r>
            <a:r>
              <a:rPr b="1" lang="hr-HR" sz="1200" spc="-1" strike="noStrike">
                <a:solidFill>
                  <a:srgbClr val="000000"/>
                </a:solidFill>
                <a:latin typeface="Arial"/>
              </a:rPr>
              <a:t>	</a:t>
            </a:r>
            <a:r>
              <a:rPr b="1" lang="hr-HR" sz="1200" spc="-1" strike="noStrike">
                <a:solidFill>
                  <a:srgbClr val="000000"/>
                </a:solidFill>
                <a:latin typeface="Arial"/>
              </a:rPr>
              <a:t>	</a:t>
            </a:r>
            <a:r>
              <a:rPr b="1" lang="vi-VN" sz="1200" spc="-1" strike="noStrike">
                <a:solidFill>
                  <a:srgbClr val="000000"/>
                </a:solidFill>
                <a:latin typeface="Arial"/>
              </a:rPr>
              <a:t>Zagreb, dana 29. svibnja 2017.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r>
              <a:rPr b="1" lang="vi-VN" sz="1200" spc="-1" strike="noStrike">
                <a:solidFill>
                  <a:srgbClr val="000000"/>
                </a:solidFill>
                <a:latin typeface="Arial"/>
              </a:rPr>
              <a:t>Suda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r>
              <a:rPr b="1" lang="hr-HR" sz="1200" spc="-1" strike="noStrike">
                <a:solidFill>
                  <a:srgbClr val="000000"/>
                </a:solidFill>
                <a:latin typeface="Arial"/>
              </a:rPr>
              <a:t>   </a:t>
            </a:r>
            <a:r>
              <a:rPr b="1" lang="hr-HR" sz="1200" spc="-1" strike="noStrike">
                <a:solidFill>
                  <a:srgbClr val="000000"/>
                </a:solidFill>
                <a:latin typeface="Arial"/>
              </a:rPr>
              <a:t>X.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UPUTA O PRAVNOM LIJEKU:</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Protiv ove presude dopuštena je žalba u roku od 8 dana od dana dostave </a:t>
            </a:r>
            <a:r>
              <a:rPr b="1" lang="hr-HR" sz="1200" spc="-1" strike="noStrike">
                <a:solidFill>
                  <a:srgbClr val="000000"/>
                </a:solidFill>
                <a:latin typeface="Arial"/>
              </a:rPr>
              <a:t>presude</a:t>
            </a:r>
            <a:r>
              <a:rPr b="1" lang="vi-VN"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0000"/>
                </a:solidFill>
                <a:latin typeface="Arial"/>
              </a:rPr>
              <a:t> </a:t>
            </a:r>
            <a:r>
              <a:rPr b="1" lang="vi-VN" sz="1200" spc="-1" strike="noStrike">
                <a:solidFill>
                  <a:srgbClr val="000000"/>
                </a:solidFill>
                <a:latin typeface="Arial"/>
              </a:rPr>
              <a:t>Dna:</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00200" y="75960"/>
            <a:ext cx="693432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Black"/>
              </a:rPr>
              <a:t>11. Utvrđivanje visine naknade plaće</a:t>
            </a:r>
            <a:endParaRPr b="0" lang="en-US" sz="3200" spc="-1" strike="noStrike">
              <a:solidFill>
                <a:srgbClr val="000000"/>
              </a:solidFill>
              <a:latin typeface="Arial"/>
            </a:endParaRPr>
          </a:p>
        </p:txBody>
      </p:sp>
      <p:sp>
        <p:nvSpPr>
          <p:cNvPr id="153" name="PlaceHolder 2"/>
          <p:cNvSpPr>
            <a:spLocks noGrp="1"/>
          </p:cNvSpPr>
          <p:nvPr>
            <p:ph/>
          </p:nvPr>
        </p:nvSpPr>
        <p:spPr>
          <a:xfrm>
            <a:off x="30240" y="1752120"/>
            <a:ext cx="8686800" cy="5257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Sud je tužiteljici dosudio ukupno zatraženi iznos naknade plaće budući visina ove novčane tražbine, kao i vrijeme u kojem je nastala, među strankama nije bila sporna.</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Jednako je tako i u odnosu na utuženu zakonsku zateznu kamatu koja je tužiteljici dosuđena na temelju odredbe iz članka 29. stavak 2. </a:t>
            </a:r>
            <a:r>
              <a:rPr b="1" lang="hr-HR" sz="2800" spc="-1" strike="noStrike">
                <a:solidFill>
                  <a:srgbClr val="000000"/>
                </a:solidFill>
                <a:latin typeface="Arial"/>
              </a:rPr>
              <a:t>Zakona o obveznim odnosima (“Narodne novine”, br. 35/05 i 41/08, u daljnjem tekstu: ZO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99840" y="274320"/>
            <a:ext cx="708660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Black"/>
              </a:rPr>
              <a:t>12. Odluka o parničnim troškovima</a:t>
            </a:r>
            <a:endParaRPr b="0" lang="en-US" sz="4000" spc="-1" strike="noStrike">
              <a:solidFill>
                <a:srgbClr val="000000"/>
              </a:solidFill>
              <a:latin typeface="Arial"/>
            </a:endParaRPr>
          </a:p>
        </p:txBody>
      </p:sp>
      <p:sp>
        <p:nvSpPr>
          <p:cNvPr id="155" name="PlaceHolder 2"/>
          <p:cNvSpPr>
            <a:spLocks noGrp="1"/>
          </p:cNvSpPr>
          <p:nvPr>
            <p:ph/>
          </p:nvPr>
        </p:nvSpPr>
        <p:spPr>
          <a:xfrm>
            <a:off x="250560" y="1599840"/>
            <a:ext cx="8435880" cy="5257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Tužiteljica je ostvarila potpun uspjeh u postupku pa joj je, sukladno odredbama članka 154. stavak 1. i članka 155. ZPP-a, odmjeren opravdan trošak u  “jednokratnom” iznosu od 2.000,00 kn po Tbr. 7. toč. 2. Tarife o nagradama i naknadi troškova za rad odvjetnika (“Narodne novine”, br. 142/12, u daljnjem tekstu: OT)</a:t>
            </a:r>
            <a:r>
              <a:rPr b="1" lang="sr-Latn-R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676160" y="274320"/>
            <a:ext cx="7010280" cy="1143000"/>
          </a:xfrm>
          <a:prstGeom prst="rect">
            <a:avLst/>
          </a:prstGeom>
          <a:solidFill>
            <a:srgbClr val="bbe0e3"/>
          </a:solidFill>
          <a:ln w="9360">
            <a:solidFill>
              <a:srgbClr val="bbe0e3"/>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13. Završni dio presude</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Iz navedenih razloga presuđeno je kao u izreci.</a:t>
            </a:r>
            <a:endParaRPr b="0" lang="en-US" sz="36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Zagreb, </a:t>
            </a:r>
            <a:r>
              <a:rPr b="1" lang="hr-HR" sz="1800" spc="-1" strike="noStrike">
                <a:solidFill>
                  <a:srgbClr val="000000"/>
                </a:solidFill>
                <a:latin typeface="Arial"/>
              </a:rPr>
              <a:t>20</a:t>
            </a:r>
            <a:r>
              <a:rPr b="1" lang="hr-HR" sz="1800" spc="-1" strike="noStrike">
                <a:solidFill>
                  <a:srgbClr val="000000"/>
                </a:solidFill>
                <a:latin typeface="Arial Black"/>
              </a:rPr>
              <a:t>. </a:t>
            </a:r>
            <a:r>
              <a:rPr b="1" lang="hr-HR" sz="1800" spc="-1" strike="noStrike">
                <a:solidFill>
                  <a:srgbClr val="000000"/>
                </a:solidFill>
                <a:latin typeface="Arial"/>
              </a:rPr>
              <a:t>listopada</a:t>
            </a:r>
            <a:r>
              <a:rPr b="1" lang="hr-HR" sz="1800" spc="-1" strike="noStrike">
                <a:solidFill>
                  <a:srgbClr val="000000"/>
                </a:solidFill>
                <a:latin typeface="Arial Black"/>
              </a:rPr>
              <a:t> 201</a:t>
            </a:r>
            <a:r>
              <a:rPr b="1" lang="hr-HR" sz="1800" spc="-1" strike="noStrike">
                <a:solidFill>
                  <a:srgbClr val="000000"/>
                </a:solidFill>
                <a:latin typeface="Arial"/>
              </a:rPr>
              <a:t>5</a:t>
            </a: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endParaRPr b="0" lang="en-US" sz="18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Black"/>
              </a:rPr>
              <a:t>	</a:t>
            </a:r>
            <a:r>
              <a:rPr b="1" lang="sr-Latn-RS" sz="1800" spc="-1" strike="noStrike">
                <a:solidFill>
                  <a:srgbClr val="000000"/>
                </a:solidFill>
                <a:latin typeface="Arial Black"/>
              </a:rPr>
              <a:t>	</a:t>
            </a:r>
            <a:r>
              <a:rPr b="1" lang="sr-Latn-RS" sz="1800" spc="-1" strike="noStrike">
                <a:solidFill>
                  <a:srgbClr val="000000"/>
                </a:solidFill>
                <a:latin typeface="Arial Black"/>
              </a:rPr>
              <a:t>	</a:t>
            </a:r>
            <a:r>
              <a:rPr b="1" lang="sr-Latn-RS" sz="1800" spc="-1" strike="noStrike">
                <a:solidFill>
                  <a:srgbClr val="000000"/>
                </a:solidFill>
                <a:latin typeface="Arial Black"/>
              </a:rPr>
              <a:t>	</a:t>
            </a:r>
            <a:r>
              <a:rPr b="1" lang="sr-Latn-RS" sz="1800" spc="-1" strike="noStrike">
                <a:solidFill>
                  <a:srgbClr val="000000"/>
                </a:solidFill>
                <a:latin typeface="Arial Black"/>
              </a:rPr>
              <a:t>	</a:t>
            </a:r>
            <a:r>
              <a:rPr b="1" lang="sr-Latn-RS" sz="1800" spc="-1" strike="noStrike">
                <a:solidFill>
                  <a:srgbClr val="000000"/>
                </a:solidFill>
                <a:latin typeface="Arial Black"/>
              </a:rPr>
              <a:t>	</a:t>
            </a:r>
            <a:r>
              <a:rPr b="1" lang="sr-Latn-RS" sz="1800" spc="-1" strike="noStrike">
                <a:solidFill>
                  <a:srgbClr val="000000"/>
                </a:solidFill>
                <a:latin typeface="Arial Black"/>
              </a:rPr>
              <a:t>	</a:t>
            </a:r>
            <a:r>
              <a:rPr b="1" lang="hr-HR" sz="1800" spc="-1" strike="noStrike">
                <a:solidFill>
                  <a:srgbClr val="000000"/>
                </a:solidFill>
                <a:latin typeface="Arial Black"/>
              </a:rPr>
              <a:t>SUDAC</a:t>
            </a:r>
            <a:endParaRPr b="0" lang="en-US" sz="18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endParaRPr b="0" lang="en-US" sz="1800" spc="-1" strike="noStrike">
              <a:solidFill>
                <a:srgbClr val="000000"/>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 </a:t>
            </a:r>
            <a:r>
              <a:rPr b="1" lang="hr-HR" sz="1800" spc="-1" strike="noStrike">
                <a:solidFill>
                  <a:srgbClr val="000000"/>
                </a:solidFill>
                <a:latin typeface="Arial Black"/>
              </a:rPr>
              <a:t>Ante Antić</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99840" y="151920"/>
            <a:ext cx="708660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Black"/>
              </a:rPr>
              <a:t>Obrazloženje presude</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Black"/>
              </a:rPr>
              <a:t>OBRAZLOŽENJ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u="sng">
                <a:solidFill>
                  <a:srgbClr val="000000"/>
                </a:solidFill>
                <a:uFillTx/>
                <a:latin typeface="Arial"/>
              </a:rPr>
              <a:t>U obrazloženju sud će izložiti zahtjeve stranaka</a:t>
            </a:r>
            <a:r>
              <a:rPr b="0" lang="hr-HR" sz="2400" spc="-1" strike="noStrike">
                <a:solidFill>
                  <a:srgbClr val="000000"/>
                </a:solidFill>
                <a:latin typeface="Arial"/>
              </a:rPr>
              <a:t>, činjenice koje su iznijele i dokaze koje su predložile, koje je od tih činjenica utvrđivao, zašto i kako ih je utvrdio, a ako ih je utvrdio dokazivanjem, koje je dokaze izvodio i zašto te kako ih je ocijenio; sud će posebno navesti koje je odredbe materijalnog prava primijenio odlučujući o zahtjevima stranaka, a izjasnit će se, ako je to potrebno, i o stavovima stranaka o pravnoj osnovi spora te o njihovim prijedlozima i prigovorima o kojima nije dao svoje razloge u odlukama koje je već donio tijekom postupk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99840" y="274320"/>
            <a:ext cx="708660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Black"/>
              </a:rPr>
              <a:t>14. UPUTA O PRAVNOM LIJEKU</a:t>
            </a:r>
            <a:r>
              <a:rPr b="0" lang="hr-HR" sz="4000" spc="-1" strike="noStrike">
                <a:solidFill>
                  <a:srgbClr val="000000"/>
                </a:solidFill>
                <a:latin typeface="Arial"/>
              </a:rPr>
              <a:t>:</a:t>
            </a: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Uputa o pravnom lijeku:</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otiv ove presude nezadovoljna stranka može podnijeti žalbu u roku od 8 dana. Rok za žalbu stranci koja je pristupila na ročište na kojem se presuda objavljuje teče od dana objave i uručenja presude, stranci koja je uredno obaviještena o ročištu na kojem se presuda objavljuje teče od dana objave presude, a stranci koja nije bila uredno obaviještena o ročištu na kojem se presuda objavljuje, rok za žalbu počinje teći od dana dostave prijepisa ove pres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600200" y="274320"/>
            <a:ext cx="73152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UPUTA O PRAVNOM LIJEKU</a:t>
            </a:r>
            <a:br>
              <a:rPr sz="4000"/>
            </a:br>
            <a:r>
              <a:rPr b="1" lang="hr-HR" sz="4000" spc="-1" strike="noStrike">
                <a:solidFill>
                  <a:srgbClr val="000000"/>
                </a:solidFill>
                <a:latin typeface="Arial"/>
              </a:rPr>
              <a:t>čl. 335. ZPP (st. 7. do 13.)</a:t>
            </a:r>
            <a:endParaRPr b="0" lang="en-US" sz="4000" spc="-1" strike="noStrike">
              <a:solidFill>
                <a:srgbClr val="000000"/>
              </a:solidFill>
              <a:latin typeface="Arial"/>
            </a:endParaRPr>
          </a:p>
        </p:txBody>
      </p:sp>
      <p:sp>
        <p:nvSpPr>
          <p:cNvPr id="161" name=""/>
          <p:cNvSpPr txBox="1"/>
          <p:nvPr/>
        </p:nvSpPr>
        <p:spPr>
          <a:xfrm>
            <a:off x="380880" y="1905120"/>
            <a:ext cx="8229600" cy="452592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tranci koja je uredno obaviještena o ročištu na kojem se presuda objavljuje, sud neće dostavljati presudu prema odredbama ovoga Zakona o dostavi pismena.</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tranci koja je pristupila na ročište na kojem se presuda objavljuje, sud će na ročištu uručiti ovjereni prijepis presude.</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Ako stranka nije pristupila na ročište na kojem se presuda objavljuje, a uredno je obaviještena o ročištu, smatrat će se da joj je dostava presude obavljena onoga dana kada je održano ročište na kojem se presuda objavljuje. Ovjereni prijepis presude stranka može preuzeti u sudskoj zgradi.</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 slučaju iz stavka 9. ovoga članka sud će istaknuti presudu na internetskoj stranici e-oglasna ploča sudova. Presuda mora biti istaknuta na internetskoj stranici e-oglasna ploča sudova osam dana, računajući od dana kada je održano ročište na kojem se presuda objavljuje.</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Nastavak</a:t>
            </a:r>
            <a:endParaRPr b="0" lang="en-US"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ranci koja nije bila uredno obaviještena o ročištu na kojem se presuda objavljuje, sud će presudu dostaviti prema odredbama ovoga Zakona o dostavi pisme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ud će na ročištu na kojem je glavna rasprava zaključena, odnosno u obavijesti o ročištu na kojem se presuda objavljuje osobito upozoriti na posljedice iz stavka 7., 9. i 10. ovoga člank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rankama se uručuje, odnosno dostavlja ovjereni prijepis presude s uputom o pravu na izjavljivanje pravnog lijeka protiv presud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990720"/>
            <a:ext cx="8229600" cy="10476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Black"/>
              </a:rPr>
              <a:t>Presuda se donosi i objavljuje u ime Republike Hrvatske</a:t>
            </a:r>
            <a:r>
              <a:rPr b="0" lang="hr-HR" sz="4000" spc="-1" strike="noStrike">
                <a:solidFill>
                  <a:srgbClr val="000000"/>
                </a:solidFill>
                <a:latin typeface="Arial Black"/>
              </a:rPr>
              <a:t>.</a:t>
            </a:r>
            <a:br>
              <a:rPr sz="4000"/>
            </a:br>
            <a:endParaRPr b="0" lang="en-US" sz="4000" spc="-1" strike="noStrike">
              <a:solidFill>
                <a:srgbClr val="000000"/>
              </a:solidFill>
              <a:latin typeface="Arial"/>
            </a:endParaRPr>
          </a:p>
        </p:txBody>
      </p:sp>
      <p:sp>
        <p:nvSpPr>
          <p:cNvPr id="90" name="PlaceHolder 2"/>
          <p:cNvSpPr>
            <a:spLocks noGrp="1"/>
          </p:cNvSpPr>
          <p:nvPr>
            <p:ph/>
          </p:nvPr>
        </p:nvSpPr>
        <p:spPr>
          <a:xfrm>
            <a:off x="380880" y="2133360"/>
            <a:ext cx="8291520" cy="4281480"/>
          </a:xfrm>
          <a:prstGeom prst="rect">
            <a:avLst/>
          </a:prstGeom>
          <a:noFill/>
          <a:ln w="0">
            <a:noFill/>
          </a:ln>
        </p:spPr>
        <p:txBody>
          <a:bodyPr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Black"/>
              </a:rPr>
              <a:t>Članak 335. ZP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ad se glavna rasprava održava pred vijećem, presudu donose predsjednik vijeća i članovi vijeća koji su sudjelovali na ročištu na kojemu je glavna rasprava zaključe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Presudu objavljuje sudac pojedinac, odnosno predsjednik vijeć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esuda se mora donijeti, objaviti, izraditi i uručiti ili otpremiti, najkasnije u roku od 45 dana od dana zaključenja glavne rasprav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vornik presude potpisuje sudac pojedinac, odnosno predsjednik vijeć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Arial"/>
              </a:rPr>
              <a:t>Strankama se uručuje, odnosno dostavlja ovjereni prijepis presude s </a:t>
            </a:r>
            <a:r>
              <a:rPr b="1" lang="hr-HR" sz="2000" spc="-1" strike="noStrike" u="sng">
                <a:solidFill>
                  <a:srgbClr val="000000"/>
                </a:solidFill>
                <a:uFillTx/>
                <a:latin typeface="Arial Black"/>
              </a:rPr>
              <a:t>uputom o pravu na izjavljivanje pravnog lijeka</a:t>
            </a:r>
            <a:r>
              <a:rPr b="1" lang="hr-HR" sz="2000" spc="-1" strike="noStrike" u="sng">
                <a:solidFill>
                  <a:srgbClr val="000000"/>
                </a:solidFill>
                <a:uFillTx/>
                <a:latin typeface="Arial"/>
              </a:rPr>
              <a:t> protiv presu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99840" y="274320"/>
            <a:ext cx="7086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Sudski poslovnik</a:t>
            </a:r>
            <a:br>
              <a:rPr sz="4000"/>
            </a:br>
            <a:r>
              <a:rPr b="1" lang="hr-HR" sz="2800" spc="-1" strike="noStrike">
                <a:solidFill>
                  <a:srgbClr val="000000"/>
                </a:solidFill>
                <a:latin typeface="Arial"/>
              </a:rPr>
              <a:t>“Narodne novine” br.37/14</a:t>
            </a:r>
            <a:endParaRPr b="0" lang="en-US" sz="2800" spc="-1" strike="noStrike">
              <a:solidFill>
                <a:srgbClr val="000000"/>
              </a:solidFill>
              <a:latin typeface="Arial"/>
            </a:endParaRPr>
          </a:p>
        </p:txBody>
      </p:sp>
      <p:sp>
        <p:nvSpPr>
          <p:cNvPr id="92" name="PlaceHolder 2"/>
          <p:cNvSpPr>
            <a:spLocks noGrp="1"/>
          </p:cNvSpPr>
          <p:nvPr>
            <p:ph/>
          </p:nvPr>
        </p:nvSpPr>
        <p:spPr>
          <a:xfrm>
            <a:off x="457200" y="1483920"/>
            <a:ext cx="8362800" cy="53737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Članak 6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 Sudske odluke i ostala pismena pišu se pismom Times New Roman, veličine 12 pt, na papiru A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a presudama i rješenjima kojima se dovršava postupak u gornjem lijevom kutu stavit će se grb Republike Hrvatske u izvornim bojama, a ispod njega naziv »Republika Hrvatska«, te naziv i sjedište suda i sjedište stalne služb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 sredini iznad uvoda stavit će se</a:t>
            </a:r>
            <a:br>
              <a:rPr sz="2000"/>
            </a:br>
            <a:r>
              <a:rPr b="0" lang="hr-HR" sz="2000" spc="-1" strike="noStrike">
                <a:solidFill>
                  <a:srgbClr val="000000"/>
                </a:solidFill>
                <a:latin typeface="Arial Black"/>
              </a:rPr>
              <a:t>»U I M E R E P U B L I K E H R V A T S K 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a ispod toga stavit će se naziv odluk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Black"/>
              </a:rPr>
              <a:t>»P R E S U D A«, odnosno »R J E Š E NJ 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6) </a:t>
            </a:r>
            <a:r>
              <a:rPr b="1" lang="hr-HR" sz="2000" spc="-1" strike="noStrike" u="sng">
                <a:solidFill>
                  <a:srgbClr val="000000"/>
                </a:solidFill>
                <a:uFillTx/>
                <a:latin typeface="Arial"/>
              </a:rPr>
              <a:t>U gornjem desnom kutu u svim odlukama stavit će se poslovni broj spisa</a:t>
            </a:r>
            <a:r>
              <a:rPr b="0" lang="hr-HR" sz="2000" spc="-1" strike="noStrike">
                <a:solidFill>
                  <a:srgbClr val="000000"/>
                </a:solidFill>
                <a:latin typeface="Arial"/>
              </a:rPr>
              <a:t>  </a:t>
            </a:r>
            <a:r>
              <a:rPr b="0" lang="hr-HR" sz="2000" spc="-1" strike="noStrike">
                <a:solidFill>
                  <a:srgbClr val="000000"/>
                </a:solidFill>
                <a:latin typeface="Arial Black"/>
              </a:rPr>
              <a:t>( P-)</a:t>
            </a:r>
            <a:r>
              <a:rPr b="0" lang="hr-HR" sz="2000" spc="-1" strike="noStrike">
                <a:solidFill>
                  <a:srgbClr val="000000"/>
                </a:solidFill>
                <a:latin typeface="Arial"/>
              </a:rPr>
              <a:t> i podbroj pod kojim je donesena odluk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Ako se odluka sastoji od više listova, poslovni broj i podbroj pod kojim je donesena stavlja se na svaki list u gornjem desnom kut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228240"/>
            <a:ext cx="694836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Black"/>
              </a:rPr>
              <a:t>Izrada uvoda presude</a:t>
            </a:r>
            <a:endParaRPr b="0" lang="en-US" sz="4400" spc="-1" strike="noStrike">
              <a:solidFill>
                <a:srgbClr val="000000"/>
              </a:solidFill>
              <a:latin typeface="Arial"/>
            </a:endParaRPr>
          </a:p>
        </p:txBody>
      </p:sp>
      <p:sp>
        <p:nvSpPr>
          <p:cNvPr id="94" name="PlaceHolder 2"/>
          <p:cNvSpPr>
            <a:spLocks noGrp="1"/>
          </p:cNvSpPr>
          <p:nvPr>
            <p:ph/>
          </p:nvPr>
        </p:nvSpPr>
        <p:spPr>
          <a:xfrm>
            <a:off x="456840" y="1523880"/>
            <a:ext cx="8435880" cy="5184720"/>
          </a:xfrm>
          <a:prstGeom prst="rect">
            <a:avLst/>
          </a:prstGeom>
          <a:noFill/>
          <a:ln w="0">
            <a:noFill/>
          </a:ln>
        </p:spPr>
        <p:txBody>
          <a:bodyPr anchor="t">
            <a:normAutofit/>
          </a:bodyPr>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Arial Black"/>
              </a:rPr>
              <a:t>	</a:t>
            </a:r>
            <a:r>
              <a:rPr b="1" lang="hr-HR" sz="1600" spc="-1" strike="noStrike">
                <a:solidFill>
                  <a:srgbClr val="000000"/>
                </a:solidFill>
                <a:latin typeface="Arial Black"/>
              </a:rPr>
              <a:t>	</a:t>
            </a:r>
            <a:r>
              <a:rPr b="1" lang="hr-HR" sz="1600" spc="-1" strike="noStrike">
                <a:solidFill>
                  <a:srgbClr val="000000"/>
                </a:solidFill>
                <a:latin typeface="Arial Black"/>
              </a:rPr>
              <a:t>	</a:t>
            </a:r>
            <a:r>
              <a:rPr b="1" lang="hr-HR" sz="1600" spc="-1" strike="noStrike">
                <a:solidFill>
                  <a:srgbClr val="000000"/>
                </a:solidFill>
                <a:latin typeface="Arial Black"/>
              </a:rPr>
              <a:t>	</a:t>
            </a:r>
            <a:r>
              <a:rPr b="1" lang="hr-HR" sz="1600" spc="-1" strike="noStrike">
                <a:solidFill>
                  <a:srgbClr val="000000"/>
                </a:solidFill>
                <a:latin typeface="Arial Black"/>
              </a:rPr>
              <a:t>	</a:t>
            </a:r>
            <a:r>
              <a:rPr b="1" lang="hr-HR" sz="1600" spc="-1" strike="noStrike">
                <a:solidFill>
                  <a:srgbClr val="000000"/>
                </a:solidFill>
                <a:latin typeface="Arial Black"/>
              </a:rPr>
              <a:t>Posl.br. P-154/2015-13</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	</a:t>
            </a:r>
            <a:r>
              <a:rPr b="1" lang="hr-HR" sz="2000" spc="-1" strike="noStrike">
                <a:solidFill>
                  <a:srgbClr val="000000"/>
                </a:solidFill>
                <a:latin typeface="Arial"/>
              </a:rPr>
              <a:t>        </a:t>
            </a:r>
            <a:r>
              <a:rPr b="0" lang="hr-HR" sz="2000" spc="-1" strike="noStrike">
                <a:solidFill>
                  <a:srgbClr val="000000"/>
                </a:solidFill>
                <a:latin typeface="Arial Black"/>
              </a:rPr>
              <a:t>U  I M E  R E P U B L I K E  H R V A T S K 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Black"/>
              </a:rPr>
              <a:t>	</a:t>
            </a:r>
            <a:r>
              <a:rPr b="0" lang="hr-HR" sz="2000" spc="-1" strike="noStrike">
                <a:solidFill>
                  <a:srgbClr val="000000"/>
                </a:solidFill>
                <a:latin typeface="Arial Black"/>
              </a:rPr>
              <a:t>                   </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Black"/>
              </a:rPr>
              <a:t>                                       </a:t>
            </a:r>
            <a:r>
              <a:rPr b="1" lang="hr-HR" sz="1800" spc="-1" strike="noStrike">
                <a:solidFill>
                  <a:srgbClr val="000000"/>
                </a:solidFill>
                <a:latin typeface="Arial Black"/>
              </a:rPr>
              <a:t>P R E S U D A</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Općinski radni sud u Zagrebu, po sucu pojedincu Anti Antiću, u pravnoj stvari tužitelja Hrvoja Horvata (OIB) iz Zagreba, Borongaj 12, zastupanog po punomoćnici Vesni Vesnić, odvjetnici u Zagrebu, protiv tuženice Kate Katić (OIB) iz Splita, Obala 13, zastupane po punomoćniku Radi Radiću, odvjetniku u Splitu, radi utvrđenja otkaza nedopuštenim, vraćanja na posao i isplate, nakon održane i zaključene glavne rasprave dana 30. rujna 2015. godine, u nazočnosti punomoćnika stranaka, dana 20. listopada 2015. godine,</a:t>
            </a:r>
            <a:endParaRPr b="0" lang="en-US" sz="2000" spc="-1" strike="noStrike">
              <a:solidFill>
                <a:srgbClr val="000000"/>
              </a:solidFill>
              <a:latin typeface="Arial"/>
            </a:endParaRPr>
          </a:p>
          <a:p>
            <a:pPr marL="343080" indent="0" algn="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914040"/>
            <a:ext cx="8291520" cy="5721480"/>
          </a:xfrm>
          <a:prstGeom prst="rect">
            <a:avLst/>
          </a:prstGeom>
          <a:solidFill>
            <a:srgbClr val="bbe0e3"/>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Black"/>
              </a:rPr>
              <a:t>Uvod presude sadrž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1" lang="hr-HR" sz="2400" spc="-1" strike="noStrike">
                <a:solidFill>
                  <a:srgbClr val="000000"/>
                </a:solidFill>
                <a:latin typeface="Arial"/>
              </a:rPr>
              <a:t>- naznaku da se presuda izriče u ime RH,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naziv sud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ime i prezime suca pojedinca, </a:t>
            </a:r>
            <a:r>
              <a:rPr b="1" lang="hr-HR" sz="1600" spc="-1" strike="noStrike">
                <a:solidFill>
                  <a:srgbClr val="000000"/>
                </a:solidFill>
                <a:latin typeface="Arial"/>
              </a:rPr>
              <a:t>odnosno predsjednika vijeća i članova vijeća</a:t>
            </a:r>
            <a:r>
              <a:rPr b="1" lang="hr-HR"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ime i prezime ili naziv, OIB te prebivalište ili boravište, odnosno sjedište stranak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njihovih zastupnika i punomoćnik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kratku oznaku predmeta spor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dan zaključenja glavne rasprav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naznaku stranaka, njihovih zastupnika i punomoćnika </a:t>
            </a:r>
            <a:r>
              <a:rPr b="1" lang="hr-HR" sz="2400" spc="-1" strike="noStrike" u="sng">
                <a:solidFill>
                  <a:srgbClr val="000000"/>
                </a:solidFill>
                <a:uFillTx/>
                <a:latin typeface="Arial"/>
              </a:rPr>
              <a:t>koji su toj raspravi prisustvovali</a:t>
            </a:r>
            <a:r>
              <a:rPr b="1" lang="hr-HR" sz="2400" spc="-1" strike="noStrike">
                <a:solidFill>
                  <a:srgbClr val="000000"/>
                </a:solidFill>
                <a:latin typeface="Arial"/>
              </a:rPr>
              <a:t> t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a:t>
            </a:r>
            <a:r>
              <a:rPr b="1" lang="hr-HR" sz="2400" spc="-1" strike="noStrike" u="sng">
                <a:solidFill>
                  <a:srgbClr val="000000"/>
                </a:solidFill>
                <a:uFillTx/>
                <a:latin typeface="Arial"/>
              </a:rPr>
              <a:t>dan kad je presuda donesen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Black"/>
              </a:rPr>
              <a:t>- To je dan objave presud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99840" y="228240"/>
            <a:ext cx="7086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Uvod primjer:</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solidFill>
            <a:srgbClr val="ffff00"/>
          </a:solidFill>
          <a:ln w="0">
            <a:noFill/>
          </a:ln>
        </p:spPr>
        <p:txBody>
          <a:bodyPr anchor="t">
            <a:normAutofit fontScale="98000"/>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rPr>
              <a:t>REPUBLIKA HRVATSKA                                                                                                                Poslovni broj: 20 Pr-249/17-46</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OPĆINSKI RADNI SUD U ZAGREBU</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 </a:t>
            </a:r>
            <a:r>
              <a:rPr b="0" lang="hr-HR" sz="1100" spc="-1" strike="noStrike">
                <a:solidFill>
                  <a:srgbClr val="000000"/>
                </a:solidFill>
                <a:latin typeface="Arial"/>
              </a:rPr>
              <a:t>Ulica grada Vukovara 84</a:t>
            </a:r>
            <a:endParaRPr b="0" lang="en-US" sz="11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U I M E   R E P U B L I K E  H R V A T S K E</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P R E S U D A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Općinski radni sud u Zagrebu, po sutkinji toga suda X.X., kao sucu pojedincu, u pravnoj stvari tužiteljice Gordane D. iz Zagreba, Aleja B. Jurišića xx, OIB: 30377905050, koju zastupa punomoćnik Marko Propadalo, dipl. iur. u Republičkom sindikatu radnika Hrvatske, Zagreb, Kneza Mislava 11, protiv tuženika HP Hrvatska pošta d.d. Zagreb, Jurišićeva 13, OIB: 67447018525, kojeg zastupa punomoćnica L. R. G., dipl. iur., po generalnoj punomoći SU-1369/13, radi isplate, nakon održane glavne i javne rasprave zaključene dana 5. listopada 2016., u prisutnosti punomoćnika tužiteljice Marka Propadala, dipl. iur. i punomoćnice tuženika Maje Dimitrovski, dipl. iur., dana 7. lipnja 2017.,</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ita Lazarin</dc:creator>
  <dc:description/>
  <dc:language>en-US</dc:language>
  <cp:lastModifiedBy>wsadmin</cp:lastModifiedBy>
  <dcterms:modified xsi:type="dcterms:W3CDTF">2018-05-15T09:49:35Z</dcterms:modified>
  <cp:revision>6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