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4395-618A-4423-A841-9EAEBE111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D3BE-0AF5-4DD2-960F-B55F1C858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8907-D148-456D-9DAC-CC95D4492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9C38-1F0C-4F0D-B870-FD8D01556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98DE3-873A-48B5-BDEA-40A3E4324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F3E2E-8648-460B-8DE1-4945FA4AC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972A8-EADE-4EBC-93BD-C5BEA564C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0A64B-1CB4-4275-9742-35A475CA0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4E3ED-8863-4CCA-9A59-26144FF3A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34454-E7D3-4980-8539-1F8CF8F3B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BFAA0-5CB5-4FBD-9F5A-DC5AA7102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5951-481B-4648-89DF-840DD68C9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00014-0410-4FD7-9C41-297309F25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B69C7-1812-4684-89F2-DC58FB4D7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9AC40-D7E8-4D11-BD87-BDDB1009B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9BFFA-06DB-4BAD-A3D5-AD1F91A3F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A4654-C0F4-4416-86BE-C8E06280C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CD63-2A24-4CFB-805F-B556AB1E8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C16D-3EA6-4F47-A48C-3088447B0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CB1C-FAAA-4B04-ACE4-89FFA3A4E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ACD9-B6FE-4A72-8EDE-37EC3257E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64CA-6AB6-4FEB-8F3D-FAEF4EA46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EED4-8630-476D-A2B9-E46D69592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F981-6EC8-4873-B483-2E4499015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9F1C7-1C53-45F0-ABF1-289D0645D6CE}" type="datetime">
              <a:rPr b="0" lang="hr-HR" sz="1200" spc="-1" strike="noStrike">
                <a:solidFill>
                  <a:srgbClr val="ffffff"/>
                </a:solidFill>
                <a:latin typeface="Tahoma"/>
              </a:rPr>
              <a:t>29.07.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ffffff"/>
                </a:solidFill>
                <a:latin typeface="Tahoma"/>
              </a:rPr>
              <a:t>Damir Kos, sudac Vrhovnog suda Republike Hrvatsk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90466-D005-42FB-BF00-DE4392109A0C}" type="slidenum">
              <a:rPr b="0" lang="hr-HR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7E720-5340-4F5A-A2DF-6BBCE831EA1A}" type="datetime">
              <a:rPr b="0" lang="hr-HR" sz="1200" spc="-1" strike="noStrike">
                <a:solidFill>
                  <a:srgbClr val="ffffff"/>
                </a:solidFill>
                <a:latin typeface="Tahoma"/>
              </a:rPr>
              <a:t>29.07.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ffffff"/>
                </a:solidFill>
                <a:latin typeface="Tahoma"/>
              </a:rPr>
              <a:t>Damir Kos, sudac Vrhovnog suda Republike Hrvatsk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EFBBA-EF90-4E54-9703-AD6263DFB508}" type="slidenum">
              <a:rPr b="0" lang="hr-HR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38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ffffff"/>
                </a:solidFill>
                <a:latin typeface="Tahoma"/>
              </a:rPr>
              <a:t>Damir Kos, sudac Vrhovnog suda Republike Hrvatske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3" name="Rectangle 41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30B1B-B509-4637-B25D-CD3FF2003CDC}" type="slidenum">
              <a:rPr b="0" lang="hr-HR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611280" y="907920"/>
            <a:ext cx="8064360" cy="47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800" spc="-1" strike="noStrike">
                <a:solidFill>
                  <a:srgbClr val="ffff00"/>
                </a:solidFill>
                <a:latin typeface="Arial"/>
              </a:rPr>
              <a:t>IZVOĐENJE DOKAZA NA </a:t>
            </a:r>
            <a:endParaRPr b="0" lang="en-US" sz="48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800" spc="-1" strike="noStrike">
                <a:solidFill>
                  <a:srgbClr val="ffff00"/>
                </a:solidFill>
                <a:latin typeface="Arial"/>
              </a:rPr>
              <a:t>RASPRAVI</a:t>
            </a:r>
            <a:endParaRPr b="0" lang="en-US" sz="48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ff00"/>
                </a:solidFill>
                <a:latin typeface="Arial"/>
              </a:rPr>
              <a:t>Redoslijed izvođenje dokaza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U pravilu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1) dokazi optužbe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2) dokazi obrane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3) dokazi optužbe kojima se pobijaju navodi obrane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4) dokazi obrane kao odgovor na pobijanje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5) dokazi sud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Ovlast suda odlučiti drugačij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Rezervirano mjesto podnožja 3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ffffff"/>
                </a:solidFill>
                <a:latin typeface="Tahoma"/>
              </a:rPr>
              <a:t>Damir Kos, sudac Vrhovnog suda Republike Hrvatske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0" name="Rezervirano mjesto broja slajda 4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B7997-E3EA-43AF-838B-9B36488E88D0}" type="slidenum">
              <a:rPr b="0" lang="hr-HR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ff00"/>
                </a:solidFill>
                <a:latin typeface="Arial"/>
              </a:rPr>
              <a:t>Odlučivanje o dokaznim prijedlozima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484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Prijedlog mora biti obrazložen – što se njime dokazuj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Očitovanje protivne stra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ffffff"/>
                </a:solidFill>
                <a:latin typeface="Tahoma"/>
              </a:rPr>
              <a:t>Radi utvrđenja je li okolnost na koju je dokaz usmjeren sporna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Odluka predsjednika vijeća - suglasni prijedlozi stranaka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Odluka vijeća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ffffff"/>
                </a:solidFill>
                <a:latin typeface="Tahoma"/>
              </a:rPr>
              <a:t>Suglasan prijedlog o kojem nije suglasan predsjednik vijeća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Prijedlozi kod kojih nema suglasnosti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Općepoznate činjenice ne treba utvrđivati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Ne može se predlagati da se utvrđuju činjenice čije postojanje zakon pretpostavlja u korist optuženika, ali se može dokazivati njihovo nepostojanj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Rezervirano mjesto podnožja 4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ffffff"/>
                </a:solidFill>
                <a:latin typeface="Tahoma"/>
              </a:rPr>
              <a:t>Damir Kos, sudac Vrhovnog suda Republike Hrvatske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4" name="Rezervirano mjesto broja slajda 5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BBB52-B414-4568-B139-39E2AB3B27C1}" type="slidenum">
              <a:rPr b="0" lang="hr-HR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ff00"/>
                </a:solidFill>
                <a:latin typeface="Arial"/>
              </a:rPr>
              <a:t>Odbijanje dokaznih prijedloga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Pravo suda odlučiti koje dokazne prijedloge stranaka će prihvatit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Povreda prava na pravično suđenje kada su odbijeni </a:t>
            </a:r>
            <a:r>
              <a:rPr b="0" lang="hr-HR" sz="3200" spc="-1" strike="noStrike" u="sng">
                <a:solidFill>
                  <a:srgbClr val="ffffff"/>
                </a:solidFill>
                <a:uFillTx/>
                <a:latin typeface="Tahoma"/>
              </a:rPr>
              <a:t>svi dokazni prijedlozi </a:t>
            </a: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okrivljenik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Pravo suda izvoditi dokaze po službenoj dužnosti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Rezervirano mjesto podnožja 3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ffffff"/>
                </a:solidFill>
                <a:latin typeface="Tahoma"/>
              </a:rPr>
              <a:t>Damir Kos, sudac Vrhovnog suda Republike Hrvatske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8" name="Rezervirano mjesto broja slajda 4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AE19D-A765-4B18-85BB-7455BD6D7592}" type="slidenum">
              <a:rPr b="0" lang="hr-HR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ff00"/>
                </a:solidFill>
                <a:latin typeface="Arial"/>
              </a:rPr>
              <a:t>Odbijanje dokaznih prijedloga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1) ako je nezakonit ili se odnosi na činjenicu koja se po zakonu ne može dokazivati </a:t>
            </a:r>
            <a:r>
              <a:rPr b="1" lang="hr-HR" sz="2000" spc="-1" strike="noStrike">
                <a:solidFill>
                  <a:srgbClr val="ffffff"/>
                </a:solidFill>
                <a:latin typeface="Tahoma"/>
              </a:rPr>
              <a:t>(nedopušteni prijedlog)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2) ako činjenica koju bi izvođenjem dokaza trebalo utvrditi nije važna za odlučivanje, odnosno ako ne postoji povezanost između činjenice koju stranka želi utvrditi i odlučnih činjenica ili se ta povezanost zbog pravnih razloga ne može ustanoviti </a:t>
            </a:r>
            <a:r>
              <a:rPr b="1" lang="hr-HR" sz="2000" spc="-1" strike="noStrike">
                <a:solidFill>
                  <a:srgbClr val="ffffff"/>
                </a:solidFill>
                <a:latin typeface="Tahoma"/>
              </a:rPr>
              <a:t>(nevažni prijedlog)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3) ako postoje razlozi za sumnju da se s dokazom neka važna činjenica uopće ne bi mogla utvrditi ili bi se to moglo učiniti sa velikim poteškoćama, </a:t>
            </a:r>
            <a:r>
              <a:rPr b="1" lang="hr-HR" sz="2000" spc="-1" strike="noStrike">
                <a:solidFill>
                  <a:srgbClr val="ffffff"/>
                </a:solidFill>
                <a:latin typeface="Tahoma"/>
              </a:rPr>
              <a:t>(neprikladni prijedlog</a:t>
            </a: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)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4) ako je predloženo izvođenje dokaza očigledno usmjereno na znatno odugovlačenje postupka </a:t>
            </a:r>
            <a:r>
              <a:rPr b="1" lang="hr-HR" sz="2000" spc="-1" strike="noStrike">
                <a:solidFill>
                  <a:srgbClr val="ffffff"/>
                </a:solidFill>
                <a:latin typeface="Tahoma"/>
              </a:rPr>
              <a:t>(prijedlog koji odugovlači postupak)</a:t>
            </a: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Rezervirano mjesto podnožja 3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ffffff"/>
                </a:solidFill>
                <a:latin typeface="Tahoma"/>
              </a:rPr>
              <a:t>Damir Kos, sudac Vrhovnog suda Republike Hrvatske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2" name="Rezervirano mjesto broja slajda 4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7E839-C6DC-4982-B374-30ABF3BDAF40}" type="slidenum">
              <a:rPr b="0" lang="hr-HR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ff00"/>
                </a:solidFill>
                <a:latin typeface="Arial"/>
              </a:rPr>
              <a:t>Ispitivanje svjedoka na raspravi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ffffff"/>
                </a:solidFill>
                <a:latin typeface="Tahoma"/>
              </a:rPr>
              <a:t>Nakon utvrđivanja identiteta i odnosa prema okrivljeniku – procesna upozorenja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Tahoma"/>
              </a:rPr>
              <a:t>Posebna upozorenja za tzv. privilegiranog svjedoka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Tahoma"/>
              </a:rPr>
              <a:t>Propust u upozoravanju rezultira nezakonitim dokazom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ffffff"/>
                </a:solidFill>
                <a:latin typeface="Tahoma"/>
              </a:rPr>
              <a:t>Svjedoka se poziva da iznesen ono radi čega je svjedok bio predložen, a dokazni prijedlog prihvaćen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Tahoma"/>
              </a:rPr>
              <a:t>Pitanja u pravilu prva postavlja strana koja ga je predložila, a zatim protivna, a sud može uvije radi razjašnjenja nejasnoća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Rezervirano mjesto podnožja 3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ffffff"/>
                </a:solidFill>
                <a:latin typeface="Tahoma"/>
              </a:rPr>
              <a:t>Damir Kos, sudac Vrhovnog suda Republike Hrvatske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6" name="Rezervirano mjesto broja slajda 4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0470A-834C-45D6-95E0-06A0E4B64516}" type="slidenum">
              <a:rPr b="0" lang="hr-HR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ff00"/>
                </a:solidFill>
                <a:latin typeface="Arial"/>
              </a:rPr>
              <a:t>Ispitivanje svjedoka na raspravi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Ako se žrtva ili oštećenik koji su prisutni trebaju ispitati kao svjedoci, njihovo će se ispitivanje obaviti prije ispitivanja ostalih svjedok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Na traženje svjedoka moguće je okrivljenika udaljiti iz sudnice za vrijeme iskazivanja tog svjedok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Po završetku iskaza okrivljenika se mora upoznati sa sadržajem iskaza svjedoka i omogućiti mu pitanj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Rezervirano mjesto podnožja 3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ffffff"/>
                </a:solidFill>
                <a:latin typeface="Tahoma"/>
              </a:rPr>
              <a:t>Damir Kos, sudac Vrhovnog suda Republike Hrvatske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0" name="Rezervirano mjesto broja slajda 4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19DA3-37A6-4940-8A5B-F639259956CF}" type="slidenum">
              <a:rPr b="0" lang="hr-HR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ff00"/>
                </a:solidFill>
                <a:latin typeface="Arial"/>
              </a:rPr>
              <a:t>Ispitivanje vještaka na raspravi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ffffff"/>
                </a:solidFill>
                <a:latin typeface="Tahoma"/>
              </a:rPr>
              <a:t>Upozorenje vještaku: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Tahoma"/>
              </a:rPr>
              <a:t>da predmet vještačenja brižljivo prouči, da točno navede sve što zapazi i nađe te da svoje mišljenje iznese nepristrano i u skladu s pravilima znanosti i vještine.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Tahoma"/>
              </a:rPr>
              <a:t>posebno upozoriti da je davanje lažnog iskaza kazneno djelo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ffffff"/>
                </a:solidFill>
                <a:latin typeface="Tahoma"/>
              </a:rPr>
              <a:t>Dva različita vještačenja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Tahoma"/>
              </a:rPr>
              <a:t>Obaveza suda ispitati svakog ponaosob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Tahoma"/>
              </a:rPr>
              <a:t>Na istoj raspravi pokušati ih usuglasiti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Tahoma"/>
              </a:rPr>
              <a:t>Ako nema suglasja – slobodna ocjena dokaza, a iz prakse to znači treće vještaćenje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Rezervirano mjesto podnožja 3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ffffff"/>
                </a:solidFill>
                <a:latin typeface="Tahoma"/>
              </a:rPr>
              <a:t>Damir Kos, sudac Vrhovnog suda Republike Hrvatske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4" name="Rezervirano mjesto broja slajda 4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D381E-7221-4416-9675-A30536F25EB3}" type="slidenum">
              <a:rPr b="0" lang="hr-HR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ff00"/>
                </a:solidFill>
                <a:latin typeface="Arial"/>
              </a:rPr>
              <a:t>Ispitivanje svjedoka/vještaka na raspravi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ffffff"/>
                </a:solidFill>
                <a:latin typeface="Tahoma"/>
              </a:rPr>
              <a:t>Način bilježenja u raspravni zapisnik: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U zapisnik se iskaz/nalaz bilježi na način da se iznese bitan sadržaj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 u="sng">
                <a:solidFill>
                  <a:srgbClr val="ffffff"/>
                </a:solidFill>
                <a:uFillTx/>
                <a:latin typeface="Tahoma"/>
              </a:rPr>
              <a:t>Bilježenje samo razlika </a:t>
            </a: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u odnosu na već u spisu postojeći zapisnik sa iskazom svjedoka/nalazom vještaka („iskazuje suglasno kao na zapisniku od …. s time što dodaje ….”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700" spc="-1" strike="noStrike">
                <a:solidFill>
                  <a:srgbClr val="ffffff"/>
                </a:solidFill>
                <a:latin typeface="Tahoma"/>
              </a:rPr>
              <a:t>Ako je svjedok/vještak iskazivao ranije pred sudom (dokazno ročište ili ranija rasprava)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700" spc="-1" strike="noStrike">
                <a:solidFill>
                  <a:srgbClr val="ffffff"/>
                </a:solidFill>
                <a:latin typeface="Tahoma"/>
              </a:rPr>
              <a:t>Ako je svjedok/vještak iskazivao ranije pred državnim odvjetnikom, a o ispitivanju je bila obaviještena obrana (konfrontacijska klauzula)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700" spc="-1" strike="noStrike">
                <a:solidFill>
                  <a:srgbClr val="ffffff"/>
                </a:solidFill>
                <a:latin typeface="Tahoma"/>
              </a:rPr>
              <a:t>Pogrešno 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ffffff"/>
                </a:solidFill>
                <a:latin typeface="Tahoma"/>
              </a:rPr>
              <a:t>utvrđenje</a:t>
            </a:r>
            <a:r>
              <a:rPr b="1" lang="hr-HR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hr-HR" sz="1400" spc="-1" strike="noStrike">
                <a:solidFill>
                  <a:srgbClr val="ffffff"/>
                </a:solidFill>
                <a:latin typeface="Tahoma"/>
              </a:rPr>
              <a:t>– „Ostajem kod ranijeg iskaza i nemam što dodati” !!!!!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ffffff"/>
                </a:solidFill>
                <a:latin typeface="Tahoma"/>
              </a:rPr>
              <a:t>utvrđenje krivnje na raniji iskaz kod državnog odvjetnika koji nije u konfrontacijskoj formi, a koji mu je bio predočavan na raspravi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ffffff"/>
                </a:solidFill>
                <a:latin typeface="Tahoma"/>
              </a:rPr>
              <a:t>Nakon ispitivanja svakog svjedoka ili vještaka i nakon čitanja isprave ili izvođenja drugog dokaza, predsjednik vijeća će upitat stranke i oštećenika imaju li primjedbe na provedeni dokaz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Rezervirano mjesto podnožja 3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ffffff"/>
                </a:solidFill>
                <a:latin typeface="Tahoma"/>
              </a:rPr>
              <a:t>Damir Kos, sudac Vrhovnog suda Republike Hrvatske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8" name="Rezervirano mjesto broja slajda 4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FF185-1254-437D-AA02-B60DD78B424A}" type="slidenum">
              <a:rPr b="0" lang="hr-HR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ff00"/>
                </a:solidFill>
                <a:latin typeface="Arial"/>
              </a:rPr>
              <a:t>Nedopuštena pitanja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Predsjednik vijeća će zabraniti pitanje ili odgovor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na već postavljeno pitanj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ako je ono nedopušteno (sugestivna, kapciozna ili obmanjujuća) ili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pitanje se ne odnosi na predme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O zabrani predsjednika vijeća stranke mogu zahtijevati da o tome odluči vijeć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Rezervirano mjesto podnožja 3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ffffff"/>
                </a:solidFill>
                <a:latin typeface="Tahoma"/>
              </a:rPr>
              <a:t>Damir Kos, sudac Vrhovnog suda Republike Hrvatske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2" name="Rezervirano mjesto broja slajda 4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19D84-C43C-4BF5-9A8E-4260ACC5517A}" type="slidenum">
              <a:rPr b="0" lang="hr-HR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ff00"/>
                </a:solidFill>
                <a:latin typeface="Arial"/>
              </a:rPr>
              <a:t>Čitanje ranije sastavljenih zapisnika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1/ ako se odnose na činjenicu koju stranka nije osporavala, - bez suglasnost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2/ ako su ispitane osobe umrle, duševno oboljele ili se ne mogu pronaći, ili je njihov dolazak pred sud nemoguć ili znatno otežan zbog starosti, bolesti ili drugih važnih uzroka, - bez suglasnost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Rezervirano mjesto podnožja 3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ffffff"/>
                </a:solidFill>
                <a:latin typeface="Tahoma"/>
              </a:rPr>
              <a:t>Damir Kos, sudac Vrhovnog suda Republike Hrvatske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6" name="Rezervirano mjesto broja slajda 4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CEB8C-44CB-49E3-B3E1-E52177D8EC6B}" type="slidenum">
              <a:rPr b="0" lang="hr-HR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ff00"/>
                </a:solidFill>
                <a:latin typeface="Arial"/>
              </a:rPr>
              <a:t>Izvođenje dokaza na raspravi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ffffff"/>
                </a:solidFill>
                <a:latin typeface="Tahoma"/>
              </a:rPr>
              <a:t>Ispitivanje okrivljenika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ffffff"/>
                </a:solidFill>
                <a:latin typeface="Tahoma"/>
              </a:rPr>
              <a:t>Ispitivanje svjedoka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Tahoma"/>
              </a:rPr>
              <a:t>Suočenje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ffffff"/>
                </a:solidFill>
                <a:latin typeface="Tahoma"/>
              </a:rPr>
              <a:t>Ispitivanje vještaka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ffffff"/>
                </a:solidFill>
                <a:latin typeface="Tahoma"/>
              </a:rPr>
              <a:t>Čitanja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Tahoma"/>
              </a:rPr>
              <a:t>zapisnika o ranijim ispitivanjima okrivljenika, svjedoka ili vještaka ili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Tahoma"/>
              </a:rPr>
              <a:t>čitanje pisane dokazne građe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ffffff"/>
                </a:solidFill>
                <a:latin typeface="Tahoma"/>
              </a:rPr>
              <a:t>Pregledavanja (snimaka, skica i sl:)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ffffff"/>
                </a:solidFill>
                <a:latin typeface="Tahoma"/>
              </a:rPr>
              <a:t>Preslušavanja (snimaka)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Rezervirano mjesto podnožja 3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ffffff"/>
                </a:solidFill>
                <a:latin typeface="Tahoma"/>
              </a:rPr>
              <a:t>Damir Kos, sudac Vrhovnog suda Republike Hrvatske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8" name="Rezervirano mjesto broja slajda 4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BAB61-2046-4775-A4BF-2D3A0C208658}" type="slidenum">
              <a:rPr b="0" lang="hr-HR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ff00"/>
                </a:solidFill>
                <a:latin typeface="Arial"/>
              </a:rPr>
              <a:t>Čitanje ranije sastavljenih zapisnika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ffffff"/>
                </a:solidFill>
                <a:latin typeface="Tahoma"/>
              </a:rPr>
              <a:t>3/ ako svjedoci ili vještaci bez zakonskih razloga neće iskazivati na raspravi, - bez suglasnosti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Moguće novčano kažnjavanje svjedoka pa i zatvaranje do 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30 dan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ffffff"/>
                </a:solidFill>
                <a:latin typeface="Tahoma"/>
              </a:rPr>
              <a:t>4/ ako se osoba koja je prethodno upozorena da nije dužna svjedočiti (članak 285. stavak 1. točka 1. do 3.) odrekla tog prava i iskazivala na dokaznom ročištu ili raspravi, a kasnije tijekom postupka je odlučila uskratiti svoj iskaz, - bez suglasnosti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Ovo čitanje je moguće samo u odnosu na zapisnike sastavljene pred sudom (dokazno ročište ili rasprav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Rezervirano mjesto podnožja 3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ffffff"/>
                </a:solidFill>
                <a:latin typeface="Tahoma"/>
              </a:rPr>
              <a:t>Damir Kos, sudac Vrhovnog suda Republike Hrvatske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0" name="Rezervirano mjesto broja slajda 4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29688-B78F-4B7F-A1D8-363006BBCB26}" type="slidenum">
              <a:rPr b="0" lang="hr-HR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ff00"/>
                </a:solidFill>
                <a:latin typeface="Arial"/>
              </a:rPr>
              <a:t>Čitanje ranije sastavljenih zapisnika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ffffff"/>
                </a:solidFill>
                <a:latin typeface="Tahoma"/>
              </a:rPr>
              <a:t>5/ ako je svjedok ili vještak ispitan prema članku 402. stavku 2. ovog Zakona, (tzv. izvanraspravno ispitivanje uz suglasnost optužbe i obrane) – bez suglasnosti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ffffff"/>
                </a:solidFill>
                <a:latin typeface="Tahoma"/>
              </a:rPr>
              <a:t>6/ ako su stranke suglasne da se umjesto neposrednog ispitivanja svjedoka, odnosno vještaka koji nije prisutan, bez obzira je li bio pozvan ili ne, pročita zapisnik o njegovu prijašnjem ispitivanju,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ffffff"/>
                </a:solidFill>
                <a:latin typeface="Tahoma"/>
              </a:rPr>
              <a:t>7/ ako je svjedok ili vještak ispitan na raspravi pred istim predsjednikom vijeća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Pa i u situacijama kada se rasprava vodi nakon ukidanja ranije presud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Rezervirano mjesto podnožja 3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ffffff"/>
                </a:solidFill>
                <a:latin typeface="Tahoma"/>
              </a:rPr>
              <a:t>Damir Kos, sudac Vrhovnog suda Republike Hrvatske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4" name="Rezervirano mjesto broja slajda 4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16C44-B63B-47BC-93B9-A47C7F19DA81}" type="slidenum">
              <a:rPr b="0" lang="hr-HR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ff00"/>
                </a:solidFill>
                <a:latin typeface="Arial"/>
              </a:rPr>
              <a:t>Čitanje pisane dokazne građ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ffffff"/>
                </a:solidFill>
                <a:latin typeface="Tahoma"/>
              </a:rPr>
              <a:t>Dokaz ispravom izvodi se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Tahoma"/>
              </a:rPr>
              <a:t>njezinim čitanjem ili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Tahoma"/>
              </a:rPr>
              <a:t>pregledavanjem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ffffff"/>
                </a:solidFill>
                <a:latin typeface="Tahoma"/>
              </a:rPr>
              <a:t>O pregledavanju govorimo kada se radi o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Tahoma"/>
              </a:rPr>
              <a:t>fotodokumentaciji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Tahoma"/>
              </a:rPr>
              <a:t>skicama ili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Tahoma"/>
              </a:rPr>
              <a:t>izuzetno opsežnoj pisanoj dokaznoj građi (računi, fakture i sl)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ffffff"/>
                </a:solidFill>
                <a:latin typeface="Tahoma"/>
              </a:rPr>
              <a:t>Pregledavanje na način da je dokument u isto vrijeme vidljiv svima (projekcija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ffffff"/>
                </a:solidFill>
                <a:latin typeface="Tahoma"/>
              </a:rPr>
              <a:t>I tada čitanje dijelova koje stranke posebno zahtijevaju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Rezervirano mjesto podnožja 3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ffffff"/>
                </a:solidFill>
                <a:latin typeface="Tahoma"/>
              </a:rPr>
              <a:t>Damir Kos, sudac Vrhovnog suda Republike Hrvatske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8" name="Rezervirano mjesto broja slajda 4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93E6F-864E-4392-82A3-8EDF7439839D}" type="slidenum">
              <a:rPr b="0" lang="hr-HR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ff00"/>
                </a:solidFill>
                <a:latin typeface="Arial"/>
              </a:rPr>
              <a:t>Izvođenje snimljenih dokaza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Video zapis se pregledava na rasprav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Audio zapis se preslušava na rasprav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Korištenje transkripta kao tehničkog pomagala (da svi čuju isto, a sporno da se posebno provjeri – što se posebno zapisnički konstatir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Transkript audiozapisa nije dokaz već samo pomoćno, tehničko sredstv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Rezervirano mjesto podnožja 3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ffffff"/>
                </a:solidFill>
                <a:latin typeface="Tahoma"/>
              </a:rPr>
              <a:t>Damir Kos, sudac Vrhovnog suda Republike Hrvatske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2" name="Rezervirano mjesto broja slajda 4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BAC77-9446-4757-8D15-F2C76EBA97BA}" type="slidenum">
              <a:rPr b="0" lang="hr-HR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zervirano mjesto podnožja 4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ffffff"/>
                </a:solidFill>
                <a:latin typeface="Tahoma"/>
              </a:rPr>
              <a:t>Damir Kos, sudac Vrhovnog suda Republike Hrvatske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4" name="Rezervirano mjesto broja slajda 5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4F432-62C8-4C55-A680-0CE5765BB6DB}" type="slidenum">
              <a:rPr b="0" lang="hr-HR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55640" y="980640"/>
            <a:ext cx="763920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5400" spc="-1" strike="noStrike">
                <a:solidFill>
                  <a:srgbClr val="ffff00"/>
                </a:solidFill>
                <a:latin typeface="Tahoma"/>
              </a:rPr>
              <a:t>Zahvaljujem na pozornosti</a:t>
            </a:r>
            <a:r>
              <a:rPr b="0" lang="hr-HR" sz="44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246" name="Picture 3" descr="bat"/>
          <p:cNvPicPr/>
          <p:nvPr/>
        </p:nvPicPr>
        <p:blipFill>
          <a:blip r:embed="rId1"/>
          <a:stretch/>
        </p:blipFill>
        <p:spPr>
          <a:xfrm>
            <a:off x="684360" y="4437000"/>
            <a:ext cx="1361880" cy="204300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2560"/>
                            </p:stCondLst>
                            <p:childTnLst>
                              <p:par>
                                <p:cTn id="7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ff00"/>
                </a:solidFill>
                <a:latin typeface="Arial"/>
              </a:rPr>
              <a:t>Zapisnik o raspravi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ffffff"/>
                </a:solidFill>
                <a:latin typeface="Tahoma"/>
              </a:rPr>
              <a:t>Uvod zapisnika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Rasprava sa koje je isključena javnost mora sadržavati upozorenje prisutnima na čuvanje taj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ffffff"/>
                </a:solidFill>
                <a:latin typeface="Tahoma"/>
              </a:rPr>
              <a:t>Iskazi optuženika, svjedoka i vještaka unose se u zapisnik tako da se prikaže njihov bitni sadržaj.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ffffff"/>
                </a:solidFill>
                <a:latin typeface="Tahoma"/>
              </a:rPr>
              <a:t>Ako je optuženik ranije ispitan, moguće utvrđenje da iskazuje suglasno utvrđenjima sa ranijeg zapisnika s unošenjem odstupanja ili dopune takvog njegovog ranijeg iskaza. (čl. 411. st. 3. ZKP)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Što kada je raniji iskaz na snimci sačinjenoj kod državnog odvjetnik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Rezervirano mjesto podnožja 3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ffffff"/>
                </a:solidFill>
                <a:latin typeface="Tahoma"/>
              </a:rPr>
              <a:t>Damir Kos, sudac Vrhovnog suda Republike Hrvatske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2" name="Rezervirano mjesto broja slajda 4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5DFDB-BFFD-4609-A6C7-DDBCC9D61B94}" type="slidenum">
              <a:rPr b="0" lang="hr-HR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ff00"/>
                </a:solidFill>
                <a:latin typeface="Arial"/>
              </a:rPr>
              <a:t>Zapisnik o raspravi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ffffff"/>
                </a:solidFill>
                <a:latin typeface="Tahoma"/>
              </a:rPr>
              <a:t>U pravili iskaz svjedoka ili vještaka bilježi se na način da se prikaže njegov bitni sadržaj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Iznimno, ako je svjedok ili vještak ranije ispitan pred sudom (rasprava ili dokazno ročište) ili državnim odvjetnikom (konfrontacijska forma), u zapisnik se unosi utvrđenje o suglasnom iskazivanju uz upisivanje odstupanja ili dopune takvog njegovog ranijeg iskaza i vještačenja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Taj raniji iskaz ili dio iskaza može se pročita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ffffff"/>
                </a:solidFill>
                <a:latin typeface="Tahoma"/>
              </a:rPr>
              <a:t>Ako je rasprava snimana, u</a:t>
            </a: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 zapisnik o raspravi ne unosi se sadržaj iskaza optuženika, svjedoka i vještaka te izjave i obrazloženja prijedloga stranaka koji su snimljen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Rezervirano mjesto podnožja 3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ffffff"/>
                </a:solidFill>
                <a:latin typeface="Tahoma"/>
              </a:rPr>
              <a:t>Damir Kos, sudac Vrhovnog suda Republike Hrvatske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6" name="Rezervirano mjesto broja slajda 4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7667B-7CDC-4594-B4FF-2BCC4C25897B}" type="slidenum">
              <a:rPr b="0" lang="hr-HR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ff00"/>
                </a:solidFill>
                <a:latin typeface="Arial"/>
              </a:rPr>
              <a:t>Zapisnik o raspravi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Na iskazu koji nije iznesen i zabilježen u konfrontacijskoj formi (pred sudom ili državnim odvjetnikom uz obavijest obrane) sud ne može zasnovati osuđujuću presudu, </a:t>
            </a:r>
            <a:r>
              <a:rPr b="0" lang="hr-HR" sz="3200" spc="-1" strike="noStrike" u="sng">
                <a:solidFill>
                  <a:srgbClr val="ffffff"/>
                </a:solidFill>
                <a:uFillTx/>
                <a:latin typeface="Tahoma"/>
              </a:rPr>
              <a:t>ako bi se ona temeljila isključivo ili u odlučujućoj mjerna tom iskazu</a:t>
            </a: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(čl. 411. st. 4. ZKP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Rezervirano mjesto podnožja 3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ffffff"/>
                </a:solidFill>
                <a:latin typeface="Tahoma"/>
              </a:rPr>
              <a:t>Damir Kos, sudac Vrhovnog suda Republike Hrvatske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0" name="Rezervirano mjesto broja slajda 4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35A06-FD52-4BC2-AB06-0A9DE2EA8A30}" type="slidenum">
              <a:rPr b="0" lang="hr-HR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ff00"/>
                </a:solidFill>
                <a:latin typeface="Arial"/>
              </a:rPr>
              <a:t>Ispitivanje okrivljenika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41264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Okrivljenik koji se </a:t>
            </a:r>
            <a:r>
              <a:rPr b="0" lang="hr-HR" sz="2000" spc="-1" strike="noStrike" u="sng">
                <a:solidFill>
                  <a:srgbClr val="ffffff"/>
                </a:solidFill>
                <a:uFillTx/>
                <a:latin typeface="Tahoma"/>
              </a:rPr>
              <a:t>očitovao krivim u odnosu na sve točke optužb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Ispituje se odmah nakon očitovanja o krivnji (čl. 417.a st. 1. ZKP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Za kaznena djela do 5. godina, a okrivljenik se očitovao krivim, na kraju obrane upitati je li suglasan sa predloženom vrstom i mjerom kazn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Prihvaćanje predložene kazne ne može rezultirati strožom osudom od one kako ju je predložio tužitelj i prihvatio okrivljenik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ffffff"/>
                </a:solidFill>
                <a:latin typeface="Tahoma"/>
              </a:rPr>
              <a:t>Može manje ili oslobađanje od optužbe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Okrivljenik </a:t>
            </a:r>
            <a:r>
              <a:rPr b="0" lang="hr-HR" sz="2000" spc="-1" strike="noStrike" u="sng">
                <a:solidFill>
                  <a:srgbClr val="ffffff"/>
                </a:solidFill>
                <a:uFillTx/>
                <a:latin typeface="Tahoma"/>
              </a:rPr>
              <a:t>koji nije priznao krivnju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Ispituje se na kraju dokaznog postupk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Iznimno ranije ako to sam traž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Ako sudjeluje u provođenju pojedinih dokaznih radnji tijekom rasprave, može, ali nakon posebnog upozorenja („…. da će se sve što kaže prilikom izvođenja dokaza smatrati njegovom obranom…”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ffffff"/>
                </a:solidFill>
                <a:latin typeface="Tahoma"/>
              </a:rPr>
              <a:t>Upozorenje i odgovor mora biti uneseno u zapisnik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Rezervirano mjesto podnožja 3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ffffff"/>
                </a:solidFill>
                <a:latin typeface="Tahoma"/>
              </a:rPr>
              <a:t>Damir Kos, sudac Vrhovnog suda Republike Hrvatske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4" name="Rezervirano mjesto broja slajda 4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3C4A5-A1E7-4F80-918C-E96B0952D702}" type="slidenum">
              <a:rPr b="0" lang="hr-HR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ff00"/>
                </a:solidFill>
                <a:latin typeface="Arial"/>
              </a:rPr>
              <a:t>Ispitivanje okrivljenika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412640"/>
            <a:ext cx="8229600" cy="47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24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ffffff"/>
                </a:solidFill>
                <a:latin typeface="Tahoma"/>
              </a:rPr>
              <a:t>Redoslijed iznošenja obrane: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ffffff"/>
                </a:solidFill>
                <a:latin typeface="Tahoma"/>
              </a:rPr>
              <a:t>Slobodno kazivanje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ffffff"/>
                </a:solidFill>
                <a:latin typeface="Tahoma"/>
              </a:rPr>
              <a:t>Pitanja branitelja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ffffff"/>
                </a:solidFill>
                <a:latin typeface="Tahoma"/>
              </a:rPr>
              <a:t>Pitanja tužitelja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ffffff"/>
                </a:solidFill>
                <a:latin typeface="Tahoma"/>
              </a:rPr>
              <a:t>Oštećenik, njegov zakonski zastupnik ili opunomoćenik, suoptuženici i vještaci - neposredno ali uz odobrenje predsjednika vijeća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ffffff"/>
                </a:solidFill>
                <a:latin typeface="Tahoma"/>
              </a:rPr>
              <a:t>Pitanja suda uvijek, ali radi razjašnjenja stvari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24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ffffff"/>
                </a:solidFill>
                <a:latin typeface="Tahoma"/>
              </a:rPr>
              <a:t>Unošenje iskaza okrivljenika u zapisnik unošenjem bitnog sadržaja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ffffff"/>
                </a:solidFill>
                <a:latin typeface="Tahoma"/>
              </a:rPr>
              <a:t>Iznimke: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2" marL="1085760" indent="-217080">
              <a:lnSpc>
                <a:spcPct val="80000"/>
              </a:lnSpc>
              <a:spcBef>
                <a:spcPts val="476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ffffff"/>
                </a:solidFill>
                <a:latin typeface="Tahoma"/>
              </a:rPr>
              <a:t>Kada je radnja ispitivanja na raspravi snimana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24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ffffff"/>
                </a:solidFill>
                <a:latin typeface="Tahoma"/>
              </a:rPr>
              <a:t>U slučaju odstupanja od ranijeg iskaza – predočavanje ili reproduciranje snimke u dijelu iskaza koji je različit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Rezervirano mjesto podnožja 3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ffffff"/>
                </a:solidFill>
                <a:latin typeface="Tahoma"/>
              </a:rPr>
              <a:t>Damir Kos, sudac Vrhovnog suda Republike Hrvatske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8" name="Rezervirano mjesto broja slajda 4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297D0-6B24-4515-B81C-F881F777DA4E}" type="slidenum">
              <a:rPr b="0" lang="hr-HR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ff00"/>
                </a:solidFill>
                <a:latin typeface="Arial"/>
              </a:rPr>
              <a:t>Ispitivanje okrivljenika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412640"/>
            <a:ext cx="8229600" cy="47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Optuženik se može u tijeku rasprave dogovarati sa svojim braniteljem, ali ne o tome kako će odgovarati na postavljeno pitanj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Branitelj ima pravo reći okrivljeniku da ne odgovori na pojedino pitanj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Ako ima više optuženika, nakon obrane jednog pristupa se ispitivanju ostalih optuženik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Rezervirano mjesto podnožja 3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ffffff"/>
                </a:solidFill>
                <a:latin typeface="Tahoma"/>
              </a:rPr>
              <a:t>Damir Kos, sudac Vrhovnog suda Republike Hrvatske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2" name="Rezervirano mjesto broja slajda 4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B6ABD-7C28-4F55-B84B-B5FBF88E4D7E}" type="slidenum">
              <a:rPr b="0" lang="hr-HR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ff00"/>
                </a:solidFill>
                <a:latin typeface="Arial"/>
              </a:rPr>
              <a:t>Ispitivanje okrivljenika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412640"/>
            <a:ext cx="8229600" cy="47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ffffff"/>
                </a:solidFill>
                <a:latin typeface="Tahoma"/>
              </a:rPr>
              <a:t>Svaki optuženik ima pravo postavljati pitanja ostalim suoptuženicima te iznositi primjedbe na njihove iskaze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Tahoma"/>
              </a:rPr>
              <a:t>Presuda se ne može temeljiti isključivo ili u pretežitoj mjeri na iskazu optuženika kojega suoptuženik terećen tom obranom nije mogao ispitati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ffffff"/>
                </a:solidFill>
                <a:latin typeface="Tahoma"/>
              </a:rPr>
              <a:t>Ako se iskazi pojedinih suoptuženika o istoj okolnosti razlikuju, predsjednik vijeća može suočiti suoptuženike (na raspravi ne treba snimati)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Rezervirano mjesto podnožja 3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ffffff"/>
                </a:solidFill>
                <a:latin typeface="Tahoma"/>
              </a:rPr>
              <a:t>Damir Kos, sudac Vrhovnog suda Republike Hrvatske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6" name="Rezervirano mjesto broja slajda 4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AF26A-1427-4A02-9F1B-14045DC95C3D}" type="slidenum">
              <a:rPr b="0" lang="hr-HR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7T12:44:34Z</dcterms:created>
  <dc:creator>Damir Kos</dc:creator>
  <dc:description/>
  <dc:language>en-US</dc:language>
  <cp:lastModifiedBy>Kos, Damir</cp:lastModifiedBy>
  <cp:lastPrinted>2018-04-27T08:38:48Z</cp:lastPrinted>
  <dcterms:modified xsi:type="dcterms:W3CDTF">2018-05-21T09:46:51Z</dcterms:modified>
  <cp:revision>130</cp:revision>
  <dc:subject/>
  <dc:title>RETROAKTIVNO DJELOVANJE ZAKONA</dc:title>
</cp:coreProperties>
</file>