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2"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453" name="PlaceHolder 2"/>
          <p:cNvSpPr>
            <a:spLocks noGrp="1"/>
          </p:cNvSpPr>
          <p:nvPr>
            <p:ph type="dt" idx="34"/>
          </p:nvPr>
        </p:nvSpPr>
        <p:spPr>
          <a:xfrm>
            <a:off x="3884400" y="0"/>
            <a:ext cx="29718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3F27-1E24-401D-AD42-914DC0BD722E}" type="datetime">
              <a:rPr b="0" lang="hr-HR" sz="1200" spc="-1" strike="noStrike">
                <a:solidFill>
                  <a:srgbClr val="000000"/>
                </a:solidFill>
                <a:latin typeface="Arial"/>
              </a:rPr>
              <a:t>29.07.26</a:t>
            </a:fld>
            <a:endParaRPr b="0" lang="en-US" sz="1200" spc="-1" strike="noStrike">
              <a:solidFill>
                <a:srgbClr val="000000"/>
              </a:solidFill>
              <a:latin typeface="Times New Roman"/>
            </a:endParaRPr>
          </a:p>
        </p:txBody>
      </p:sp>
      <p:sp>
        <p:nvSpPr>
          <p:cNvPr id="454"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move the slide</a:t>
            </a:r>
            <a:endParaRPr b="1" lang="en-US" sz="3600" spc="-1" strike="noStrike">
              <a:solidFill>
                <a:srgbClr val="ff0066"/>
              </a:solidFill>
              <a:latin typeface="Arial"/>
            </a:endParaRPr>
          </a:p>
        </p:txBody>
      </p:sp>
      <p:sp>
        <p:nvSpPr>
          <p:cNvPr id="455" name="PlaceHolder 4"/>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6" name="PlaceHolder 5"/>
          <p:cNvSpPr>
            <a:spLocks noGrp="1"/>
          </p:cNvSpPr>
          <p:nvPr>
            <p:ph type="ftr" idx="35"/>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457" name="PlaceHolder 6"/>
          <p:cNvSpPr>
            <a:spLocks noGrp="1"/>
          </p:cNvSpPr>
          <p:nvPr>
            <p:ph type="sldNum" idx="36"/>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1943-6111-4E90-B8E4-3914B552A4F5}"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947880" y="744480"/>
            <a:ext cx="4964040" cy="3722760"/>
          </a:xfrm>
          <a:prstGeom prst="rect">
            <a:avLst/>
          </a:prstGeom>
          <a:ln w="0">
            <a:noFill/>
          </a:ln>
        </p:spPr>
      </p:sp>
      <p:sp>
        <p:nvSpPr>
          <p:cNvPr id="829" name="PlaceHolder 2"/>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očeta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98BA1-44CB-4A24-A84E-50B436A4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7A801-0860-4C58-8B44-61795FF3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38"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9"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AF043B-4F35-4A58-AD48-77DF21238B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F55FD9-6E22-4190-862D-289E6CD517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BB10C8-C7F1-4743-B0FB-F6868A60B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43"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4"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5"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32900-BF5F-4C10-8952-E44AAE440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47"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8"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9"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7A984-2966-4AD9-B217-4BC2A107D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1"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2"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3"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44578C-7764-454D-ABD3-321F0819E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5"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6"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2D2297-3BBF-482F-9969-6B2E55F59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8"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9"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0"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1"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734435-3BB3-408E-8A48-2CA70B8DE7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63"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4"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5"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6"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7"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8"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863058-B0F4-4061-938B-5D5821935F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CD8865-3C99-4CF8-891A-D5632DCA11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4F433-7547-4B16-8773-F47521326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75"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4E2FDA-7D66-44DB-B0E5-ECED5B7D4A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77"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299584-8A70-4E92-B979-286BF38777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79"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0"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5EBBE0-5EA9-484C-AB32-26E411CFDA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F89602-EF09-4509-B783-60B04AE9CE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916A5F-802A-4242-9B60-FF33672373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84"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5"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6"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362599-2B96-4F81-8CC1-C31DD7EDB4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88"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9"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0"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FC893E-9969-4629-960D-4FAD47382B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92"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3"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4"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716F28-33B3-40E6-A27C-03631CAEED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96"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7"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77C055-B6E5-4FFD-A408-CC845FC723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99"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0"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1"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2"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A278FF-2EEB-44BF-BA62-A2A2D84FA0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CA589-F7E3-4161-9C45-A7CE2EC0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04"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5"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6"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7"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8"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9"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6B8936-A52B-456B-9366-2E4DE67E49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8E8000-5521-41B5-8295-21D1374388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16"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48480-08CF-4B33-9DC2-DF3A96FA5E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18"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AAC432-29A0-4C93-9396-FB94F659D6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20"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1"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D0E6BD-2697-4EE8-9E4F-959FD97F9B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D3FFC6-330A-4412-BB9A-9F6BBBC647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7EC1A3-161A-4CC9-8E2F-21A3A81C17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25"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6"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27"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17C777-1BF6-4CD1-9D95-C22F4F513E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29"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0"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1"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1F6C8E-7CC0-499A-81AB-29F1C6C051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33"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4"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5"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54A74-98E3-4153-BD05-4C82C59D72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18DD7-F35A-44C5-8E7F-D191D210A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37"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38"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3638C4-DAB1-446D-83E0-3170988135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40"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2"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3"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28A8F4-0A55-4439-84E9-4E9AF50991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45"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6"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7"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8"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49"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50"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F5F71A-FE12-42A6-8199-97E8A94F88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7"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D272B-97BC-4B91-B978-B5C20F906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49"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46F6-85C4-4F5D-83FF-B968C7539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51"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78AF9-E858-4088-85C0-43C752609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599B1-A6AF-41C2-A7B7-A313872B3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858BB-383D-4677-B029-9CA0B9534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56"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939D-AFEC-4E96-8B55-299342888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7A986-610A-4F28-B1AD-33D00541C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0"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6F471-A819-4FF5-A998-570F32A50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4"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B5F3-A4D7-4BEC-8FD1-7200AD436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8"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2FABA-89C9-4086-B8E3-5D064285F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71"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26158-F739-4FCF-A2D8-EBB5AF37C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76"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B9F79-ABD4-4D39-B808-9115B5D1A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404C2A-133E-4286-8199-40B4CC4E3E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8"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4A3FB-7917-46FA-BE38-6760118E55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90"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841191-5761-40CB-BF20-431BE2CB6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92"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3"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022E8-4F91-4415-BD95-F342EB54C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B450F0-51D7-4C04-87D6-883D18631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86448-3CA0-42C0-99C1-B911EE590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4E9E5-075A-4012-A570-66E14C72BD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97"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8"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9"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FE296-9662-46BD-B82F-682EA74C2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1"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2"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3"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020B8-A5CD-4F12-A8B6-17F60CB80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5"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6"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7"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D34BD-3DA5-4671-89B7-0DE52BA94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9"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0"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45AE4-69E8-4CA5-9455-640BB7082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12"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3"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4"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5"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92F0FE-6826-4641-8D67-34006D322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17"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8"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9"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0"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1"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2"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99F7F-C763-40CB-84E3-BF8C25A129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A3E99-FFDE-4242-91E0-C752BF4F53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29"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C3650-78F3-4747-A07D-3F0F56E14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31"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CCC61-24D5-4885-B589-51BA88C53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FC32C-92AE-42E3-BA9E-A1929649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33"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34"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A11D5-F0CB-422C-B9E6-53D585FED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8A497-70F2-4648-A34C-76C37F1D9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5D1D01-0B8F-490D-A4B1-36E7FA31E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38"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39"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0"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F6DE8-C200-477E-8E24-940598B93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42"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3"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4"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5893C-8995-4E4A-BA13-1E71323F8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46"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7"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48"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194E0-9719-43AB-9772-A8A414F9B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0"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1"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24C9F-5883-4A5D-86F7-31A5E0DC8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3"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4"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5"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6"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4C3CE2-DC64-4A16-9C34-BCCE1D53AA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8"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9"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0"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1"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2"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3"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C1F656-EAD9-445C-85B6-504D22887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C3143-133F-458B-BAE0-2645C47AAC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55FE-6F91-468A-A2B3-83B52CE5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70"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88466-F55C-4CA3-A8B8-5F2FFF343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72"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DEA62-9137-449D-A0CF-F4CD6E346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74"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5"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A043B-447A-4A40-B85B-6F7F1B175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14EEC-46A7-4EAC-998D-D3F085385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A41ED8-2AAB-4C3A-BFD9-FC5ABD965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79"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0"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1"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847D6A-ECDF-4E45-878A-5DFC1D167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83"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4"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5"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D466A-E6B4-48C5-ADAC-6BBF6C110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87"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8"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9"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9C32D-7D41-4752-82C7-0D7FDE519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1"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2"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9DBAE-1B12-4C11-BB23-0A63E1B4D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4"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5"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6"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7"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F4D30E-E3F9-4489-8F8B-E2AFE4444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2BC9-4AEA-4AEB-A323-76A1AD93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9"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0"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1"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2"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3"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4"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07B633-9B3B-4992-99FC-C678D3765E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A8A111-C202-45F9-9023-4447F29CC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11"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B7427B-21AF-4798-B440-F32362E28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13"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87818-F897-4B5B-B53A-293096A34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15"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6"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EB295-004D-4F3E-B2CC-FC22721D1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864643-4B6B-48A5-8D61-A941DB720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DFF59-619D-438B-A107-984269D39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20"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1"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2"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F1873-E8DF-4019-AABC-E721C193D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24"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5"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6"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E6C0D-B399-4962-B35D-22B168756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28"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9"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0"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CC12A-4F3B-486B-B472-CBD5DA1B4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6BC8-4B54-4878-96ED-48D157F2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2"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3"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514B3-C416-44B8-977A-CD4E66F261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5"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6"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7"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8"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68ED2E-366D-4894-BE0F-AC817C2EF8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40"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1"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2"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3"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4"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5"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7A539E-290B-4A7B-A06F-3D547BDAC2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8052B3-EBA4-4DF7-A9A9-5792F16695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52"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F9C48-CC1B-406C-891D-A80AA649C7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54"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5CE04-8B44-490C-9B1D-6691A52D4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56"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7"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CE59F-6388-4A85-99A3-088B6D36D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A683C-322C-4DB5-834A-48DD923B3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7B169-D7F2-4D36-993E-5B6EA2175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61"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2"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3"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D0D21-C51E-4882-83B1-B5553698E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D9C3-1380-4FA9-B98B-FA1F719A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65"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6"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7"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836CF-DAC6-4723-92F2-AB29B9B1F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69"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0"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1"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7E198-660F-43EF-8869-81B4F3777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3"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4"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526BB-0529-4506-B0B1-E19FC3E9D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6"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7"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8"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9"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71F67C-F0E1-4A48-81F6-0B56F6A152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81"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2"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3"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4"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5"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6"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5FA3B-5D51-4066-8AE8-0F7C80E5C0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B2AD28-C7C0-4728-A203-D17DDA5266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93"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F7516-557E-4334-BCF0-24CFB1DFFF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95"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738F1-83F2-4036-BC74-137555E70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97"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8"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113E3-B842-4ADA-AAF0-0A3DCFCCF9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52599D-530A-414B-9A20-631E77565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8478-28E5-452B-971D-C5D55F02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400" y="820440"/>
            <a:ext cx="7772400" cy="343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A39E3-EC85-4D0D-BE18-279DE0969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2"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3" name="PlaceHolder 3"/>
          <p:cNvSpPr>
            <a:spLocks noGrp="1"/>
          </p:cNvSpPr>
          <p:nvPr>
            <p:ph/>
          </p:nvPr>
        </p:nvSpPr>
        <p:spPr>
          <a:xfrm>
            <a:off x="467424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4"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11E61-1AA3-44B2-A82D-614A86D68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6" name="PlaceHolder 2"/>
          <p:cNvSpPr>
            <a:spLocks noGrp="1"/>
          </p:cNvSpPr>
          <p:nvPr>
            <p:ph/>
          </p:nvPr>
        </p:nvSpPr>
        <p:spPr>
          <a:xfrm>
            <a:off x="457200" y="1879200"/>
            <a:ext cx="40158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7"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8" name="PlaceHolder 4"/>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5882F-9B82-47FD-9A97-C7746A295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10"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1"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2" name="PlaceHolder 4"/>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DBC4B-7AB5-4D05-AACF-FC1B56492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14" name="PlaceHolder 2"/>
          <p:cNvSpPr>
            <a:spLocks noGrp="1"/>
          </p:cNvSpPr>
          <p:nvPr>
            <p:ph/>
          </p:nvPr>
        </p:nvSpPr>
        <p:spPr>
          <a:xfrm>
            <a:off x="457200" y="187920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5" name="PlaceHolder 3"/>
          <p:cNvSpPr>
            <a:spLocks noGrp="1"/>
          </p:cNvSpPr>
          <p:nvPr>
            <p:ph/>
          </p:nvPr>
        </p:nvSpPr>
        <p:spPr>
          <a:xfrm>
            <a:off x="457200" y="3929040"/>
            <a:ext cx="822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7EB11A-0F15-4700-801B-DD5150B5E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17" name="PlaceHolder 2"/>
          <p:cNvSpPr>
            <a:spLocks noGrp="1"/>
          </p:cNvSpPr>
          <p:nvPr>
            <p:ph/>
          </p:nvPr>
        </p:nvSpPr>
        <p:spPr>
          <a:xfrm>
            <a:off x="45720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8" name="PlaceHolder 3"/>
          <p:cNvSpPr>
            <a:spLocks noGrp="1"/>
          </p:cNvSpPr>
          <p:nvPr>
            <p:ph/>
          </p:nvPr>
        </p:nvSpPr>
        <p:spPr>
          <a:xfrm>
            <a:off x="4674240" y="187920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9" name="PlaceHolder 4"/>
          <p:cNvSpPr>
            <a:spLocks noGrp="1"/>
          </p:cNvSpPr>
          <p:nvPr>
            <p:ph/>
          </p:nvPr>
        </p:nvSpPr>
        <p:spPr>
          <a:xfrm>
            <a:off x="45720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0" name="PlaceHolder 5"/>
          <p:cNvSpPr>
            <a:spLocks noGrp="1"/>
          </p:cNvSpPr>
          <p:nvPr>
            <p:ph/>
          </p:nvPr>
        </p:nvSpPr>
        <p:spPr>
          <a:xfrm>
            <a:off x="4674240" y="3929040"/>
            <a:ext cx="40158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815EB6-1F36-4FC9-8C09-0216A8C891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22" name="PlaceHolder 2"/>
          <p:cNvSpPr>
            <a:spLocks noGrp="1"/>
          </p:cNvSpPr>
          <p:nvPr>
            <p:ph/>
          </p:nvPr>
        </p:nvSpPr>
        <p:spPr>
          <a:xfrm>
            <a:off x="45720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3" name="PlaceHolder 3"/>
          <p:cNvSpPr>
            <a:spLocks noGrp="1"/>
          </p:cNvSpPr>
          <p:nvPr>
            <p:ph/>
          </p:nvPr>
        </p:nvSpPr>
        <p:spPr>
          <a:xfrm>
            <a:off x="323964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4" name="PlaceHolder 4"/>
          <p:cNvSpPr>
            <a:spLocks noGrp="1"/>
          </p:cNvSpPr>
          <p:nvPr>
            <p:ph/>
          </p:nvPr>
        </p:nvSpPr>
        <p:spPr>
          <a:xfrm>
            <a:off x="6022080" y="187920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5" name="PlaceHolder 5"/>
          <p:cNvSpPr>
            <a:spLocks noGrp="1"/>
          </p:cNvSpPr>
          <p:nvPr>
            <p:ph/>
          </p:nvPr>
        </p:nvSpPr>
        <p:spPr>
          <a:xfrm>
            <a:off x="45720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6" name="PlaceHolder 6"/>
          <p:cNvSpPr>
            <a:spLocks noGrp="1"/>
          </p:cNvSpPr>
          <p:nvPr>
            <p:ph/>
          </p:nvPr>
        </p:nvSpPr>
        <p:spPr>
          <a:xfrm>
            <a:off x="323964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7" name="PlaceHolder 7"/>
          <p:cNvSpPr>
            <a:spLocks noGrp="1"/>
          </p:cNvSpPr>
          <p:nvPr>
            <p:ph/>
          </p:nvPr>
        </p:nvSpPr>
        <p:spPr>
          <a:xfrm>
            <a:off x="6022080" y="3929040"/>
            <a:ext cx="2649600" cy="187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968289-D29E-45B9-82E0-73E973141A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A5A854-E7E0-41EF-B772-05D41F2DC9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34" name="PlaceHolder 2"/>
          <p:cNvSpPr>
            <a:spLocks noGrp="1"/>
          </p:cNvSpPr>
          <p:nvPr>
            <p:ph type="subTitle"/>
          </p:nvPr>
        </p:nvSpPr>
        <p:spPr>
          <a:xfrm>
            <a:off x="457200" y="1879200"/>
            <a:ext cx="8229600" cy="39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BC00E-228B-4701-87AE-ACF76E5010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36" name="PlaceHolder 2"/>
          <p:cNvSpPr>
            <a:spLocks noGrp="1"/>
          </p:cNvSpPr>
          <p:nvPr>
            <p:ph/>
          </p:nvPr>
        </p:nvSpPr>
        <p:spPr>
          <a:xfrm>
            <a:off x="457200" y="1879200"/>
            <a:ext cx="8229600" cy="39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03EB8-8AFD-42BA-9F0C-37C2BD9CB2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315B-01C7-4CCA-991B-6E1FF2BD6D98}"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ABE2-F3E6-44EA-A85B-11092CC89989}"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370"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371" name="PlaceHolder 3"/>
          <p:cNvSpPr>
            <a:spLocks noGrp="1"/>
          </p:cNvSpPr>
          <p:nvPr>
            <p:ph type="dt" idx="28"/>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C7ED-C2D6-4880-B86C-DF1F4C516143}"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11C6-4502-403F-89E0-84E40F152025}"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411"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12" name="PlaceHolder 3"/>
          <p:cNvSpPr>
            <a:spLocks noGrp="1"/>
          </p:cNvSpPr>
          <p:nvPr>
            <p:ph type="dt" idx="31"/>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E9D9-3673-4694-87D8-C11500DEE864}"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1F95-FCD3-4F72-8FCA-F587134C12DC}"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42"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3" name="PlaceHolder 3"/>
          <p:cNvSpPr>
            <a:spLocks noGrp="1"/>
          </p:cNvSpPr>
          <p:nvPr>
            <p:ph type="dt" idx="4"/>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2C0A-3029-456C-B033-A25793AD4D22}"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9D3E-FE98-4ABE-9572-0AA833C5EF6B}"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83"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84" name="PlaceHolder 3"/>
          <p:cNvSpPr>
            <a:spLocks noGrp="1"/>
          </p:cNvSpPr>
          <p:nvPr>
            <p:ph type="dt" idx="7"/>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ADDD-AD6A-4A45-8A19-15A5A126FCC6}"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C941-2C70-430E-819E-080EB3DCF560}"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24"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125" name="PlaceHolder 3"/>
          <p:cNvSpPr>
            <a:spLocks noGrp="1"/>
          </p:cNvSpPr>
          <p:nvPr>
            <p:ph type="dt" idx="10"/>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DD43-1A2E-45FD-8FF3-8606F8A5DE42}"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65A0-D1A9-4439-A849-601CDF533497}"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65"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166" name="PlaceHolder 3"/>
          <p:cNvSpPr>
            <a:spLocks noGrp="1"/>
          </p:cNvSpPr>
          <p:nvPr>
            <p:ph type="dt" idx="13"/>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2F14-9F0B-4890-8AF1-7548B8966D0F}"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5BC7-00ED-4E29-92D0-16F8A6464F72}"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206"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07" name="PlaceHolder 3"/>
          <p:cNvSpPr>
            <a:spLocks noGrp="1"/>
          </p:cNvSpPr>
          <p:nvPr>
            <p:ph type="dt" idx="16"/>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ED2E-61A2-4BCC-BE76-FB7E0C909B37}"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0F7E-8629-4A93-BAE3-3E1E4C8193D3}"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247"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48" name="PlaceHolder 3"/>
          <p:cNvSpPr>
            <a:spLocks noGrp="1"/>
          </p:cNvSpPr>
          <p:nvPr>
            <p:ph type="dt" idx="19"/>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01E6-4AF8-40CA-9590-D05D5ED73C54}"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88B8-28B2-40CE-BC81-163D6ECC5E48}"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288"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89" name="PlaceHolder 3"/>
          <p:cNvSpPr>
            <a:spLocks noGrp="1"/>
          </p:cNvSpPr>
          <p:nvPr>
            <p:ph type="dt" idx="22"/>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7CB6-7ADF-4DB4-AD95-AEDA95F4B632}"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BBE2-323A-44A9-80BD-5BD9B61B0B0F}"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820440"/>
            <a:ext cx="7772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329" name="PlaceHolder 2"/>
          <p:cNvSpPr>
            <a:spLocks noGrp="1"/>
          </p:cNvSpPr>
          <p:nvPr>
            <p:ph type="body"/>
          </p:nvPr>
        </p:nvSpPr>
        <p:spPr>
          <a:xfrm>
            <a:off x="457200" y="1879200"/>
            <a:ext cx="8229600" cy="3924360"/>
          </a:xfrm>
          <a:prstGeom prst="rect">
            <a:avLst/>
          </a:prstGeom>
          <a:noFill/>
          <a:ln w="0">
            <a:noFill/>
          </a:ln>
        </p:spPr>
        <p:txBody>
          <a:bodyPr lIns="90000" rIns="90000" tIns="46800" bIns="46800" anchor="t">
            <a:normAutofit fontScale="95000"/>
          </a:bodyPr>
          <a:p>
            <a:pPr marL="325800" indent="-3258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05600" indent="-271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08576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51992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1954440" indent="-217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330" name="PlaceHolder 3"/>
          <p:cNvSpPr>
            <a:spLocks noGrp="1"/>
          </p:cNvSpPr>
          <p:nvPr>
            <p:ph type="dt" idx="25"/>
          </p:nvPr>
        </p:nvSpPr>
        <p:spPr>
          <a:xfrm>
            <a:off x="456840" y="6438600"/>
            <a:ext cx="213372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5A5A-A45B-4D05-AAA6-E23124A43004}" type="datetime">
              <a:rPr b="0" lang="hr-HR" sz="1400" spc="-1" strike="noStrike">
                <a:solidFill>
                  <a:srgbClr val="808080"/>
                </a:solidFill>
                <a:latin typeface="Times New Roman"/>
              </a:rPr>
              <a:t>29.07.26</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8080"/>
                </a:solidFill>
                <a:latin typeface="Times New Roman"/>
              </a:rPr>
              <a:t>Ana Garačić sutkinja Vrhovnog suda Republike HrvatskeAna Garačić, sutkinja Vrhovnog suda Republike Hrvatske</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50BF-297F-4FA8-A255-2FD1A8BCE5FC}" type="slidenum">
              <a:rPr b="0" lang="hr-HR"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1386000" y="1843200"/>
            <a:ext cx="6400800" cy="3744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rPr>
              <a:t>KAZNENO MATERIJALNO PRAVO</a:t>
            </a:r>
            <a:endParaRPr b="0" lang="en-US" sz="4000" spc="-1" strike="noStrike">
              <a:solidFill>
                <a:srgbClr val="333399"/>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333399"/>
                </a:solidFill>
                <a:latin typeface="Arial"/>
              </a:rPr>
              <a:t>II. edukacija sudaca prekršajnih sudova – 2018.</a:t>
            </a:r>
            <a:endParaRPr b="0" lang="en-US" sz="4000" spc="-1" strike="noStrike">
              <a:solidFill>
                <a:srgbClr val="333399"/>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333399"/>
                </a:solidFill>
                <a:latin typeface="Arial"/>
              </a:rPr>
              <a:t>Primjena blažega zakona</a:t>
            </a:r>
            <a:endParaRPr b="0" lang="en-US" sz="3200" spc="-1" strike="noStrike">
              <a:solidFill>
                <a:srgbClr val="333399"/>
              </a:solidFill>
              <a:latin typeface="Arial"/>
            </a:endParaRPr>
          </a:p>
        </p:txBody>
      </p:sp>
      <p:sp>
        <p:nvSpPr>
          <p:cNvPr id="459" name="PlaceHolder 2"/>
          <p:cNvSpPr>
            <a:spLocks noGrp="1"/>
          </p:cNvSpPr>
          <p:nvPr>
            <p:ph type="title"/>
          </p:nvPr>
        </p:nvSpPr>
        <p:spPr>
          <a:xfrm>
            <a:off x="659880" y="1301760"/>
            <a:ext cx="7797960" cy="4184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ff0066"/>
                </a:solidFill>
                <a:latin typeface="Arial"/>
              </a:rPr>
              <a:t>                     </a:t>
            </a:r>
            <a:endParaRPr b="1" lang="en-US" sz="4800" spc="-1" strike="noStrike">
              <a:solidFill>
                <a:srgbClr val="ff0066"/>
              </a:solidFill>
              <a:latin typeface="Arial"/>
            </a:endParaRPr>
          </a:p>
        </p:txBody>
      </p:sp>
      <p:sp>
        <p:nvSpPr>
          <p:cNvPr id="460" name="Rectangle 37"/>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BD6F-6098-4A15-888C-D9CD8C69EFBF}"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61" name="Rectangle 3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62" name="Rectangle 41"/>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5A89-F833-454E-99BB-FA7D8DE96086}"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D123-23D5-4BFA-A85A-7330F3BDAD1B}"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2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2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AE4F-69F8-40C2-9B8D-90D4EA7C98F2}"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3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1. u postupku povodom izvanrednih pravnih lijekova one se ne smiju uzimati u obzir jer je presuda postala pravomoćnosti, npr. tijekom obnove kaznenog postupka  primjenjuju se one zakonske odredbe koje su bile na snazi u vrijeme suđenja što znači da se kasnije izmjene zakona, makar su one blaže za učinitelja ne mogu primijeniti.</a:t>
            </a:r>
            <a:endParaRPr b="0" lang="en-US" sz="2400" spc="-1" strike="noStrike">
              <a:solidFill>
                <a:srgbClr val="333399"/>
              </a:solidFill>
              <a:latin typeface="Arial"/>
            </a:endParaRPr>
          </a:p>
        </p:txBody>
      </p:sp>
      <p:sp>
        <p:nvSpPr>
          <p:cNvPr id="53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16DE-D66A-483E-B0B5-E811B531C0A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DBF4-D850-4BA9-842B-40537CF7524F}"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3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3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34D-F0CA-495E-A3D2-17BF59048FD6}"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3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3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2. Kod primjene procesnog zakona, Zakona o kaznenom postupku, u načelu ne dolazi u obzir primjena blažega zakona jer se postupak treba završiti prema onom procesnom zakonu po kojem je započeo, osim ako nešto drugo u prelaznim i završenim odredbama nije propisani.</a:t>
            </a:r>
            <a:endParaRPr b="0" lang="en-US" sz="2400" spc="-1" strike="noStrike">
              <a:solidFill>
                <a:srgbClr val="333399"/>
              </a:solidFill>
              <a:latin typeface="Arial"/>
            </a:endParaRPr>
          </a:p>
        </p:txBody>
      </p:sp>
      <p:sp>
        <p:nvSpPr>
          <p:cNvPr id="54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DF88-C1CA-4D5F-B2E9-CA4A5772B34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4EA3-D2EB-481E-9AAA-F510954F2B8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4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4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7785-7B89-47E7-A805-01763CCF364F}"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4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3. kad domaći sud primjenjuje odredbe o izručenju jer imajući u vidu da odlučivanje o primjeni blažeg zakona važi samo u materijalnom kaznenom pravu, a ne i u pravu o ekstradiciji  jer ekstradicija ne predstavlja primjenu vlastitog kaznenog zakona na počinitelja kaznenog djela, nego pomaganje stranoj državi u ostvarenju njezina prava kažnjavanja;</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7703-A674-4ED7-9E70-62D6705D218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D057-4855-4278-A875-A46CD87AD06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5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5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A46E-88CA-461C-ABB9-9C6EAF3E9490}"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5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4. kod trajnog kaznenog djela kod koga radnja kojom se stvara protupravno stanje i kasnije radnje kojima se to stanje održava, čine jednu radnju i sve je to jedno kazneno djelo, pa se kod njega primjenjuje onaj zakon koji je bio na snazi u vrijeme dovršenja radnje, a to je kod trajnoga kaznenog djela vrijeme prestanka održavanja protupravnog stanja;</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B6E0-6D85-40DE-A90E-8AD2DA2484D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0B8E-5DC2-484E-9C80-17BE17DEFB99}"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6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6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E7ED-7A1B-421C-9ABF-BDDAF449ADB4}"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6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5. kod produljenog kaznenog djela, kod njega se primjenjuje onaj kazneni zakon koji je bio na snazi kad je učinjeno zadnje djelo koje ulazi u sastav produljenog kaznenog djela neovisno o tome što taj zakon u konkretnom slučaju može biti blaži ili stroži za počinitelja;</a:t>
            </a:r>
            <a:endParaRPr b="0" lang="en-US" sz="2400" spc="-1" strike="noStrike">
              <a:solidFill>
                <a:srgbClr val="333399"/>
              </a:solidFill>
              <a:latin typeface="Arial"/>
            </a:endParaRPr>
          </a:p>
        </p:txBody>
      </p:sp>
      <p:sp>
        <p:nvSpPr>
          <p:cNvPr id="56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4A3A-2D04-4627-84C9-2AE2D02D457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2283-F76C-4107-805E-B7D1D0D9751A}"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6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6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DA74-EC90-498A-83A3-44A11A1281BB}"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71" name=""/>
          <p:cNvSpPr txBox="1"/>
          <p:nvPr/>
        </p:nvSpPr>
        <p:spPr>
          <a:xfrm>
            <a:off x="457200" y="1814400"/>
            <a:ext cx="8229600" cy="44020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6. kod primjene tzv. vremenskog odnosno temporalnog zakona. Takav zakon sadrži izričite odredbe do kada je na snazi. Temporalni zakoni se donose zbog nekih posebnih okolnosti, pa kad te okolnosti prestanu takvi zakon prestaje važiti, no bilo bi neopravdano počinitelje ne kažnjavati samo zbog toga što su te okolnosti prestale, jer bi počinitelji mogli kršiti odredbe toga zakona pred kraj njegovog trajanja u kojem slučaju bi mogli biti sigurni da sud neće moći donijeti pravomoćnu presudu prije nego je zakon prestao važiti. </a:t>
            </a:r>
            <a:endParaRPr b="0" lang="en-US" sz="2400" spc="-1" strike="noStrike">
              <a:solidFill>
                <a:srgbClr val="333399"/>
              </a:solidFill>
              <a:latin typeface="Arial"/>
            </a:endParaRPr>
          </a:p>
        </p:txBody>
      </p:sp>
      <p:sp>
        <p:nvSpPr>
          <p:cNvPr id="57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22BB-44B4-4F87-AE5C-A9F40DE8E44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9A95-AA72-401F-AE8C-1D1C98085F2E}"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7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7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0DA8-B97F-494B-B168-EEB62EB980BF}"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79" name=""/>
          <p:cNvSpPr txBox="1"/>
          <p:nvPr/>
        </p:nvSpPr>
        <p:spPr>
          <a:xfrm>
            <a:off x="457200" y="1611360"/>
            <a:ext cx="8229600" cy="460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7. kada je to u zakonu izričito propisano:</a:t>
            </a:r>
            <a:endParaRPr b="0"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imes New Roman"/>
                <a:ea typeface="Times New Roman"/>
              </a:rPr>
              <a:t> ● </a:t>
            </a:r>
            <a:r>
              <a:rPr b="0" lang="hr-HR" sz="2000" spc="-1" strike="noStrike">
                <a:solidFill>
                  <a:srgbClr val="333399"/>
                </a:solidFill>
                <a:latin typeface="Arial"/>
              </a:rPr>
              <a:t>kao što je npr. u članku 86. KZ koji govori o primjeni rokova zastare. U slučaju promjene roka zastare propisano je da će se primijeniti rokovi zastare iz novoga zakona, što je danas  KZ/11, pa i onda kada su oni duži i nepovoljniji za počinitelja. Prema sudskoj praksi to će doći u obzir samo onda ako u času stupanja na snagu KZ/11 već nije nastupila zastara.</a:t>
            </a:r>
            <a:endParaRPr b="0" lang="en-US" sz="2000" spc="-1" strike="noStrike">
              <a:solidFill>
                <a:srgbClr val="3333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imes New Roman"/>
                <a:ea typeface="Times New Roman"/>
              </a:rPr>
              <a:t>●</a:t>
            </a:r>
            <a:r>
              <a:rPr b="0" lang="hr-HR" sz="2000" spc="-1" strike="noStrike">
                <a:solidFill>
                  <a:srgbClr val="333399"/>
                </a:solidFill>
                <a:latin typeface="Arial"/>
              </a:rPr>
              <a:t>u članku 385. KZ kod zastare oduzimanja imovinske koristi propisano je ako do stupanja na snagu ovoga Zakona nije nastupila zastara oduzimanja imovinske koristi, primijenit će se odredba članka 85. stavka 4. ovoga Zakona što znači da izvršenje oduzimanja imovinske koristi ne zastarijeva.</a:t>
            </a:r>
            <a:endParaRPr b="0" lang="en-US" sz="2000" spc="-1" strike="noStrike">
              <a:solidFill>
                <a:srgbClr val="333399"/>
              </a:solidFill>
              <a:latin typeface="Arial"/>
            </a:endParaRPr>
          </a:p>
        </p:txBody>
      </p:sp>
      <p:sp>
        <p:nvSpPr>
          <p:cNvPr id="58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2737-BD04-44BB-A8EA-D4437599264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81E6-0D20-4005-BE5D-054854A9E240}"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8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8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7487-A611-48EB-9FF2-B19A52F80161}"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87" name=""/>
          <p:cNvSpPr txBox="1"/>
          <p:nvPr/>
        </p:nvSpPr>
        <p:spPr>
          <a:xfrm>
            <a:off x="457200" y="1668240"/>
            <a:ext cx="8229600" cy="4547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Kod odlučivanja o primjeni blažega zakona postavlja se pitanje mora li se na dano kazneno djelo u cijelosti primijeniti jedan zakon, bilo stari bilo novi </a:t>
            </a:r>
            <a:r>
              <a:rPr b="1" lang="hr-HR" sz="2400" spc="-1" strike="noStrike">
                <a:solidFill>
                  <a:srgbClr val="333399"/>
                </a:solidFill>
                <a:latin typeface="Arial"/>
              </a:rPr>
              <a:t>ili je dopuštena kombinacija dva ili više zakona. </a:t>
            </a:r>
            <a:endParaRPr b="0" lang="en-US" sz="24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Mišljenja pravnih teoretičara, a i praktičara oko toga pitanja nisu podudarna, no u sudskoj praksi, prije donošenja KZ/11, bilo je prihvaćeno mišljenje da nakon utvrđivanja koji je zakon blaži sud mora u cijelosti primijeniti taj blaži zakon, što znači da je vrijedilo načelo alternativiteta koje isključuje mogućnost kombinacije staroga i novoga zakona. Međutim, od toga pravila utvrđeno je postojanje nekoliko iznimki tako da je ponekad  dopuštana kombinacija starog i novog zakona u istoj odluci, a to će osobito biti:</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58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67C6-6F92-4DCC-8C31-742E1A2DD39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DEC2-B4EA-42E6-BA2E-F1A7C51A0CDF}"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9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9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2011-735E-44CF-9F66-B3811164B2CC}"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95" name=""/>
          <p:cNvSpPr txBox="1"/>
          <p:nvPr/>
        </p:nvSpPr>
        <p:spPr>
          <a:xfrm>
            <a:off x="457200" y="1668240"/>
            <a:ext cx="8367840" cy="4547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333399"/>
                </a:solidFill>
                <a:latin typeface="Arial"/>
              </a:rPr>
              <a:t>u slučajevima kada je po starom zakonu niži minimum propisane kazne, a viši maksimum, a po novom zakonu viši maksimum propisane kazne, a niži minimum. U takvom slučaju sud će primijeniti stari zakon s blažom propisanom minimalnom kaznom, s tim da neće izreći višu  kaznu od one propisane u novom zakonu</a:t>
            </a:r>
            <a:r>
              <a:rPr b="0" lang="hr-HR" sz="1600" spc="-1" strike="noStrike">
                <a:solidFill>
                  <a:srgbClr val="333399"/>
                </a:solidFill>
                <a:latin typeface="Arial"/>
              </a:rPr>
              <a:t>. (Pravno shvaćanje  sjednice Kaznenog odjela VSRH od 9. veljače 1999.)</a:t>
            </a:r>
            <a:endParaRPr b="0" lang="en-US" sz="1600" spc="-1" strike="noStrike">
              <a:solidFill>
                <a:srgbClr val="333399"/>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333399"/>
                </a:solidFill>
                <a:latin typeface="Arial"/>
              </a:rPr>
              <a:t>kod kaznenih djela u stjecaju moguće je da je za jedno kazneno djelo blaži stari zakon, a za drugo novi, u tome slučaju kaznena djela će se pravno kvalificirati svako po onome zakonu po kome je to konkretno djelo blaže za počinitelja, no odredbe o izricanju jedinstvene kazne primijeniti će se prema odredbama novoga zakona. </a:t>
            </a:r>
            <a:r>
              <a:rPr b="0" lang="hr-HR" sz="1600" spc="-1" strike="noStrike">
                <a:solidFill>
                  <a:srgbClr val="333399"/>
                </a:solidFill>
                <a:latin typeface="Arial"/>
              </a:rPr>
              <a:t>(Pravno shvaćanje  sjednice Kaznenog odjela VSRH od 23. rujna 1977.)</a:t>
            </a:r>
            <a:endParaRPr b="0" lang="en-US" sz="1600" spc="-1" strike="noStrike">
              <a:solidFill>
                <a:srgbClr val="333399"/>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99"/>
                </a:solidFill>
                <a:latin typeface="Arial"/>
              </a:rPr>
              <a:t>onda kada sud izrekne kaznu po jednom zakonu, a sigurnosnu mjeru po drugom zakonu jer je po njemu sigurnosna mjera, zbog kraćega trajanja, povoljnija.</a:t>
            </a:r>
            <a:endParaRPr b="0" lang="en-US" sz="1600" spc="-1" strike="noStrike">
              <a:solidFill>
                <a:srgbClr val="333399"/>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
        <p:nvSpPr>
          <p:cNvPr id="59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2586-CB37-47ED-AC84-FA3DAAEA7D5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9E62-D17F-4357-AAA7-A12AFCA3C65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0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0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AD11-82E0-4B34-9447-5F50607BEC1F}"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03" name=""/>
          <p:cNvSpPr txBox="1"/>
          <p:nvPr/>
        </p:nvSpPr>
        <p:spPr>
          <a:xfrm>
            <a:off x="457200" y="1611360"/>
            <a:ext cx="8229600" cy="460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imes New Roman"/>
                <a:ea typeface="Times New Roman"/>
              </a:rPr>
              <a:t>● </a:t>
            </a:r>
            <a:r>
              <a:rPr b="0" lang="hr-HR" sz="1800" spc="-1" strike="noStrike">
                <a:solidFill>
                  <a:srgbClr val="333399"/>
                </a:solidFill>
                <a:latin typeface="Arial"/>
              </a:rPr>
              <a:t>Pitanja obvezne primjene blažega zakona kad se novim zakonom produljuju </a:t>
            </a:r>
            <a:r>
              <a:rPr b="1" lang="hr-HR" sz="1800" spc="-1" strike="noStrike">
                <a:solidFill>
                  <a:srgbClr val="333399"/>
                </a:solidFill>
                <a:latin typeface="Arial"/>
              </a:rPr>
              <a:t>rokovi zastare </a:t>
            </a:r>
            <a:r>
              <a:rPr b="0" lang="hr-HR" sz="1800" spc="-1" strike="noStrike">
                <a:solidFill>
                  <a:srgbClr val="333399"/>
                </a:solidFill>
                <a:latin typeface="Arial"/>
              </a:rPr>
              <a:t>u pravnoj teoriji je prijeporno. Jedni smatraju da se novi, dulji zastarni rokovi ne bi mogli primijeni na počinitelja, dok drugi misle da se dulji zastarni rokovi mogu primijeni premda su nepovoljniji, </a:t>
            </a: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333399"/>
                </a:solidFill>
                <a:latin typeface="Times New Roman"/>
                <a:ea typeface="Times New Roman"/>
              </a:rPr>
              <a:t>● </a:t>
            </a:r>
            <a:r>
              <a:rPr b="0" lang="hr-HR" sz="1800" spc="-1" strike="noStrike">
                <a:solidFill>
                  <a:srgbClr val="333399"/>
                </a:solidFill>
                <a:latin typeface="Arial"/>
              </a:rPr>
              <a:t>Primjene zastarnih rokova u slučaju njihove izmjene danas su riješena  odredbom članka 86. KZ koji predviđa da u koliko se prije nastupa zastare kaznenog progona ili zastare izvršenja kazne promijeni rok zastare, primijenit će se zastarni rokovi novog zakona. </a:t>
            </a:r>
            <a:endParaRPr b="0" lang="en-US" sz="1800" spc="-1" strike="noStrike">
              <a:solidFill>
                <a:srgbClr val="333399"/>
              </a:solidFill>
              <a:latin typeface="Arial"/>
            </a:endParaRPr>
          </a:p>
        </p:txBody>
      </p:sp>
      <p:sp>
        <p:nvSpPr>
          <p:cNvPr id="60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7D8C-D072-475E-A40C-A1933BDFEB3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FBE2-4B71-4F7E-9096-0CCE97754956}"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6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6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939B-307D-4C43-884B-62FB9C87F80C}"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46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46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Članak 3.</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1) Prema počinitelju se primjenjuje zakon koji je bio na snazi u vrijeme kad je kazneno djelo počinjeno.</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Stavak 1. ovoga članka propisuje osnovno pravilo, da se prema počinitelju kaznenoga djela primjenjuje onaj zakon koji je bio na snazi u vrijeme kada je kazneno djelo počinjeno, a ta odredba je istovjetna odredbi članka 3. stavka 1. KZ/97.</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6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5BD3-2036-41A0-A569-F1B52E91C2E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CA30-82D7-432B-8EF3-ADFF15C184F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0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0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5E67-D766-45FE-9169-3135E9F7828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1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Kad su izrečene kazne postale pravomoćne, novi Kazneni zakon, ako je i blaži, ostaje bez ikakva učinka. </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Pravomoćna, a još uvijek ne izvršena kazna koja je izrečena po starome zakonu, nakon 1. siječnja 2013. uvijek će se izvršavati po novom zakonu kako izričito predviđa odredba članka 384. KZ.</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Međutim, Zakonom o izmjenama i dopunama Kaznenog zakona od 14. prosinca 2012. u odredbu članka 384. KZ dodan je novi stavak 2.  u kojem se navodi: </a:t>
            </a:r>
            <a:r>
              <a:rPr b="0" i="1" lang="hr-HR" sz="2000" spc="-1" strike="noStrike">
                <a:solidFill>
                  <a:srgbClr val="333399"/>
                </a:solidFill>
                <a:latin typeface="Arial"/>
              </a:rPr>
              <a:t>Iznimno od stavka 1. ovoga članka na kazne koje su izrečene ili se izvršavaju sukladno odredbama Kaznenog zakona iz članka 381. stavka 1. točke 1. primjenjuju se odredbe o uvjetnom otpustu tog Zakona. </a:t>
            </a:r>
            <a:endParaRPr b="0" lang="en-US" sz="2000" spc="-1" strike="noStrike">
              <a:solidFill>
                <a:srgbClr val="333399"/>
              </a:solidFill>
              <a:latin typeface="Arial"/>
            </a:endParaRPr>
          </a:p>
        </p:txBody>
      </p:sp>
      <p:sp>
        <p:nvSpPr>
          <p:cNvPr id="61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E905-CA30-416E-8716-44F60FBBF82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7736-6DD7-4CDB-971B-733232E56C29}"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1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1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920B-FF22-4564-AA08-362BFCA6504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19" name=""/>
          <p:cNvSpPr txBox="1"/>
          <p:nvPr/>
        </p:nvSpPr>
        <p:spPr>
          <a:xfrm>
            <a:off x="457200" y="1611360"/>
            <a:ext cx="8229600" cy="460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Zašto je zakonodavac propisao ovu iznimku i uveo dualitet u postupanju samo za uvjetni otpust nije nam poznato. Mislimo da za to ne postoje opravdani razlozi jer o uvjetnom otpustu nakon toga odlučuju dva potpuno različita tijela, Povjerenstvo za uvjetne otpuste, na čije odluke osuđenici ne mogu podnijeti pravni lijek i sudac izvršenja na čije odluke se može podnijeti žalb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Ovu nedosljednost zakonodavac je ispravio III. Novele (NN, 101/17 od 12. listopada 2017.)  u kojoj je stavak 2. članka 384. brisan.</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62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A00E-59EA-4AC7-B268-A0E75240FBF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FD63-7FA4-49D9-8570-A8F76B8EDFB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2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2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3BA8-BA55-4301-85CE-526447864216}"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27" name=""/>
          <p:cNvSpPr txBox="1"/>
          <p:nvPr/>
        </p:nvSpPr>
        <p:spPr>
          <a:xfrm>
            <a:off x="457200" y="1668240"/>
            <a:ext cx="8229600" cy="4547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Proširenje zakonskoga bića </a:t>
            </a:r>
            <a:r>
              <a:rPr b="0" lang="hr-HR" sz="2400" spc="-1" strike="noStrike">
                <a:solidFill>
                  <a:srgbClr val="333399"/>
                </a:solidFill>
                <a:latin typeface="Arial"/>
              </a:rPr>
              <a:t>kaznenog djela i primjena blažeg zakona:</a:t>
            </a:r>
            <a:endParaRPr b="0" lang="en-US" sz="24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ea typeface="Times New Roman"/>
              </a:rPr>
              <a:t>1. usmrćenje na zahtjev,</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imes New Roman"/>
                <a:ea typeface="Times New Roman"/>
              </a:rPr>
              <a:t>2. </a:t>
            </a:r>
            <a:r>
              <a:rPr b="0" lang="hr-HR" sz="2000" spc="-1" strike="noStrike">
                <a:solidFill>
                  <a:srgbClr val="333399"/>
                </a:solidFill>
                <a:latin typeface="Arial"/>
              </a:rPr>
              <a:t>teška krađa iz članka 229. stavka 1. točke 9. KZ/11 </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ea typeface="Times New Roman"/>
              </a:rPr>
              <a:t>3. </a:t>
            </a:r>
            <a:r>
              <a:rPr b="0" lang="hr-HR" sz="2000" spc="-1" strike="noStrike">
                <a:solidFill>
                  <a:srgbClr val="333399"/>
                </a:solidFill>
                <a:latin typeface="Arial"/>
              </a:rPr>
              <a:t>kazneno djelo podvođenja djeteta iz članka 162.  stavka 3. KZ/11 prošireno je u usporedbi s kaznenim djelom podvođenja iz članka 195. KZ/97 na način da će prema novom zakonu kazneno odgovarati i sam korisnik seksualnih usluga djeteta što KZ/97 nije predviđao.</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62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B06-4027-4EDC-860F-36829AF7BDBD}"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E687-D94E-4B24-BF9D-36DA7BF2D8C9}"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3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3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56C2-F675-4C32-97B0-156AFD1893F1}"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3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Suženje zakonskoga bića </a:t>
            </a:r>
            <a:r>
              <a:rPr b="0" lang="hr-HR" sz="2400" spc="-1" strike="noStrike">
                <a:solidFill>
                  <a:srgbClr val="333399"/>
                </a:solidFill>
                <a:latin typeface="Arial"/>
              </a:rPr>
              <a:t>kaznenog djela i primjena blažeg zakona:</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1. </a:t>
            </a:r>
            <a:r>
              <a:rPr b="0" lang="hr-HR" sz="2400" spc="-1" strike="noStrike">
                <a:solidFill>
                  <a:srgbClr val="333399"/>
                </a:solidFill>
                <a:latin typeface="Arial"/>
              </a:rPr>
              <a:t>Kako suženje zakonskog bića kaznenog djela utječe na primjenu blažega zakona najbolje vidimo kod kaznenog djela otmice. Oba zakona i stari i novi KZ imaju to kazneno djelo potpuno istoga naziva, ali je zakonsko biće kaznenog djela otmice toliko izmijenjeno da ranije kazneno djelo otmice neće uvijek imati pravni kontinuitet u kaznenom djelo istoga nazivu u KZ/11. </a:t>
            </a:r>
            <a:endParaRPr b="0" lang="en-US" sz="2400" spc="-1" strike="noStrike">
              <a:solidFill>
                <a:srgbClr val="333399"/>
              </a:solidFill>
              <a:latin typeface="Arial"/>
            </a:endParaRPr>
          </a:p>
        </p:txBody>
      </p:sp>
      <p:sp>
        <p:nvSpPr>
          <p:cNvPr id="63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5627-015E-48DE-90C6-BD9746632F6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FCA0-CC8E-479F-8F5A-2546B0466155}"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4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4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591C-EE76-45EC-9CFD-81DD4EE61605}"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4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4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ea typeface="Times New Roman"/>
              </a:rPr>
              <a:t>2. </a:t>
            </a:r>
            <a:r>
              <a:rPr b="0" lang="hr-HR" sz="2000" spc="-1" strike="noStrike">
                <a:solidFill>
                  <a:srgbClr val="333399"/>
                </a:solidFill>
                <a:latin typeface="Arial"/>
              </a:rPr>
              <a:t>Do suženja zakonskog bića kaznenog djela došlo je i kod kaznenog djela protupravne gradnje iz članka 225.a KZ/97 koje odgovara kaznenom djelu istoga naziva iz članka 212. KZ/11.</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 </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Kao što vidimo iz zakonskog bića kaznenoga djela iz članka 212. KZ/11 gradnja bez građevinske dozvole više nije kazneno djelo,</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64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863C-E942-4F44-8540-3F6FB6C6E20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544F-BE57-4CC3-8C12-97C3B71B0B1B}"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4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4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E67A-E0B7-439A-B803-24FD44B0648A}"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5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ea typeface="Times New Roman"/>
              </a:rPr>
              <a:t>3. </a:t>
            </a:r>
            <a:r>
              <a:rPr b="0" lang="hr-HR" sz="2400" spc="-1" strike="noStrike">
                <a:solidFill>
                  <a:srgbClr val="333399"/>
                </a:solidFill>
                <a:latin typeface="Arial"/>
              </a:rPr>
              <a:t>Kazneno djelo protuzakonitog lova i ribolova iz članka 204. KZ/11 također je u zakonskom biću suženo u usporedbi s kaznenim djelom protuzakonitog ribolova iz članka 259. stavak 1. KZ/97.</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ea typeface="Times New Roman"/>
              </a:rPr>
              <a:t>4. </a:t>
            </a:r>
            <a:r>
              <a:rPr b="0" lang="hr-HR" sz="2400" spc="-1" strike="noStrike">
                <a:solidFill>
                  <a:srgbClr val="333399"/>
                </a:solidFill>
                <a:latin typeface="Arial"/>
              </a:rPr>
              <a:t>Kazneno djelo protuzakonitog lova i ribolova iz članka 204. KZ/11 blaži je za okrivljenika od kaznenog djela iz čl. 259. st. 1. KZ/97 jer ne propisuje kažnjavanje za ribolov u području na kojem je ribolov zabranjen, pa će sud u takvoj situaciji donijeti presudu kojom se počinitelj oslobađa od optužbe.</a:t>
            </a:r>
            <a:endParaRPr b="0" lang="en-US" sz="2400" spc="-1" strike="noStrike">
              <a:solidFill>
                <a:srgbClr val="333399"/>
              </a:solidFill>
              <a:latin typeface="Arial"/>
            </a:endParaRPr>
          </a:p>
        </p:txBody>
      </p:sp>
      <p:sp>
        <p:nvSpPr>
          <p:cNvPr id="65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FEF1-3DCF-479B-AAAF-8F97909AE8B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EE70-DD6E-4FDC-8268-ADEE4EC06105}"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5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5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1F49-792D-4C36-9228-87C5831DEEF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5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5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ea typeface="Times New Roman"/>
              </a:rPr>
              <a:t>5. </a:t>
            </a:r>
            <a:r>
              <a:rPr b="0" lang="hr-HR" sz="2400" spc="-1" strike="noStrike">
                <a:solidFill>
                  <a:srgbClr val="333399"/>
                </a:solidFill>
                <a:latin typeface="Arial"/>
              </a:rPr>
              <a:t>Kada je riječ o kaznenim djelima protiv opće sigurnosti, dovođenje u opasnost života i imovine općeopasnom radnjom ili sredstvom, odredba članka 215. KZ/11, više ne predviđa kvalifikatorni oblik djela - ako je djelo počinjeno na mjestu gdje je okupljeno više osoba- kako je predviđala odredba članaka 263. stavak 3. KZ/97, stoga je sada riječ o osnovanom kaznenom djelu iz čl. 215. st. 1. KZ/11 koje je blaže za počinitelja.</a:t>
            </a:r>
            <a:endParaRPr b="0" lang="en-US" sz="2400" spc="-1" strike="noStrike">
              <a:solidFill>
                <a:srgbClr val="333399"/>
              </a:solidFill>
              <a:latin typeface="Arial"/>
            </a:endParaRPr>
          </a:p>
        </p:txBody>
      </p:sp>
      <p:sp>
        <p:nvSpPr>
          <p:cNvPr id="66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EA6F-975D-40A1-893D-6DD795DF3F0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BC63-5AFB-451C-A74E-3661EE0E0FCC}"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6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6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7EDF-1A1E-4123-9DC7-7FF100FDBCD1}"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6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6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6. Do suženja zakonskog bića kaznenog djela došlo je i kod kaznenog djela nadripisarstva iz članka 310. KZ/97 jer nova odredba istoga naziva sada u članku 313. KZ/11 ne predviđa odgovornost počinitelja ako je pravna pomoć pružena bez naknade, što znači da će sudovi u takvim slučajevima donositi presudu kojom se optuženik oslobađa od optužbe.</a:t>
            </a:r>
            <a:endParaRPr b="0" lang="en-US" sz="2400" spc="-1" strike="noStrike">
              <a:solidFill>
                <a:srgbClr val="333399"/>
              </a:solidFill>
              <a:latin typeface="Arial"/>
            </a:endParaRPr>
          </a:p>
        </p:txBody>
      </p:sp>
      <p:sp>
        <p:nvSpPr>
          <p:cNvPr id="66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8153-5C4F-49AD-80B9-F3ECAF0917E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1479-5B20-4E56-A908-780EF99E570C}"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7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7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DC34-0F22-49EE-A980-0D66CB813B8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7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7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333399"/>
                </a:solidFill>
                <a:latin typeface="Arial"/>
              </a:rPr>
              <a:t>7. </a:t>
            </a:r>
            <a:r>
              <a:rPr b="0" lang="hr-HR" sz="2400" spc="-1" strike="noStrike">
                <a:solidFill>
                  <a:srgbClr val="333399"/>
                </a:solidFill>
                <a:latin typeface="Arial"/>
              </a:rPr>
              <a:t>Do suženja zakonskog bića kaznenog djela došlo je i kod kaznenog djela -   Nedozvoljeno obavljanje istraživačkih radova i prisvajanje kulturnog dobra iz članka 326. stavka 3. KZ/97 jer nova odredba istoga naziva iz članka 320. stavka 3. KZ/11 predviđa kaznenu odgovornost samo ako je do prisvajanju predmeta došlo prigodom arheoloških i drugih istraživanja. </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7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277C-6533-4182-8E93-E196E595C3B2}"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14AC-0FFE-4E66-8851-CCDE69EEFA21}"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8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8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F933-0714-4BD5-918F-54373176E9C2}"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8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8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8. </a:t>
            </a:r>
            <a:r>
              <a:rPr b="0" lang="hr-HR" sz="2400" spc="-1" strike="noStrike">
                <a:solidFill>
                  <a:srgbClr val="333399"/>
                </a:solidFill>
                <a:latin typeface="Arial"/>
              </a:rPr>
              <a:t>do suženja zakonskoga bića kaznenoga djela došlo je i kod kaznenoga djela – Neovlaštene proizvodnje i prometa drogama iz članka 190. KZ/11 koji samo neovlašteno posjedovanje droge iz članka 173. stavka 1. KZ/97 više ne predviđa kao kazneno djelo, nego postoji samo prekršajna </a:t>
            </a:r>
            <a:r>
              <a:rPr b="0" lang="hr-HR" sz="2400" spc="-1" strike="noStrike">
                <a:solidFill>
                  <a:srgbClr val="000000"/>
                </a:solidFill>
                <a:latin typeface="Arial"/>
              </a:rPr>
              <a:t>od</a:t>
            </a:r>
            <a:r>
              <a:rPr b="0" lang="hr-HR" sz="2400" spc="-1" strike="noStrike">
                <a:solidFill>
                  <a:srgbClr val="333399"/>
                </a:solidFill>
                <a:latin typeface="Arial"/>
              </a:rPr>
              <a:t>govornost.</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9. </a:t>
            </a:r>
            <a:r>
              <a:rPr b="0" lang="hr-HR" sz="2400" spc="-1" strike="noStrike">
                <a:solidFill>
                  <a:srgbClr val="333399"/>
                </a:solidFill>
                <a:latin typeface="Arial"/>
              </a:rPr>
              <a:t>Kada  kazneno djelo samovlasti iz članka 329. KZ/97 u KZ/11 brisano, a nema pravni kontinuitet u nekom drugom kaznenom djelu, valja u takvim slučajevima donijeti oslobađajuću presudu.</a:t>
            </a:r>
            <a:endParaRPr b="0" lang="en-US" sz="2400" spc="-1" strike="noStrike">
              <a:solidFill>
                <a:srgbClr val="333399"/>
              </a:solidFill>
              <a:latin typeface="Arial"/>
            </a:endParaRPr>
          </a:p>
        </p:txBody>
      </p:sp>
      <p:sp>
        <p:nvSpPr>
          <p:cNvPr id="68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D302-0F56-428C-AAD5-E5FCBDA436B1}"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8593-632A-4ED8-9012-7793CE4F9450}"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7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7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2B16-1AAA-48BB-A208-7BD6131CCCF8}"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47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475" name=""/>
          <p:cNvSpPr txBox="1"/>
          <p:nvPr/>
        </p:nvSpPr>
        <p:spPr>
          <a:xfrm>
            <a:off x="456840" y="1698480"/>
            <a:ext cx="8048520" cy="4518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Članak 3.</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2) Ako se zakon nakon počinjenja kaznenog djela, a prije donošenja pravomoćne presude, izmijeni jednom ili više puta, primijenit će se zakon koji je najblaži za počinitelja.</a:t>
            </a:r>
            <a:endParaRPr b="0" lang="en-US" sz="20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U stavku 2. propisano je da će sud prema počinitelju primijeniti blaži zakona sve do donošenja pravomoćne presude čime je izričito i drugostupanjski sud obvezan na primjenu blažega zakona ako je do izmjene zakona došlo u tijeku žalbenoga postupka. </a:t>
            </a: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Kada je presuda postala pravomoćna izmjene zakona više nisu odlučne čak ni onda kada su blaže za počinitelja. To znači da se odredbe ovoga stavka ne primjenjuju u povodu odluke o izvanrednim pravnim lijekova o čemu postoji široka praksa  Vrhovnoga suda.</a:t>
            </a: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7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12C5-31CA-4D5E-989E-855E358A95A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C007-10DE-4B99-A513-55ADDEB6C23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8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8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B9D7-0E95-4E5C-9E1B-0C9FC26AB166}"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9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9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10. </a:t>
            </a:r>
            <a:r>
              <a:rPr b="0" lang="hr-HR" sz="2400" spc="-1" strike="noStrike">
                <a:solidFill>
                  <a:srgbClr val="333399"/>
                </a:solidFill>
                <a:latin typeface="Arial"/>
              </a:rPr>
              <a:t>Kako novi Kazneni zakon (KZ/11) sigurnosna mjera protjerivanje stranca iz zemlje iz čl. 79. KZ797 više ne predviđa drugostupanjski sud je povodu žalbe optuženika, a po službenoj dužnosti pravilno izrečenu mjeru ukinuo.</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11. </a:t>
            </a:r>
            <a:r>
              <a:rPr b="0" lang="hr-HR" sz="2400" spc="-1" strike="noStrike">
                <a:solidFill>
                  <a:srgbClr val="333399"/>
                </a:solidFill>
                <a:latin typeface="Arial"/>
              </a:rPr>
              <a:t>Ne  postoji pravni kontinuitet između kaznenih djela protupravne eksploatacije rudnoga blaga iz članka 261.a stavka 1. KZ/97 i kaznenih dijela istoga naslova iz članka 211. KZ/11 ako prouzročena šteta nije znatna.</a:t>
            </a:r>
            <a:endParaRPr b="0" lang="en-US" sz="2400" spc="-1" strike="noStrike">
              <a:solidFill>
                <a:srgbClr val="333399"/>
              </a:solidFill>
              <a:latin typeface="Arial"/>
            </a:endParaRPr>
          </a:p>
        </p:txBody>
      </p:sp>
      <p:sp>
        <p:nvSpPr>
          <p:cNvPr id="69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F7ED-1603-4266-A631-7948EA8F73CD}"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4B9F-A102-44F2-9852-0853A60BF2EE}"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69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69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17F5-414A-44A8-AAB3-1534D4EC9DF9}"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69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69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Odredba članka 68. KZ/11 povoljnije je od odredbe članka 75. KZ/97 jer ne dopušta mogućnost izricanja sigurnosne mjere obveznog psihijatrijskog liječenja ako počinitelj </a:t>
            </a:r>
            <a:r>
              <a:rPr b="0" i="1" lang="hr-HR" sz="2400" spc="-1" strike="noStrike">
                <a:solidFill>
                  <a:srgbClr val="333399"/>
                </a:solidFill>
                <a:latin typeface="Arial"/>
              </a:rPr>
              <a:t>tempore criminis </a:t>
            </a:r>
            <a:r>
              <a:rPr b="0" lang="hr-HR" sz="2400" spc="-1" strike="noStrike">
                <a:solidFill>
                  <a:srgbClr val="333399"/>
                </a:solidFill>
                <a:latin typeface="Arial"/>
              </a:rPr>
              <a:t>nije bio bitno smanjeno ubrojiv.</a:t>
            </a:r>
            <a:endParaRPr b="0" lang="en-US" sz="2400" spc="-1" strike="noStrike">
              <a:solidFill>
                <a:srgbClr val="3333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imes New Roman"/>
                <a:ea typeface="Times New Roman"/>
              </a:rPr>
              <a:t>► </a:t>
            </a:r>
            <a:r>
              <a:rPr b="0" lang="hr-HR" sz="2400" spc="-1" strike="noStrike">
                <a:solidFill>
                  <a:srgbClr val="333399"/>
                </a:solidFill>
                <a:latin typeface="Arial"/>
              </a:rPr>
              <a:t>Na kazneno djelo tjelesne ozljede iz čl. 98. KZ/97 zbog kojeg je okrivljenik oglašen krivim i prema njemu primijenjena sudska opomena, povoljniji je za počinitelja jer novi Kazneni zakon – KZ/11 sudsku opomenu više ne predviđa kao kaznenu sankciju. </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0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E686-D6B0-4FE1-8E0E-E37A1052924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AF7E-A086-4358-8273-13B4D80E8D30}"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0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0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A9F0-0A71-4BAE-9D29-091B4BCAE381}"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0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0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Kada je počinitelj kaznenog djela iz čl. 292. st. 2. u svezi st. 1. alineja 4. KZ/97 pri izvršavanju obveza prema proračunu i fondovima  uskratio sredstva koja im pripadaju u ukupnom iznosu od 143.595,59 kuna, ostvario je kazneno djelo iz čl. 256. st. 1., a ne iz st. 3. KZ/11 jer porezna obveza velikih razmjera postoji kada vrijednost porezne obveza prelazi 600.000,00 kuna, a o čemu ovdje nije riječ, tako da je odredba novoga KZ za počinitelja povoljnija.</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0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2520-549F-44DC-B2C8-111525124C1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9F3A-6A85-4513-90FD-926141C0FDD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1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1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4ECA-289B-4E85-8FBD-683788CBFEEF}"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1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1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imes New Roman"/>
                <a:ea typeface="Times New Roman"/>
              </a:rPr>
              <a:t>►</a:t>
            </a:r>
            <a:r>
              <a:rPr b="0" lang="hr-HR" sz="2000" spc="-1" strike="noStrike">
                <a:solidFill>
                  <a:srgbClr val="333399"/>
                </a:solidFill>
                <a:latin typeface="Arial"/>
              </a:rPr>
              <a:t>Ne postoji pravni kontinuitet između kaznenog djela zlouporaba ovlasti u gospodarskom poslovanju iz čl. 292. st. 1. al. 4.  KZ/97 i kaznenog djela utaje poreza ili carine iz čl. 256. st. 1. KZ/11, pa optuženik koji je prilikom uvoza motocikala predao kao originalne neistinite račune u kojima su vrijednosti motocikala bile naznačene u manjim iznosima od onih u originalnim računima, na koji način je umanjio osnovicu za obračun proračunskih obveza te je na taj način uskratio prihod carinskih davanja u ukupnom iznosu od 5.910,96 kn, nije počinio kazneno djelo iz čl. 256. st. 1. KZ/11 jer smanjenje carinske obveze nije prešlo 20.000,00 kuna. </a:t>
            </a:r>
            <a:endParaRPr b="0" lang="en-US" sz="2000" spc="-1" strike="noStrike">
              <a:solidFill>
                <a:srgbClr val="333399"/>
              </a:solidFill>
              <a:latin typeface="Arial"/>
            </a:endParaRPr>
          </a:p>
        </p:txBody>
      </p:sp>
      <p:sp>
        <p:nvSpPr>
          <p:cNvPr id="71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FC2F-DCF7-4FD6-9C7E-AE0432E40266}"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1A6F-56EA-451F-98A4-2FDC90EAAF4E}"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2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2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D412-27F5-454A-B0FC-8B06C6162610}"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2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2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Postoji pravni kontinuitet između kaznenog djela povreda prava na rad i drugih prava iz rada čl. 114. KZ/97  i kaznenog djela neisplate plaće iz i čl. 132. st. 1. KZ/11, a kazneno djelo neisplate plaće za počinitelja je blaže  jer ako ne isplati plaću većem broja radnika neće odgovarati za stjecaj, za što bi odgovarao prema članku 114. KZ/11, nego za jedno kazneno djelo.</a:t>
            </a:r>
            <a:endParaRPr b="0" lang="en-US" sz="2400" spc="-1" strike="noStrike">
              <a:solidFill>
                <a:srgbClr val="333399"/>
              </a:solidFill>
              <a:latin typeface="Arial"/>
            </a:endParaRPr>
          </a:p>
        </p:txBody>
      </p:sp>
      <p:sp>
        <p:nvSpPr>
          <p:cNvPr id="72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5CE7-7ECA-41CF-8ACE-C33C8AA923A8}"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EFCF-8979-493F-ACFB-91AA466EFB9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2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2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C94E-4FE1-4420-97CF-4C56EFD5AD4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3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3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imes New Roman"/>
                <a:ea typeface="Times New Roman"/>
              </a:rPr>
              <a:t>► </a:t>
            </a:r>
            <a:r>
              <a:rPr b="0" lang="hr-HR" sz="2000" spc="-1" strike="noStrike">
                <a:solidFill>
                  <a:srgbClr val="333399"/>
                </a:solidFill>
                <a:latin typeface="Arial"/>
              </a:rPr>
              <a:t>Ne postoji pravni kontinuitet između kaznenog djela sudjelovanja u grupi koja sprečava ili napada službenu osobu čl. 319. st. 1. KZ/97 i kaznenog djela izazivanje nereda iz i čl. 324. st. 1. KZ/11., bez obzira što se nalaze u istoj glavi kaznenih djela protiv javnog reda, ne znači da imaju isti zaštitni objekt jer je kod kaznenog djela iz čl. 319. st. 1. KZ/97 krajnji cilj sprječavanje ili napad na službenu osobu kako bi mogla obaviti službenu radnju ili radi obavljanja drugih poslova, a kod kaznenog djela iz čl. 324. st. 1. KZ/97 krajnji cilj je sprječavanje nasilja koje poduzimaju različite neformalne skupine prema drugim skupinama ili pojedincima, kako se ne bi ugrozio javni red.</a:t>
            </a:r>
            <a:endParaRPr b="0" lang="en-US" sz="20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73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7B2D-6C64-4C87-9942-C78591F11EF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90DC-232E-4798-A78A-8CE787EFCA1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3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3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BD3D-6A2C-40F9-97E3-807FB46B71A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3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3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Ne postoji pravni kontinuitet između kaznenih djela iz članka 308. stavak 2. KZ/97, izigravanje zabrana iz sigurnosnih mjera i pravnih posljedica osude i članka 311. stavak 2. KZ/11, kaznenog djela neizvršenja sudske odluke, ako počinitelj krši zaštitnu mjeru koja mu je izrečena prekršajnim nalogom Policijske uprave.</a:t>
            </a:r>
            <a:endParaRPr b="0" lang="en-US" sz="2400" spc="-1" strike="noStrike">
              <a:solidFill>
                <a:srgbClr val="333399"/>
              </a:solidFill>
              <a:latin typeface="Arial"/>
            </a:endParaRPr>
          </a:p>
        </p:txBody>
      </p:sp>
      <p:sp>
        <p:nvSpPr>
          <p:cNvPr id="74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5C82-F1E8-4DCE-A986-2951F1C1EDD3}"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347E-44A7-44BC-B0AA-06A750DECE86}"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4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4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0B58-8D9F-41B4-A520-55FD212DA6C3}"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4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4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Postoji pravni kontinuitet između kaznenih djela iz članka 308. stavak 2. KZ/97, izigravanje zabrana iz sigurnosnih mjera i pravnih posljedica osude i članka 311. stavak 2. KZ/11, kaznenog djela neizvršenja sudske odluke ako je počinitelj krši sigurnosnu mjeru koja mu je izrečena pravomoćnom presudom.</a:t>
            </a:r>
            <a:endParaRPr b="0" lang="en-US" sz="2400" spc="-1" strike="noStrike">
              <a:solidFill>
                <a:srgbClr val="333399"/>
              </a:solidFill>
              <a:latin typeface="Arial"/>
            </a:endParaRPr>
          </a:p>
        </p:txBody>
      </p:sp>
      <p:sp>
        <p:nvSpPr>
          <p:cNvPr id="74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E00C-A673-4C44-A0D8-B41A99642C00}"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24CD-5B3F-4213-A6C8-6EC439BAC5F6}"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5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5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727D-C423-45FF-8823-359033813BB8}"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5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5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Odredba članka 136. stavka 1. KZ/11, protupravno oduzimanje slobode, bez obzira što propisuje viši posebni maksimum predviđene kazne, blaža je od odredbe članka 124. stavka 1.  KZ/97 istoga naziva, jer predviđa mogućnost izricanja novčane kazna.</a:t>
            </a:r>
            <a:endParaRPr b="0" lang="en-US" sz="2400" spc="-1" strike="noStrike">
              <a:solidFill>
                <a:srgbClr val="333399"/>
              </a:solidFill>
              <a:latin typeface="Arial"/>
            </a:endParaRPr>
          </a:p>
        </p:txBody>
      </p:sp>
      <p:sp>
        <p:nvSpPr>
          <p:cNvPr id="75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7D78-2324-4BB0-8B1F-3365125F4FCC}"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1D82-73CC-4853-A8B2-4FFC91049249}"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6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6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E097-2352-430A-AD32-F8F5E4EDF6C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6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6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Odredba članka 190. stavka 1. KZ/11  blaža je od odredbe članka 173. stavka 2. KZ/97 jer je KZ/97 predviđao kvalificirano kazneno djelo proizvodnje opojne droge neovisno o njezinoj namjeni, dok je prema KZ/11 sama proizvodnja  osnovni oblik kaznenog djela, a za kvalificirani oblike djela potrebno je utvrditi da je proizvedena droga namijenjena prodaji.</a:t>
            </a:r>
            <a:endParaRPr b="0" lang="en-US" sz="2400" spc="-1" strike="noStrike">
              <a:solidFill>
                <a:srgbClr val="333399"/>
              </a:solidFill>
              <a:latin typeface="Arial"/>
            </a:endParaRPr>
          </a:p>
        </p:txBody>
      </p:sp>
      <p:sp>
        <p:nvSpPr>
          <p:cNvPr id="76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1B25-C26E-4857-BF01-88A4FCCF30D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7B87-A840-455B-B978-0B4E95028821}"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8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8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9905-B2DE-4613-8009-227E13A8B57E}"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48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48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Članak 3.</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3) Ako se u slučajevima iz stavka 2. ovoga članka izmijeni naziv ili opis kaznenog djela, sud će ispitati postoji li pravni kontinuitet tako da činjenično stanje podvede pod biće odgovarajućeg kaznenog djela iz novog zakona pa ako utvrdi da postoji, primijenit će zakon koji je blaži za počinitelja. Nema kaznenog djela ako pravni kontinuitet ne postoji.</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Stavkom 3. riješeno je pitanje pravnoga kontinuiteta između odredbi KZ/97 i onih iz KZ/11, pa ako sud utvrdi da nema pravnoga kontinuiteta nema ni kaznenoga djela zbog čega valja donijeti oslobađajuću presudu, međutim ako pravni kontinuitet postoji sud će primijeniti zakon koji je za počinitelja najblaži.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O pitanjima postojanja, odnosno ne postojanja pravnoga kontinuiteta sudovi će odlučivati od slučaja do slučaja.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8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5171-DDFA-490F-889D-740F9B0BE535}"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CA88-2359-40EA-8C52-E50805FCDB88}"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6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6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CAB1-22DF-444F-AA9C-5E59E2ACB9C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7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7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a:t>
            </a:r>
            <a:r>
              <a:rPr b="0" lang="hr-HR" sz="2400" spc="-1" strike="noStrike">
                <a:solidFill>
                  <a:srgbClr val="333399"/>
                </a:solidFill>
                <a:latin typeface="Arial"/>
              </a:rPr>
              <a:t>Postoji pravni kontinuitet  između kaznenih djela zapuštanja i zlostavljanja djeteta ili maloljetne osobe iz čl. 213. st. 1. KZ/97 i kaznenog djela povrede djetetovih prava iz čl. 177. st. 1. KZ/11, s tim da je odredba iz članka 177. stavak 1. KZ/11 povoljnija za počinitelja zbog niže propisanog minimuma kazne.</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7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CCB1-0B7E-4FC7-B54C-0C9132D4BED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4A57-3BCC-4A78-A978-0FA8D3603EA1}"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7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7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A10E-5A08-4134-8E4B-0FF30F3C729E}"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7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7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Kada je riječ o izlovu prstaca kazneno djelo iz članka 259. KZ/97, protuzakonit ribolov, ima pravni kontinuitet u kaznenom djelu, uništavanju zaštićenih prirodnih vrijednosti iz članku 200. KZ/11, a ne u kaznenom djelu protuzakonitog lova i ribolova iz članka 204. KZ/11.</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8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89C9-EF41-4307-ABFB-DD027584B893}"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218B-7D90-4EBC-BECC-81E19E2F3634}"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8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8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FC73-A39D-4B49-A12E-9291085564FA}"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8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87"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Postoji pravni kontinuitet između kaznenog djela povreda prava na rad i drugih prava iz rada čl. 114. KZ/97 i kaznenog djela neisplate plaće iz i čl. 132. st. 1. KZ/11, pa iako su propisane iste kazne, kazneno djelo neisplate plaće za počinitelja je blaže jer ako ne isplati plaću većem broja radnika optuženik neće odgovarati za stjecaj kaznenih djela, za što bi odgovarao prema članku 114. KZ/11, nego za jedno kazneno djelo.</a:t>
            </a:r>
            <a:endParaRPr b="0" lang="en-US" sz="2400" spc="-1" strike="noStrike">
              <a:solidFill>
                <a:srgbClr val="333399"/>
              </a:solidFill>
              <a:latin typeface="Arial"/>
            </a:endParaRPr>
          </a:p>
        </p:txBody>
      </p:sp>
      <p:sp>
        <p:nvSpPr>
          <p:cNvPr id="78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C77C-B43B-4DC8-9856-DDB60CC29CDD}"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4A80-D9FC-43C1-B412-F7A656FE068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79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79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6F0A-C8B7-4D4D-BB52-E41038F566BC}"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79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795"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Ne postoji pravni kontinuitet između kaznenih djela povrede prava industrijskog vlasništva i neovlaštene uporabe tuđe tvrtke iz čl. 285. st. 2. KZ/97. i kaznenog djela povrede žiga iz čl. 288. st. 1. KZ/11. ako nije pribavljena znatna imovinska korist ili prouzročena znatna šteta.</a:t>
            </a:r>
            <a:endParaRPr b="0" lang="en-US" sz="2400" spc="-1" strike="noStrike">
              <a:solidFill>
                <a:srgbClr val="333399"/>
              </a:solidFill>
              <a:latin typeface="Arial"/>
            </a:endParaRPr>
          </a:p>
        </p:txBody>
      </p:sp>
      <p:sp>
        <p:nvSpPr>
          <p:cNvPr id="79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E1D7-D08B-44F0-9F65-181D1D1D8389}"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18AC-04C8-4EC4-AEA8-8B4B4AAE50C8}"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80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80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8102-E36D-43BE-A7B1-B9015F8A67F4}"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80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80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Novi Kazneni zakon (KZ/11.) više ne propisuje kazneno djelo lažnog predstavljanja u svom osnovnom obliku, tako da kazneno iz čl. 328. stavak 1. KZ/97. nema kazneno pravni kontinuitet u KZ/11.</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0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96C6-C117-4944-9BEA-687F5F11DC0D}"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9BB4-D843-42A3-AC62-31A191FE4B14}"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80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80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1C28-896C-4CF7-BCEE-A3A6D2CB9AD8}"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81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811"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Kada su za kazneno djelo krađe propisane kazne po KZ/97. i KZ/11. jednake, a opće odredbe za počinitelja prema KZ/11. povoljnije, sud će  u cijelosti primjeni  KZ/11. jer Opći dio zakona prati Posebni dio i obrnuto.</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1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6204-B8E8-4F85-8FC6-DF7F318C1474}"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3F02-E1C9-44C3-8EAA-E49F76B7E6AE}"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81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81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BFDA-8F95-4625-99C0-3EC9127A2EFE}"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81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819"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Times New Roman"/>
                <a:ea typeface="Times New Roman"/>
              </a:rPr>
              <a:t>► </a:t>
            </a:r>
            <a:r>
              <a:rPr b="0" lang="hr-HR" sz="2400" spc="-1" strike="noStrike">
                <a:solidFill>
                  <a:srgbClr val="333399"/>
                </a:solidFill>
                <a:latin typeface="Arial"/>
              </a:rPr>
              <a:t>Kada se optuženiku sudi za kazneno djelo počinjeno prije stupanja na snagu III. Novele KZ/11 (NN, 101/17 od 12. listopada 2017.) može mu se izreći rada za opće dobro premda je ranije bio osuđen na kaznu zatvora dulju od šest mjeseci.</a:t>
            </a:r>
            <a:endParaRPr b="0" lang="en-US" sz="2400" spc="-1" strike="noStrike">
              <a:solidFill>
                <a:srgbClr val="333399"/>
              </a:solidFill>
              <a:latin typeface="Arial"/>
            </a:endParaRPr>
          </a:p>
        </p:txBody>
      </p:sp>
      <p:sp>
        <p:nvSpPr>
          <p:cNvPr id="82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5B42-C533-4AF0-B1E8-7FAC7AAC010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B9A5-A2E1-4243-81F9-A3E7EB05A0B0}"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82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82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18B-1986-416C-A717-63B39132E7A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826" name="PlaceHolder 1"/>
          <p:cNvSpPr>
            <a:spLocks noGrp="1"/>
          </p:cNvSpPr>
          <p:nvPr>
            <p:ph type="title"/>
          </p:nvPr>
        </p:nvSpPr>
        <p:spPr>
          <a:xfrm>
            <a:off x="522000" y="1260000"/>
            <a:ext cx="8621640" cy="17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ff0066"/>
              </a:solidFill>
              <a:latin typeface="Arial"/>
            </a:endParaRPr>
          </a:p>
        </p:txBody>
      </p:sp>
      <p:sp>
        <p:nvSpPr>
          <p:cNvPr id="827" name="PlaceHolder 2"/>
          <p:cNvSpPr>
            <a:spLocks noGrp="1"/>
          </p:cNvSpPr>
          <p:nvPr>
            <p:ph type="subTitle"/>
          </p:nvPr>
        </p:nvSpPr>
        <p:spPr>
          <a:xfrm>
            <a:off x="545760" y="1074240"/>
            <a:ext cx="7015320" cy="4526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333399"/>
                </a:solidFill>
                <a:latin typeface="Arial"/>
              </a:rPr>
              <a:t>Zahvaljujem na pozornosti !</a:t>
            </a:r>
            <a:endParaRPr b="0" lang="en-US" sz="2400" spc="-1" strike="noStrike">
              <a:solidFill>
                <a:srgbClr val="333399"/>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66A1-0247-48B6-83CB-412BAEA4E017}"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88"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89"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7427-6D2E-43BD-ACCA-76ABE3BC7AA3}"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490"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491" name=""/>
          <p:cNvSpPr txBox="1"/>
          <p:nvPr/>
        </p:nvSpPr>
        <p:spPr>
          <a:xfrm>
            <a:off x="457200" y="1653840"/>
            <a:ext cx="8229600" cy="45622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Članak 3.</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4) Izmijeni li se zakon za vrijeme počinjenja kaznenog djela, primijenit će se zakon koji je bio na snazi u vrijeme dovršenja radnje.</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Odredba stavka 4. je nova, a odnosi se na produljeno i trajno kazneno djelo. Kod ovih kaznenih djela sud će primijeniti zakon koji je bio na snazi u vrijeme dovršenja radnje.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Kod trajnog kaznenog djela vrijeme dovršenja radnje je u času prestanka održavanja protupravnog stanja, a kod produljenog kaznenog djela to je u času poduzimanja radnje iz zadnjega kaznenoga djela koje je ušlo u sastav produljenog kaznenog djela.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Ovdje je riječ o izuzetak od načele primjene blažega zakona jer zakon koji je na snazi u vrijeme dovršetka radnje primijeniti će se i ako je stroži za počinitelja.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92"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4"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9B9E-53C6-4742-B08C-D4D623FD8B2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CCF0-9276-46C4-A07C-DFD35E556052}"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496"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497"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ADA4-0B97-425D-9AA1-F8AA5B7761BD}"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498"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499" name=""/>
          <p:cNvSpPr txBox="1"/>
          <p:nvPr/>
        </p:nvSpPr>
        <p:spPr>
          <a:xfrm>
            <a:off x="457200" y="1653840"/>
            <a:ext cx="8229600" cy="45622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Članak 3.</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5) Zakon koji je na snazi samo za određeno vrijeme primijenit će se na kaznena djela počinjena u tom vremenu i nakon njegova prestanka važenja ako zakonom nije drukčije propisano.</a:t>
            </a:r>
            <a:endParaRPr b="0" lang="en-US" sz="1800" spc="-1" strike="noStrike">
              <a:solidFill>
                <a:srgbClr val="33339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Arial"/>
              </a:rPr>
              <a:t>U stavku 5. uređeno je pitanje retroaktivnog djelovanja zakona koji je bio na snazi samo za određeni vremenski period, </a:t>
            </a:r>
            <a:r>
              <a:rPr b="1" lang="hr-HR" sz="2000" spc="-1" strike="noStrike">
                <a:solidFill>
                  <a:srgbClr val="333399"/>
                </a:solidFill>
                <a:latin typeface="Arial"/>
              </a:rPr>
              <a:t>tzv. temporalni zakon. </a:t>
            </a:r>
            <a:r>
              <a:rPr b="0" lang="hr-HR" sz="2000" spc="-1" strike="noStrike">
                <a:solidFill>
                  <a:srgbClr val="333399"/>
                </a:solidFill>
                <a:latin typeface="Arial"/>
              </a:rPr>
              <a:t>On će se primijeniti prema počinitelju i ako u času suđenja više nije na snazi, jasno da je morao biti na snazi u vrijeme počinjenja djela. Bez ove odredbe izbjegli bi kažnjavanje oni počinitelji koji bi kazneno djelo ostvarili pri karaju važenja takvoga zakona jer bi bili sigurni da sud u kratkome roku dok je temporalni zakon još na snazi neće moći pravomoćno okončati kazneni postupak.</a:t>
            </a:r>
            <a:endParaRPr b="0" lang="en-US" sz="2000" spc="-1" strike="noStrike">
              <a:solidFill>
                <a:srgbClr val="333399"/>
              </a:solidFill>
              <a:latin typeface="Arial"/>
            </a:endParaRPr>
          </a:p>
        </p:txBody>
      </p:sp>
      <p:sp>
        <p:nvSpPr>
          <p:cNvPr id="500"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B6D6-B954-4BB1-A9D3-A1410CAD8EA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830E-E577-4E60-BF46-733A79DBE6D5}"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04"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05"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747F-8CB5-4233-A95D-0E010657E427}"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06"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07" name=""/>
          <p:cNvSpPr txBox="1"/>
          <p:nvPr/>
        </p:nvSpPr>
        <p:spPr>
          <a:xfrm>
            <a:off x="457200" y="1684080"/>
            <a:ext cx="8229600" cy="4532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Ako je zakon koji je bio na snazi u vrijeme počinjenja kaznenog  djela i zakon koji je na snazi u vrijeme suđenja jednako strogi primijeniti će se stari zakon, odnosno onaj zakon koji je bio na snazi u vrijeme počinjenja kaznenog djela.</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Međutim,</a:t>
            </a:r>
            <a:r>
              <a:rPr b="1" lang="hr-HR" sz="1800" spc="-1" strike="noStrike">
                <a:solidFill>
                  <a:srgbClr val="333399"/>
                </a:solidFill>
                <a:latin typeface="Arial"/>
              </a:rPr>
              <a:t> </a:t>
            </a:r>
            <a:r>
              <a:rPr b="0" lang="hr-HR" sz="1800" spc="-1" strike="noStrike">
                <a:solidFill>
                  <a:srgbClr val="333399"/>
                </a:solidFill>
                <a:latin typeface="Arial"/>
              </a:rPr>
              <a:t>na sastanku predsjednika Kaznenih odjela Županijskih sudova s predsjednicama vijeća i Službom evidencije Vrhovnog suda Republike Hrvatske održanog 16. i 17. rujna 2015. u Šibeniku donesen je </a:t>
            </a:r>
            <a:r>
              <a:rPr b="1" lang="hr-HR" sz="1800" spc="-1" strike="noStrike">
                <a:solidFill>
                  <a:srgbClr val="333399"/>
                </a:solidFill>
                <a:latin typeface="Arial"/>
              </a:rPr>
              <a:t>zaključak koji glasi:</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333399"/>
                </a:solidFill>
                <a:latin typeface="Arial"/>
              </a:rPr>
              <a:t>Kada su za određeno kazneno djelo u KZ/97 i u KZ/11 propisane iste kazne, ali su Opće odredbe KZ/11 povoljnije za okrivljenika, sud će primjenom blažeg zakona to kazneno djelo označiti prema KZ/11 samo onda ako te odredbe na konkretni slučaj i primijeni (načelo konkretnosti).</a:t>
            </a: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08"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5048-7099-4BEB-B02A-4AD59E7B830F}"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E552-E1E2-4BB6-A378-73441D95CCEB}"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12"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13"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38FE-FC36-4F9C-9805-320CCDAB7368}"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14"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15" name=""/>
          <p:cNvSpPr txBox="1"/>
          <p:nvPr/>
        </p:nvSpPr>
        <p:spPr>
          <a:xfrm>
            <a:off x="457200" y="1611360"/>
            <a:ext cx="8229600" cy="46051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Kada moramo utvrditi koji je zakon blaži valja voditi računa o tome da je blaži samo onaj zakon koji </a:t>
            </a:r>
            <a:r>
              <a:rPr b="1" lang="hr-HR" sz="1800" spc="-1" strike="noStrike">
                <a:solidFill>
                  <a:srgbClr val="333399"/>
                </a:solidFill>
                <a:latin typeface="Arial"/>
              </a:rPr>
              <a:t>je u svojoj ukupnosti blaži za konkretnog počinitelja.</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Arial"/>
              </a:rPr>
              <a:t> </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Arial"/>
              </a:rPr>
              <a:t>Najblaži je uvijek onaj zakon koji dovodi do nekažnjavanja. Ako je po svim zakonima koji konkuriraju za primjenu ponašanje počinitelja kažnjivo, zbog  ocjene koji je zakon blaži, valja usporediti:</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imes New Roman"/>
                <a:ea typeface="Times New Roman"/>
              </a:rPr>
              <a:t>● </a:t>
            </a:r>
            <a:r>
              <a:rPr b="0" lang="hr-HR" sz="1800" spc="-1" strike="noStrike">
                <a:solidFill>
                  <a:srgbClr val="333399"/>
                </a:solidFill>
                <a:latin typeface="Arial"/>
              </a:rPr>
              <a:t>odredbe Posebnog dijela KZ/97 s odredbama KZ/11 da bi utvrdili postojanje ili nepostojanje pravnoga kontinuiteta između starih i novih odredbi; </a:t>
            </a:r>
            <a:endParaRPr b="0" lang="en-US" sz="1800" spc="-1" strike="noStrike">
              <a:solidFill>
                <a:srgbClr val="3333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imes New Roman"/>
                <a:ea typeface="Times New Roman"/>
              </a:rPr>
              <a:t>● </a:t>
            </a:r>
            <a:r>
              <a:rPr b="0" lang="hr-HR" sz="1800" spc="-1" strike="noStrike">
                <a:solidFill>
                  <a:srgbClr val="333399"/>
                </a:solidFill>
                <a:latin typeface="Arial"/>
              </a:rPr>
              <a:t>nove i stare odredbe Općega dijela kaznenoga zakona koje uređuju pretpostavke kažnjivosti i odredbe o sankcijama;</a:t>
            </a:r>
            <a:endParaRPr b="0" lang="en-US" sz="1800" spc="-1" strike="noStrike">
              <a:solidFill>
                <a:srgbClr val="333399"/>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imes New Roman"/>
                <a:ea typeface="Times New Roman"/>
              </a:rPr>
              <a:t>●</a:t>
            </a:r>
            <a:r>
              <a:rPr b="0" lang="hr-HR" sz="1800" spc="-1" strike="noStrike">
                <a:solidFill>
                  <a:srgbClr val="333399"/>
                </a:solidFill>
                <a:latin typeface="Arial"/>
              </a:rPr>
              <a:t> </a:t>
            </a:r>
            <a:r>
              <a:rPr b="0" lang="hr-HR" sz="1800" spc="-1" strike="noStrike">
                <a:solidFill>
                  <a:srgbClr val="333399"/>
                </a:solidFill>
                <a:latin typeface="Arial"/>
              </a:rPr>
              <a:t>konkretne odredbe Posebnoga dijela KZ/11  s  KZ/97 za svako kazneno djelo za koje se provodi postupak, a osobito odredbe o sankcijama.</a:t>
            </a:r>
            <a:endParaRPr b="0" lang="en-US" sz="1800" spc="-1" strike="noStrike">
              <a:solidFill>
                <a:srgbClr val="33339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16"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7"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8"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0108-7B41-4C01-AE94-34D01EBBEECB}"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zervirano mjesto datuma 1"/>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657F-9228-4090-ABD1-606CE986FA49}" type="datetime">
              <a:rPr b="0" lang="hr-HR" sz="1200" spc="-1" strike="noStrike">
                <a:solidFill>
                  <a:srgbClr val="000000"/>
                </a:solidFill>
                <a:latin typeface="Tahoma"/>
              </a:rPr>
              <a:t>29.07.26</a:t>
            </a:fld>
            <a:endParaRPr b="0" lang="en-US" sz="1200" spc="-1" strike="noStrike">
              <a:solidFill>
                <a:srgbClr val="000000"/>
              </a:solidFill>
              <a:latin typeface="Tahoma"/>
            </a:endParaRPr>
          </a:p>
        </p:txBody>
      </p:sp>
      <p:sp>
        <p:nvSpPr>
          <p:cNvPr id="520" name="Rezervirano mjesto podnožja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Tahoma"/>
              </a:rPr>
              <a:t>Ana Garačić sutkinja Vrhovnog suda Republike Hrvatske</a:t>
            </a:r>
            <a:endParaRPr b="0" lang="en-US" sz="1200" spc="-1" strike="noStrike">
              <a:solidFill>
                <a:srgbClr val="000000"/>
              </a:solidFill>
              <a:latin typeface="Tahoma"/>
            </a:endParaRPr>
          </a:p>
        </p:txBody>
      </p:sp>
      <p:sp>
        <p:nvSpPr>
          <p:cNvPr id="521" name="Rezervirano mjesto broja slajda 3"/>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9A0C-F771-4EDB-A27C-069C3CABD894}" type="slidenum">
              <a:rPr b="0" lang="hr-HR" sz="1200" spc="-1" strike="noStrike">
                <a:solidFill>
                  <a:srgbClr val="000000"/>
                </a:solidFill>
                <a:latin typeface="Tahoma"/>
              </a:rPr>
              <a:t>&lt;number&gt;</a:t>
            </a:fld>
            <a:endParaRPr b="0" lang="en-US" sz="1200" spc="-1" strike="noStrike">
              <a:solidFill>
                <a:srgbClr val="000000"/>
              </a:solidFill>
              <a:latin typeface="Tahoma"/>
            </a:endParaRPr>
          </a:p>
        </p:txBody>
      </p:sp>
      <p:sp>
        <p:nvSpPr>
          <p:cNvPr id="522" name="PlaceHolder 1"/>
          <p:cNvSpPr>
            <a:spLocks noGrp="1"/>
          </p:cNvSpPr>
          <p:nvPr>
            <p:ph type="title"/>
          </p:nvPr>
        </p:nvSpPr>
        <p:spPr>
          <a:xfrm>
            <a:off x="736560" y="909720"/>
            <a:ext cx="8407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0066"/>
                </a:solidFill>
                <a:latin typeface="Arial"/>
              </a:rPr>
              <a:t>Primjena blažega zakona</a:t>
            </a:r>
            <a:endParaRPr b="1" lang="en-US" sz="2800" spc="-1" strike="noStrike">
              <a:solidFill>
                <a:srgbClr val="ff0066"/>
              </a:solidFill>
              <a:latin typeface="Arial"/>
            </a:endParaRPr>
          </a:p>
        </p:txBody>
      </p:sp>
      <p:sp>
        <p:nvSpPr>
          <p:cNvPr id="523" name=""/>
          <p:cNvSpPr txBox="1"/>
          <p:nvPr/>
        </p:nvSpPr>
        <p:spPr>
          <a:xfrm>
            <a:off x="457200" y="1814400"/>
            <a:ext cx="8229600" cy="4402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Arial"/>
              </a:rPr>
              <a:t>Načelo primjene blažeg zakona i vremensko važenje kaznenog zakonodavstva</a:t>
            </a:r>
            <a:endParaRPr b="0" lang="en-US" sz="20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333399"/>
                </a:solidFill>
                <a:latin typeface="Arial"/>
              </a:rPr>
              <a:t>Odredbe o obveznoj primjeni blažega zakona iz ovoga članka uvijek se moraju primjenjivati, međutim i tu imamo izuzetke tako da se odredba iz članka 3. KZ o obveznoj primjeni blažeg zakona neće primijenit:</a:t>
            </a:r>
            <a:endParaRPr b="0" lang="en-US" sz="2400" spc="-1" strike="noStrike">
              <a:solidFill>
                <a:srgbClr val="333399"/>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4" name="Rezervirano mjesto datuma 3"/>
          <p:cNvSpPr/>
          <p:nvPr/>
        </p:nvSpPr>
        <p:spPr>
          <a:xfrm>
            <a:off x="457200" y="6438960"/>
            <a:ext cx="2133720" cy="282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Rezervirano mjesto podnožja 4"/>
          <p:cNvSpPr/>
          <p:nvPr/>
        </p:nvSpPr>
        <p:spPr>
          <a:xfrm>
            <a:off x="3137040" y="5978520"/>
            <a:ext cx="289548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Rezervirano mjesto broja slajda 5"/>
          <p:cNvSpPr/>
          <p:nvPr/>
        </p:nvSpPr>
        <p:spPr>
          <a:xfrm>
            <a:off x="6553080" y="6400800"/>
            <a:ext cx="2133720" cy="320760"/>
          </a:xfrm>
          <a:prstGeom prst="rect">
            <a:avLst/>
          </a:prstGeom>
          <a:noFill/>
          <a:ln w="0">
            <a:noFill/>
          </a:ln>
        </p:spPr>
        <p:style>
          <a:lnRef idx="0"/>
          <a:fillRef idx="0"/>
          <a:effectRef idx="0"/>
          <a:fontRef idx="minor"/>
        </p:style>
        <p:txBody>
          <a:bodyPr lIns="90000" rIns="90000" tIns="46800" bIns="46800" anchor="t">
            <a:normAutofit fontScale="93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90A8-82A5-4B54-AB8E-CEF550E9DB37}" type="slidenum">
              <a:rPr b="0" lang="hr-HR" sz="1400" spc="-1" strike="noStrike">
                <a:solidFill>
                  <a:srgbClr val="808080"/>
                </a:solidFill>
                <a:latin typeface="Tahoma"/>
              </a:rPr>
              <a:t>&lt;number&gt;</a:t>
            </a:fld>
            <a:endParaRPr b="0" lang="en-US" sz="1400" spc="-1" strike="noStrike">
              <a:solidFill>
                <a:srgbClr val="000000"/>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3T20:16:31Z</dcterms:created>
  <dc:creator>Vrhovni sud Republike Hrvatske</dc:creator>
  <dc:description/>
  <dc:language>en-US</dc:language>
  <cp:lastModifiedBy>Garačić, Ana</cp:lastModifiedBy>
  <cp:lastPrinted>2018-09-13T12:56:09Z</cp:lastPrinted>
  <dcterms:modified xsi:type="dcterms:W3CDTF">2018-09-17T10:28:52Z</dcterms:modified>
  <cp:revision>690</cp:revision>
  <dc:subject/>
  <dc:title>hynsjntsnj</dc:title>
</cp:coreProperties>
</file>